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0F9D-31B2-4EB3-BADB-EE1274B74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2C5F-11E1-4F44-B8D9-EAFF6C9E3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6BBF-35FB-4E6D-95A4-AD37C7437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0CDD-F64D-4AD5-A966-C4F1BF44F4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9452-21DB-4673-ACE9-4269F92255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1B70-4229-41F2-869B-4B4A2DD2B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7AB1-812F-42DB-92AC-575239279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C107-8EF2-434B-B928-008C123F4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BB55E-1869-496F-B9BC-FDE19A989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13E1-C386-4275-8979-DE3B7B396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5400-DFB2-44C3-BCC8-F7B5FA939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5D4C-AEBB-480E-BD37-885CD6133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09C458-9BA5-40B8-A019-E6479A829B1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hallenge: Approximation Program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2"/>
          <p:cNvSpPr/>
          <p:nvPr/>
        </p:nvSpPr>
        <p:spPr>
          <a:xfrm>
            <a:off x="839160" y="1746720"/>
            <a:ext cx="3979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umber from us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86360" y="2381760"/>
            <a:ext cx="1023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it approximately equal to an important number?  (pi or zero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070640" y="3424680"/>
            <a:ext cx="5040000" cy="11991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number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ose to zero? 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ose to pi?   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73160" y="5456520"/>
            <a:ext cx="5771520" cy="11991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number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0.00000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ose to zero? 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ose to pi?   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1068840" y="7488720"/>
            <a:ext cx="4491360" cy="11991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number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ose to zero? 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ose to pi?   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7604640" y="4226400"/>
            <a:ext cx="5414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is error between 4 and 8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 algn="ctr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0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 algn="ctr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0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AutoShape 8"/>
          <p:cNvSpPr/>
          <p:nvPr/>
        </p:nvSpPr>
        <p:spPr>
          <a:xfrm>
            <a:off x="10166400" y="5014800"/>
            <a:ext cx="788760" cy="11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6" y="0"/>
                </a:moveTo>
                <a:cubicBezTo>
                  <a:pt x="479" y="0"/>
                  <a:pt x="0" y="319"/>
                  <a:pt x="0" y="715"/>
                </a:cubicBezTo>
                <a:lnTo>
                  <a:pt x="0" y="7239"/>
                </a:lnTo>
                <a:cubicBezTo>
                  <a:pt x="0" y="7635"/>
                  <a:pt x="479" y="7954"/>
                  <a:pt x="1076" y="7954"/>
                </a:cubicBezTo>
                <a:lnTo>
                  <a:pt x="8899" y="7954"/>
                </a:lnTo>
                <a:lnTo>
                  <a:pt x="11061" y="21600"/>
                </a:lnTo>
                <a:lnTo>
                  <a:pt x="13223" y="7954"/>
                </a:lnTo>
                <a:lnTo>
                  <a:pt x="20513" y="7954"/>
                </a:lnTo>
                <a:cubicBezTo>
                  <a:pt x="21110" y="7954"/>
                  <a:pt x="21600" y="7635"/>
                  <a:pt x="21600" y="7239"/>
                </a:cubicBezTo>
                <a:lnTo>
                  <a:pt x="21600" y="715"/>
                </a:lnTo>
                <a:cubicBezTo>
                  <a:pt x="21600" y="319"/>
                  <a:pt x="21110" y="0"/>
                  <a:pt x="20513" y="0"/>
                </a:cubicBezTo>
                <a:lnTo>
                  <a:pt x="107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9965160" y="6243480"/>
            <a:ext cx="1393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bs(8 - 4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9268920" y="6760800"/>
            <a:ext cx="278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x(abs(4), abs(8)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9429840" y="6735600"/>
            <a:ext cx="246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02Z</dcterms:modified>
  <cp:revision>46</cp:revision>
  <dc:subject/>
  <dc:title>[301] Creating Functions</dc:title>
</cp:coreProperties>
</file>