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CF05-3F01-4AE5-99B9-2B2A7CFF8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B678-1A5C-465A-96DD-C228402A6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4269-F8A7-47FA-8DC6-6AE4B3A82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A19A-4383-4F78-B971-AA5C78EAF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7049-70CF-4EE2-8A2F-02944C1F3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9BE2-5193-4F75-AA4F-EF2EF3D55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161F-7C71-4113-B04C-306379BC2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9D39-DCE3-4250-A915-46CD0C09E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045F-2C0B-41A4-8D0A-723C6338F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CF6C-83EB-4147-A211-902C7AB0A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E70F-FC8C-4A6A-9907-D32CC4624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C44C-6856-4E97-8DE9-FEAE3006B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9B6248-E8F4-4F8A-87AD-1F72D4C4853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68264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33638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739880" y="8375400"/>
            <a:ext cx="1019988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101998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11T20:36:21Z</dcterms:modified>
  <cp:revision>27</cp:revision>
  <dc:subject/>
  <dc:title>[220] Iteration 2</dc:title>
</cp:coreProperties>
</file>