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298F3-5FCD-4A56-BDA8-D31404D912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74BFED8A-CC73-4817-AB79-8AC8512BF3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80B64E77-2CF2-4E87-B0DE-07C495A221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88B6FFE5-63AA-43A5-8250-FF8BB68C24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E9A4A6C-357E-465E-80B3-01076E8F9E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E615CD1B-F50B-4B89-BF00-B70F316E80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DF5B058-4B24-40ED-801C-F40EA11AD8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5155C7C4-D109-4D41-A13C-FE3D8C7624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1E4FBF26-ADA8-452A-9CB8-78F87F923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62A16F2F-C4F2-4E24-AD38-F602FBB2A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4DC406B5-C6F1-4268-A4E7-7E0DFD87BB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465AC83F-A76D-4891-80C2-D136BDDBA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7C5248A-4AE4-4567-8E74-55C393F544C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C0C16DD-FB74-41C5-9F6B-F63D88041002}"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7CFA00C-64C4-4DC7-939F-F72563E238A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5FFD189-407A-4EFB-84C1-F7B7F6BB671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0843723-3A25-4364-9BC3-8A8FF33194E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9D9CD02-9C92-4555-B68E-C797B802176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89E844D-8EA4-42C6-B72E-A37F3DD8E1E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57F40C6-B8B9-48D3-9B60-C78F68DC549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2B5A2F3-841A-452C-B70C-C270EF840B7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0AAA124-CB52-4650-9586-AE4E8B76140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4409270-EF27-4685-A8A2-9E42686A6FA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5A42FFC-554E-486C-A5E2-B1626CF49D9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164689C-E80A-4800-8692-7973D2884E7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B1078D2-00A1-4DF0-87B2-DA502D6C008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09C420F-7CFE-443A-AA04-2BA5728459A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FE202E3-32D4-4FA4-BBB4-BA85AA6BE00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57F0C1E-E111-4F45-BE01-8608C16621D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Ashwin Maran</cp:lastModifiedBy>
  <dcterms:modified xsi:type="dcterms:W3CDTF">2024-02-11T20:30:48Z</dcterms:modified>
  <cp:revision>29</cp:revision>
  <dc:subject/>
  <dc:title>[301] Refactoring Conditionals</dc:title>
</cp:coreProperties>
</file>