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5F03-7C78-4FC9-BB2A-121BFA00A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B029-1FC0-4589-AB29-5622AE6B3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8EFE-F9B6-4F2C-A605-54496B34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C1FA-BE63-42C7-8566-5280FFA51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ED2F-F5E3-4A04-B10B-F2F30E7C7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75E5-75D1-4528-8588-605198035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F16-4485-4E25-B9AD-0FA084E81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58C1-8C08-470D-AB90-36AB7C803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D4E0-6324-4CA5-AED1-505F67B85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430A-C858-45FF-AC84-911968D5A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7B2F-B3E9-4FD2-8F8F-14DAB284B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65AA-FECE-47DE-A8E3-06E328BEC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DBC9A8-B275-41FA-A29E-889E91BF63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6070680"/>
            <a:ext cx="3052800" cy="62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680120" y="68133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0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3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Ashwin Maran</cp:lastModifiedBy>
  <dcterms:modified xsi:type="dcterms:W3CDTF">2024-01-28T17:43:54Z</dcterms:modified>
  <cp:revision>42</cp:revision>
  <dc:subject/>
  <dc:title>[301] Variables and Expressions</dc:title>
</cp:coreProperties>
</file>