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32EA9-80B9-443A-A526-2CA38ECEDD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88B26-4411-444D-A6AF-C7C012E8A2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A2FD6-E307-4E8A-B603-137430DB15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CC281-4E2D-4CC3-92BB-D98D8134933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7F46A-57B9-49D7-961C-F0860D1BB55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17ABA-4CDA-499F-B7BD-49B181BADE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A9C29-9A43-45AA-AE83-A7173B61C7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F19EB-CBCE-47F4-ACC0-44C7B6B700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87682-CBB9-4AE5-B4F0-66F93F21BB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63F1A-A471-49BE-996C-8104170C8E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A01A9-CD20-41F3-AC68-F810D08692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0F73D-EBEA-442B-9324-7EB863298B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4A09DD4-5218-462F-BE2A-D4B9101DB0C0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201924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Function Scope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625760" y="5540400"/>
            <a:ext cx="104644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737280" y="8016120"/>
            <a:ext cx="6243840" cy="10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Parts of Chapter 3 of Think Python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3E7AA79-E929-4F3C-91C5-4D7EDFA04FBE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8" name="Picture 7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79" name="Text Box 3"/>
          <p:cNvSpPr/>
          <p:nvPr/>
        </p:nvSpPr>
        <p:spPr>
          <a:xfrm>
            <a:off x="5582880" y="4871520"/>
            <a:ext cx="623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s220 and cs319 will be in the global fr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F5311EB-2B20-4AD8-AE20-BDDFDB78D66F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2" name="Picture 14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5582880" y="4871520"/>
            <a:ext cx="623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s220 and cs319 will be in the global fr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9026280" y="1900800"/>
            <a:ext cx="40629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wo frames will exist dur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e time we’re execut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rint_twi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Line 5"/>
          <p:cNvSpPr/>
          <p:nvPr/>
        </p:nvSpPr>
        <p:spPr>
          <a:xfrm flipH="1" flipV="1">
            <a:off x="7691400" y="1916280"/>
            <a:ext cx="1427040" cy="33624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Line 6"/>
          <p:cNvSpPr/>
          <p:nvPr/>
        </p:nvSpPr>
        <p:spPr>
          <a:xfrm flipH="1">
            <a:off x="7800480" y="2878200"/>
            <a:ext cx="1427400" cy="64620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387130C-0B41-4009-82FE-56F182D8B135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9" name="Picture 15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90" name="Text Box 3"/>
          <p:cNvSpPr/>
          <p:nvPr/>
        </p:nvSpPr>
        <p:spPr>
          <a:xfrm>
            <a:off x="5582880" y="4871520"/>
            <a:ext cx="623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s220 and cs319 will be in the global fr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9026280" y="1900800"/>
            <a:ext cx="40629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wo frames will exist dur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e time we’re execut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rint_twi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Line 6"/>
          <p:cNvSpPr/>
          <p:nvPr/>
        </p:nvSpPr>
        <p:spPr>
          <a:xfrm flipH="1">
            <a:off x="7800480" y="2878200"/>
            <a:ext cx="1427400" cy="64620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312480" y="6385680"/>
            <a:ext cx="50886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you don’t generally see or interac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th frames when programming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ut it’s an important mental mode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Line 5"/>
          <p:cNvSpPr/>
          <p:nvPr/>
        </p:nvSpPr>
        <p:spPr>
          <a:xfrm flipH="1" flipV="1">
            <a:off x="7691400" y="1916280"/>
            <a:ext cx="1427040" cy="33624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475DF7F-CAA8-4676-80A6-182C077D8432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97" name="Picture 9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98" name="Text Box 4"/>
          <p:cNvSpPr/>
          <p:nvPr/>
        </p:nvSpPr>
        <p:spPr>
          <a:xfrm>
            <a:off x="6920280" y="5473080"/>
            <a:ext cx="5344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is code can acces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line1, line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7899480" y="2915280"/>
            <a:ext cx="5130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 acces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cs220, cs319, text1, text2, combined_tex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5562000" y="1920960"/>
            <a:ext cx="5068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 acces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cs220, cs319, tex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3477240" y="7349040"/>
            <a:ext cx="60411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call the variables that can currently b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ccessed “in scope” and variables th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not be “out of scop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DEB10A1-ECA3-434C-8799-BCC8006AFE83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0966694-E430-4C41-AE13-773F95DDC8F6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05" name="Picture 11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106" name="Line 6"/>
          <p:cNvSpPr/>
          <p:nvPr/>
        </p:nvSpPr>
        <p:spPr>
          <a:xfrm flipV="1">
            <a:off x="6486480" y="3581280"/>
            <a:ext cx="666720" cy="2068560"/>
          </a:xfrm>
          <a:prstGeom prst="line">
            <a:avLst/>
          </a:prstGeom>
          <a:ln w="507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Line 7"/>
          <p:cNvSpPr/>
          <p:nvPr/>
        </p:nvSpPr>
        <p:spPr>
          <a:xfrm flipV="1">
            <a:off x="5164200" y="3581280"/>
            <a:ext cx="666720" cy="2068560"/>
          </a:xfrm>
          <a:prstGeom prst="line">
            <a:avLst/>
          </a:prstGeom>
          <a:ln w="507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6831720" y="4536360"/>
            <a:ext cx="5489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rguments are copied to parameter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is is called “pass by valu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22440" y="254160"/>
            <a:ext cx="1258560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 (PythonTutor)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0" name="Text Box 11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CBFBFEA-E696-42EF-AF24-F07D9F07983C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11" name="Picture 1" descr=""/>
          <p:cNvPicPr/>
          <p:nvPr/>
        </p:nvPicPr>
        <p:blipFill>
          <a:blip r:embed="rId1"/>
          <a:stretch/>
        </p:blipFill>
        <p:spPr>
          <a:xfrm>
            <a:off x="1589040" y="1752480"/>
            <a:ext cx="9825120" cy="661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376844F-4BE7-4B83-B6AE-1B75F69F5D1A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4F8693E-F054-4D0F-8E6D-6C2F758C6008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Box 12"/>
          <p:cNvSpPr/>
          <p:nvPr/>
        </p:nvSpPr>
        <p:spPr>
          <a:xfrm>
            <a:off x="2616120" y="1828800"/>
            <a:ext cx="650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print_twice(text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text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text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concatenate_str(text1, text2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ombined_text = text1 + text2 # concatena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_twice(combined_text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s220 = "Hello CS220"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s319 = " / CS319"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oncatenate_str(cs220, cs319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3687120" y="6954120"/>
            <a:ext cx="6028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Try this example yourself using PythonTuto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AutoShape 3"/>
          <p:cNvSpPr/>
          <p:nvPr/>
        </p:nvSpPr>
        <p:spPr>
          <a:xfrm>
            <a:off x="5479920" y="335268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AAE6714-4010-466E-AE5F-B450564D898B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1512720" y="6544080"/>
            <a:ext cx="9970200" cy="74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ee220c"/>
                </a:solidFill>
                <a:latin typeface="Gill Sans"/>
              </a:rPr>
              <a:t>Let's do some examples in PythonTutor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2950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set_x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0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405000" y="6254640"/>
            <a:ext cx="7862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1: functions don't execute unless they're call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D071E96-5EFD-445A-96A4-332F804829E0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2950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set_x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0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et_x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286560" y="6254640"/>
            <a:ext cx="9526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2: variables created in a function die after function return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C3B2E8B-5A6B-4E90-885B-0B03B2BF2DDE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arning Objectives Toda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xplain rules of scope of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local variables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n a function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en are they creat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en are they destroy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at parts of a program have access to them? (frames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Understand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can they be used and modified within a function?(global keyword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ere are they stored? (global fram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at parts of a program have access to them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can they be mis-represented as local variab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xplain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ass by value”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4351BBB-5BC2-44BD-99B0-ABFB38A21AB7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9016920" y="5205240"/>
            <a:ext cx="3784680" cy="13338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46" name="AutoShape 5"/>
          <p:cNvSpPr/>
          <p:nvPr/>
        </p:nvSpPr>
        <p:spPr>
          <a:xfrm rot="10800000">
            <a:off x="11150640" y="5913000"/>
            <a:ext cx="745920" cy="7462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8592480" y="6960600"/>
            <a:ext cx="4454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don't memorize the examples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learn the rules of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8464320" y="8078400"/>
            <a:ext cx="47124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sample question: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why did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do this thing I didn't expec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at this specific line (ask us!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4589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count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+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unt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unt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unt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262080" y="6254640"/>
            <a:ext cx="9566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3: variables start fresh every time a function is called agai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CFCC6D3-2E20-4515-8C1F-26416EE4E4CE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4356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display_x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main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0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_x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ain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952560" y="5944680"/>
            <a:ext cx="114901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4: you can't see the variables of other function invocations, even those that call you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55D1490-444D-40DE-89A5-93D6BA0FC04B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AutoShape 3"/>
          <p:cNvSpPr/>
          <p:nvPr/>
        </p:nvSpPr>
        <p:spPr>
          <a:xfrm>
            <a:off x="5751360" y="4419720"/>
            <a:ext cx="1176480" cy="1176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2071781-71C3-438A-9B4B-5C71E307F24C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4916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 # global, outside any fun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952560" y="7210440"/>
            <a:ext cx="105966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5: you can generally just </a:t>
            </a:r>
            <a:r>
              <a:rPr b="1" lang="en-US" sz="2400" spc="-1" strike="noStrike">
                <a:solidFill>
                  <a:srgbClr val="1db100"/>
                </a:solidFill>
                <a:latin typeface="Gill Sans"/>
              </a:rPr>
              <a:t>use</a:t>
            </a: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global variables inside a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43CB638-E269-40B8-9071-69927552122E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478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welcome!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greeting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952560" y="7210440"/>
            <a:ext cx="117871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6: if you do an assignment to a variable in a function, Python assumes you want it loc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AE86DF5-55B9-472A-91F3-C42DB5529F8B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543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greeting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welcome!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952560" y="7210440"/>
            <a:ext cx="114044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7: assignment to a variable should be before its use in a function, even if there'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</a:t>
            </a: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a global variable with the same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E947204-1AE3-448B-A51B-4A21E5EBA8F1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36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lobal ms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greeting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welcome!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952560" y="7210440"/>
            <a:ext cx="11404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8: use a global declaration to prevent Python from creating a</a:t>
            </a:r>
            <a:br>
              <a:rPr sz="2400"/>
            </a:b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 local variable when you want a global variabl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9F8C0C6-94AB-4E5E-B5E1-0FB1FD0B6703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AutoShape 3"/>
          <p:cNvSpPr/>
          <p:nvPr/>
        </p:nvSpPr>
        <p:spPr>
          <a:xfrm>
            <a:off x="6032520" y="545148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4DA0F9E-B045-45FD-81CB-FA4AD3A5B385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Argument Passing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36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'B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inside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val = 'A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val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(val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val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952560" y="7210440"/>
            <a:ext cx="11404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9: in Python, arguments are "passed by value", meaning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</a:t>
            </a: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reassignments to a parameter don't change the argument outsi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3484664-563F-497C-9296-B6BE03D705AC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Argument Passing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36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'A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'B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inside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952560" y="7210440"/>
            <a:ext cx="11404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10: it's irrelevant whether the argument (outside) and</a:t>
            </a:r>
            <a:br>
              <a:rPr sz="2400"/>
            </a:b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  parameter (inside) have the same variable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0C9C925-C0E6-4464-8ACF-E9C956D32AB8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127080" indent="-8892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AutoShape 3"/>
          <p:cNvSpPr/>
          <p:nvPr/>
        </p:nvSpPr>
        <p:spPr>
          <a:xfrm>
            <a:off x="3568680" y="151452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A1B344C-DD72-4C9B-AA1E-5843389E9684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 Summar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1" name="Text Box 2"/>
          <p:cNvSpPr/>
          <p:nvPr/>
        </p:nvSpPr>
        <p:spPr>
          <a:xfrm>
            <a:off x="888840" y="1393920"/>
            <a:ext cx="11641320" cy="78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1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functions don't execute unless they're called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2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variables created in a function die after function returns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3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variables start fresh every time a function is called again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4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you can't see the variables of other function invocations, even those that call you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5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you can generally just </a:t>
            </a: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use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global variables inside a function 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6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if you do an assignment to a variable in a function, Python assumes you want it local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7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assignment to a variable should be before its use in a function, even if there's a a global variable with the same name 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8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use a global declaration to prevent Python from creating a local variable when you want a global variable 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cb297b"/>
                </a:solidFill>
                <a:latin typeface="Gill Sans"/>
              </a:rPr>
              <a:t>Lesson 9:</a:t>
            </a:r>
            <a:r>
              <a:rPr b="0" lang="en-US" sz="2100" spc="-1" strike="noStrike">
                <a:solidFill>
                  <a:srgbClr val="cb297b"/>
                </a:solidFill>
                <a:latin typeface="Gill Sans"/>
              </a:rPr>
              <a:t> in Python, arguments are "passed by value", meaning reassignments to a parameter don't change the argument outside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cb297b"/>
                </a:solidFill>
                <a:latin typeface="Gill Sans"/>
              </a:rPr>
              <a:t>Lesson 10:</a:t>
            </a:r>
            <a:r>
              <a:rPr b="0" lang="en-US" sz="2100" spc="-1" strike="noStrike">
                <a:solidFill>
                  <a:srgbClr val="cb297b"/>
                </a:solidFill>
                <a:latin typeface="Gill Sans"/>
              </a:rPr>
              <a:t> it's irrelevant whether the argument (outside) and parameter (inside) have the same variable name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D9B9D9B-A726-480E-A3CB-749FFB6666E8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Text Box 4"/>
          <p:cNvSpPr/>
          <p:nvPr/>
        </p:nvSpPr>
        <p:spPr>
          <a:xfrm rot="16200000">
            <a:off x="-81720" y="2406600"/>
            <a:ext cx="897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Loc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Text Box 5"/>
          <p:cNvSpPr/>
          <p:nvPr/>
        </p:nvSpPr>
        <p:spPr>
          <a:xfrm rot="16200000">
            <a:off x="-170640" y="5175360"/>
            <a:ext cx="1076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lob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Text Box 6"/>
          <p:cNvSpPr/>
          <p:nvPr/>
        </p:nvSpPr>
        <p:spPr>
          <a:xfrm rot="16200000">
            <a:off x="-573840" y="7969320"/>
            <a:ext cx="18824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ntex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284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ften (in life and programming), the same name can mean different things in different contex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amp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uman name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Ashwin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o is in the room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eet addres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1210 West Dayton Stree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at cit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le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public_tests.py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(which director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9ECB671-276F-4E00-90E9-CF44EE2925B1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ntex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ften (in life and programming), the same name can mean different things in different contex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amp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uman name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Ashwin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o is in the room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eet addres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1210 West Dayton Stree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at cit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le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public_tests.py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(which director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ur code often have different variables with the same na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eep variable names organiz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now what a variable name is referring to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9F68F2C-6748-4F6A-9BEC-6BEB0032FC3A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ntex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ften (in life and programming), the same name can mean different things in different contex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amp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uman name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Ashwin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o is in the room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eet addres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1210 West Dayton Stree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at cit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le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public_tests.py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(which director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ur code often have different variables with the same na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eep variable names organiz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now what a variable name is referring to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8516160" y="5354280"/>
            <a:ext cx="4038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th groups called “frames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10137240" y="5806440"/>
            <a:ext cx="2409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’ll learn so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rules for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B113006-7964-4C2A-9027-9925BAF77EAA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AutoShape 3"/>
          <p:cNvSpPr/>
          <p:nvPr/>
        </p:nvSpPr>
        <p:spPr>
          <a:xfrm>
            <a:off x="2603520" y="231444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A2AB797-D288-4E43-92C1-7D61EDC7BC94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Fram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very time a function is invoked (i.e., called), the invocation gets a new “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fram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” for hold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parameters also exist in a fram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Global fra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re is always one global frame that all functions can acces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hen a variable name is used, Python looks two places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function invocation’s fram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global fram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Oval 3"/>
          <p:cNvSpPr/>
          <p:nvPr/>
        </p:nvSpPr>
        <p:spPr>
          <a:xfrm>
            <a:off x="1125360" y="5448240"/>
            <a:ext cx="75600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Oval 4"/>
          <p:cNvSpPr/>
          <p:nvPr/>
        </p:nvSpPr>
        <p:spPr>
          <a:xfrm>
            <a:off x="1125360" y="6342120"/>
            <a:ext cx="756000" cy="75564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DB3B912-3B23-4D62-8096-2FC968BEAE53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C157677-AAD6-4BD4-8765-28D1030CDC7D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Ashwin Maran</cp:lastModifiedBy>
  <dcterms:modified xsi:type="dcterms:W3CDTF">2024-02-04T18:14:17Z</dcterms:modified>
  <cp:revision>55</cp:revision>
  <dc:subject/>
  <dc:title>[220] Function Scope</dc:title>
</cp:coreProperties>
</file>