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374B-5E2E-4956-83E5-886FDD93B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8C67-E6B7-40F2-A9C4-A48B146FF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14C5-130F-427C-9909-ACFB3432A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157A-5751-4704-B777-8BBD22B90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C534-11AA-4395-8B17-DD2EE6558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9A40-7CB6-4FB8-9D47-D75D5367F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3925-CDA4-47FF-83B9-7425E95C9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6EE8-3A09-457C-BB28-C4768AE55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468E-670A-40FA-8D51-3C01169CF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95F4-B931-453D-9C8A-4E5648704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487A-3264-4646-A906-F5A1EC4D4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E74F-3EE9-4F85-8868-F0C52B8E9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94B0FF-AA8D-4137-B367-2EF87157AF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86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76240" y="5424480"/>
            <a:ext cx="688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</a:t>
            </a:r>
            <a:r>
              <a:rPr b="0" lang="en-US" sz="1800" spc="-1" strike="noStrike">
                <a:solidFill>
                  <a:srgbClr val="34b91a"/>
                </a:solidFill>
                <a:latin typeface="Menlo"/>
              </a:rPr>
              <a:t>hello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49240" y="7331040"/>
            <a:ext cx="707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877080" y="585144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523280" y="5664600"/>
            <a:ext cx="3609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668196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237080" y="800496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297480" y="4681440"/>
            <a:ext cx="1149480" cy="7984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446960" y="4219920"/>
            <a:ext cx="22892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25480" indent="-2667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work within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</a:t>
            </a:r>
            <a:r>
              <a:rPr b="1" lang="en-US" sz="2800" spc="-1" strike="noStrike">
                <a:solidFill>
                  <a:srgbClr val="ff0000"/>
                </a:solidFill>
                <a:latin typeface="Gill Sans"/>
              </a:rPr>
              <a:t>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2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66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09640" y="2310480"/>
            <a:ext cx="1233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PS C:\Uses\ashwinmaran\cs220\03_Operators&gt; 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11.7 | packaged by Anaconda, Inc. | (main, Dec 15 2023, 18:05:47) [MSC v.1916 64 bit (AMD64)] on win3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376200" y="33386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8920" y="38570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hwin Maran</cp:lastModifiedBy>
  <dcterms:modified xsi:type="dcterms:W3CDTF">2024-01-28T17:31:30Z</dcterms:modified>
  <cp:revision>66</cp:revision>
  <dc:subject/>
  <dc:title>[220] Programming</dc:title>
</cp:coreProperties>
</file>