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CC9B-89E2-4FFC-8989-A4F6A0D6F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FFEE-DE71-4953-A320-F760967CB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E372-AB72-4D51-8F3E-A94F4D021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25F0-BCB5-497A-BC52-82891E322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D1A2-1495-4140-92F8-C5802D40E0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A070-7FC4-446F-983D-FF388894A9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24E2-F6B0-44AD-90C4-5560B50E4D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991F-34D4-4478-A9ED-7FDAEDF42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E683-0EED-46A3-B614-EEA0392858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9A04-173E-454D-A425-F7191B1BBA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1C5D-5B91-4A22-A390-717CDC3D0E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1236-CAEB-4663-9A3D-194602D9F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394D-7040-45A9-B8B5-C702F0B352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B080-B6BE-488C-9819-412CBD0DC9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3A6D-E064-4499-977B-B49B257E6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B13C-0D62-45B6-B51C-8524ADD774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F8F0-6B23-4F44-B78A-BCA153D974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A87F-4E50-4623-88F6-ECB3D8236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D4A7-AA38-45FB-B90F-94A582FEF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5685-82FB-4F27-B4D6-AF745E9F3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7009-FA5F-43E9-ADD2-5787F0F1F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27CF-68F0-4512-B114-33C657912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7DD3-935A-4ED5-A81F-3E596AE4D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8FEA-59C1-442A-A5AF-6BF31868E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2309BC-D8A7-4FA3-91F5-5F79DF758A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888509-1CCB-4EB4-A39F-CFF5687E1F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1F6144-7102-4F88-AC3A-FD678B34C1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33A2FB-7DAA-4B85-BA6F-F0092D84B8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5FEBDE-82FA-44F3-B3BE-1702B7A536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BB597F-18E2-46A9-A920-56794C8B53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40CDA6-0AD5-431D-8112-5E1FC2F92C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391040-19B6-4952-966B-AEE6F2DE71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11T20:32:30Z</dcterms:modified>
  <cp:revision>44</cp:revision>
  <dc:subject/>
  <dc:title>[220] Iteration</dc:title>
</cp:coreProperties>
</file>