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F336-8B45-4134-9CDE-93E234814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86CC-9C1C-4F59-9667-C5DB07A78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791C-1135-46A1-A7AF-CFF466042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F7A4-5E5C-44FC-B8AC-81AE31C76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69C6-47B6-4067-89F3-36CD67D3F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31FA-0199-4EB6-B81F-A54A9A78F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9CF8-0E6F-4263-8519-B4D6915C4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E3B3-240B-4176-9DFC-F2B311975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DA8C-383E-46AB-9A33-7831E89F5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25DD-D81E-4EE9-98EE-41B99A0C7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3C87-BFCD-49A1-A3E8-B2B3392E5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F3FD-2E9B-44F7-8A97-A9039B8FB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4F7B2C-1944-4A5A-B725-FDF5BF0643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1-28T17:45:05Z</dcterms:modified>
  <cp:revision>32</cp:revision>
  <dc:subject/>
  <dc:title>[301] Using Functions</dc:title>
</cp:coreProperties>
</file>