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F2DA-7730-41DE-A376-B1628A493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EBFB-CD65-4652-A2D8-DB8B74779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F287-784C-4047-A982-755124278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4C36-E074-4843-9D97-CCEC00584B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5A02-BCB6-4916-A45E-7478E71833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1E01-FC25-4E16-8E39-6676AF8BA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49D3-841A-462B-8DB4-1AE7FF76E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79A3-EEA0-4240-B090-974899756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D365-A2A5-4AB2-BA5B-CE16C38A1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25CD-326D-4362-BBA5-6B5261FBE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D1C2-7965-492B-BA42-5E6863BCB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E5B5-A9F5-4FE2-8E82-4F60BE228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27E8CF-9B07-40EF-8023-C1599882885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1932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4684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3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49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0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2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6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7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8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1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1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6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7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1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2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3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6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2-04T18:20:30Z</dcterms:modified>
  <cp:revision>27</cp:revision>
  <dc:subject/>
  <dc:title>[220] Conditionals</dc:title>
</cp:coreProperties>
</file>