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1A45B-31BA-4624-8FE7-7F30748C8C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04187-A5FC-4674-83E9-30B5248C7C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FC815-D2A7-480A-8518-5615D1C7C9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87DC6-DD53-4DAD-AFC8-9750E41F24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F35F9-1255-4077-A4A3-2D8B19AF63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10F9A-A789-4FE5-A5B8-F19AD482FA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64202-4FCC-4D13-B1DA-C7169B7AC3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B1F36-936E-4C4A-B38F-5ABF989A63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C90FE-6D71-4DD3-951C-7EA6D8BFAE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42E49-0356-43E9-9484-3D69FCA111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EECA6-45D5-498F-AD0D-16036341F0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96CF2-E1E8-4D38-AC6E-58FE64A6F8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906D914-8F98-4BA5-8E8D-885B6FCCF32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7654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Us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78788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1 to 5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589400" y="8244720"/>
            <a:ext cx="2063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936960" y="3803760"/>
            <a:ext cx="195588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7316640" y="4756320"/>
            <a:ext cx="48132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854680" y="3727440"/>
            <a:ext cx="29052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8624880" y="3727440"/>
            <a:ext cx="48096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7658280" y="4756320"/>
            <a:ext cx="2901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8332920" y="4756320"/>
            <a:ext cx="2919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“hello”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x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6" name="AutoShape 2"/>
          <p:cNvSpPr/>
          <p:nvPr/>
        </p:nvSpPr>
        <p:spPr>
          <a:xfrm>
            <a:off x="7394400" y="2328840"/>
            <a:ext cx="1271880" cy="1276200"/>
          </a:xfrm>
          <a:custGeom>
            <a:avLst/>
            <a:gdLst/>
            <a:ahLst/>
            <a:rect l="l" t="t" r="r" b="b"/>
            <a:pathLst>
              <a:path w="21124" h="20638">
                <a:moveTo>
                  <a:pt x="25" y="20638"/>
                </a:moveTo>
                <a:cubicBezTo>
                  <a:pt x="-476" y="5881"/>
                  <a:pt x="6557" y="-962"/>
                  <a:pt x="21124" y="108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723160" y="2082600"/>
            <a:ext cx="178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result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5630760" y="5865840"/>
            <a:ext cx="1006560" cy="636480"/>
          </a:xfrm>
          <a:custGeom>
            <a:avLst/>
            <a:gdLst/>
            <a:ahLst/>
            <a:rect l="l" t="t" r="r" b="b"/>
            <a:pathLst>
              <a:path w="20156" h="21600">
                <a:moveTo>
                  <a:pt x="261" y="0"/>
                </a:moveTo>
                <a:cubicBezTo>
                  <a:pt x="-1444" y="11986"/>
                  <a:pt x="5188" y="19186"/>
                  <a:pt x="20156" y="2160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720120" y="6248160"/>
            <a:ext cx="2001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eturn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71800" y="3127320"/>
            <a:ext cx="9285120" cy="302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, “world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x = input(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59120" y="3975120"/>
            <a:ext cx="556272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otebook examp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w to call func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put/outpu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erminology: call / invoke, parameter, argument, keyword argument, return val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unction usage examp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int(), along with keyword arguments “end” and “sep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ype cast functions: int(), bool(), float(), str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sing functions from built-in modu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ound(), abs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eywords: import, 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ttribute operator: “.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elp: inspect a modu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003320" y="3149640"/>
            <a:ext cx="9529920" cy="201780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736680" y="4641480"/>
            <a:ext cx="354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Move Code” is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0"/>
          <p:cNvSpPr/>
          <p:nvPr/>
        </p:nvSpPr>
        <p:spPr>
          <a:xfrm>
            <a:off x="952560" y="2438280"/>
            <a:ext cx="10807560" cy="39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function definition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grouping of lines of code; a way for us to tell our program to run that entire group of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call / invoke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tatement in Python code that instructs the program to run all the lines of code in a function definition, and then come back afterward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parameter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riable that receives input to function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lue sent to a function (lines up with paramete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keyword 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argument explicitly tied to a paramet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return valu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function output sent back to calling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87120" y="91404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erminology / Vocabul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3911760" y="768600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4:31Z</dcterms:modified>
  <cp:revision>31</cp:revision>
  <dc:subject/>
  <dc:title>[301] Using Functions</dc:title>
</cp:coreProperties>
</file>