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1DE258-742D-42CB-891D-3DD2A01CA0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D8BA96-E9F2-4F2A-8C2F-A076986E31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FDC2E1-0729-40E4-AC95-E8DBD964E9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573697-D3D0-42D3-B7E9-F008D4D362F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CF2B05-0846-4E76-9FDF-FC70DA837AE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E49B99-1E2D-42D9-8343-97BB9E4C72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2D99A3-7987-4375-B875-BD7111947A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DC240A-0929-4423-BBE7-400B389FB5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53D0B5-030D-4A23-ACA5-559D5C7FFA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E775BB-5FBE-4CC7-AEFA-6943902E50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D68A1C-BEAE-43F0-91B7-3DE2DB9C6A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C26925-7028-4ABC-89E8-DCC5607142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 SemiBold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338880" y="9296280"/>
            <a:ext cx="317520" cy="33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3238AC2-BB9B-4CF2-9A1F-2752CF84CF5D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7232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88560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99240" indent="-4726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09520" y="2019240"/>
            <a:ext cx="1258416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"/>
                <a:ea typeface="Gill Sans"/>
              </a:rPr>
              <a:t>[220 / 319] Function Scope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0" name="Rectangle 2"/>
          <p:cNvSpPr/>
          <p:nvPr/>
        </p:nvSpPr>
        <p:spPr>
          <a:xfrm>
            <a:off x="1625760" y="5540400"/>
            <a:ext cx="1046448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rmAutofit fontScale="91000"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Department of Computer Sciences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University of Wisconsin-Madison 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Text Box 3"/>
          <p:cNvSpPr/>
          <p:nvPr/>
        </p:nvSpPr>
        <p:spPr>
          <a:xfrm>
            <a:off x="737280" y="8016120"/>
            <a:ext cx="6243840" cy="101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Readings: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Parts of Chapter 3 of Think Python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40A2E2F-5446-4ACF-B150-CAB186CE7CC5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78" name="Picture 7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  <p:sp>
        <p:nvSpPr>
          <p:cNvPr id="79" name="Text Box 3"/>
          <p:cNvSpPr/>
          <p:nvPr/>
        </p:nvSpPr>
        <p:spPr>
          <a:xfrm>
            <a:off x="5582880" y="4871520"/>
            <a:ext cx="6234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s220 and cs319 will be in the global fr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1" name="Text Box 7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8F17E6F-8550-4961-929C-E3A2EEA50CDC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82" name="Picture 14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  <p:sp>
        <p:nvSpPr>
          <p:cNvPr id="83" name="Text Box 3"/>
          <p:cNvSpPr/>
          <p:nvPr/>
        </p:nvSpPr>
        <p:spPr>
          <a:xfrm>
            <a:off x="5582880" y="4871520"/>
            <a:ext cx="6234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s220 and cs319 will be in the global fr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9026280" y="1900800"/>
            <a:ext cx="406296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wo frames will exist during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e time we’re executing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 print_twi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5" name="Line 5"/>
          <p:cNvSpPr/>
          <p:nvPr/>
        </p:nvSpPr>
        <p:spPr>
          <a:xfrm flipH="1" flipV="1">
            <a:off x="7691400" y="1916280"/>
            <a:ext cx="1427040" cy="336240"/>
          </a:xfrm>
          <a:prstGeom prst="line">
            <a:avLst/>
          </a:prstGeom>
          <a:ln w="12708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6" name="Line 6"/>
          <p:cNvSpPr/>
          <p:nvPr/>
        </p:nvSpPr>
        <p:spPr>
          <a:xfrm flipH="1">
            <a:off x="7800480" y="2878200"/>
            <a:ext cx="1427400" cy="646200"/>
          </a:xfrm>
          <a:prstGeom prst="line">
            <a:avLst/>
          </a:prstGeom>
          <a:ln w="12708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8" name="Text Box 8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13FBF6D-7C24-4B6E-8D69-A28DE4C18939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89" name="Picture 15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  <p:sp>
        <p:nvSpPr>
          <p:cNvPr id="90" name="Text Box 3"/>
          <p:cNvSpPr/>
          <p:nvPr/>
        </p:nvSpPr>
        <p:spPr>
          <a:xfrm>
            <a:off x="5582880" y="4871520"/>
            <a:ext cx="6234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s220 and cs319 will be in the global fr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9026280" y="1900800"/>
            <a:ext cx="406296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wo frames will exist during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e time we’re executing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 print_twi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Line 6"/>
          <p:cNvSpPr/>
          <p:nvPr/>
        </p:nvSpPr>
        <p:spPr>
          <a:xfrm flipH="1">
            <a:off x="7800480" y="2878200"/>
            <a:ext cx="1427400" cy="646200"/>
          </a:xfrm>
          <a:prstGeom prst="line">
            <a:avLst/>
          </a:prstGeom>
          <a:ln w="12708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Text Box 7"/>
          <p:cNvSpPr/>
          <p:nvPr/>
        </p:nvSpPr>
        <p:spPr>
          <a:xfrm>
            <a:off x="312480" y="6385680"/>
            <a:ext cx="508860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you don’t generally see or interac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ith frames when programming,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but it’s an important mental mode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4" name="Line 5"/>
          <p:cNvSpPr/>
          <p:nvPr/>
        </p:nvSpPr>
        <p:spPr>
          <a:xfrm flipH="1" flipV="1">
            <a:off x="7691400" y="1916280"/>
            <a:ext cx="1427040" cy="336240"/>
          </a:xfrm>
          <a:prstGeom prst="line">
            <a:avLst/>
          </a:prstGeom>
          <a:ln w="12708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1503BDB-1FBB-402A-8E19-F89E7296F209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97" name="Picture 9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  <p:sp>
        <p:nvSpPr>
          <p:cNvPr id="98" name="Text Box 4"/>
          <p:cNvSpPr/>
          <p:nvPr/>
        </p:nvSpPr>
        <p:spPr>
          <a:xfrm>
            <a:off x="6920280" y="5473080"/>
            <a:ext cx="5344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is code can access: 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line1, line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7899480" y="2915280"/>
            <a:ext cx="51307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an access: 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cs220, cs319, text1, text2, combined_tex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5562000" y="1920960"/>
            <a:ext cx="5068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an access: 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cs220, cs319, tex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3477240" y="7349040"/>
            <a:ext cx="604116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 call the variables that can currently b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ccessed “in scope” and variables tha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annot be “out of scope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03" name="Text Box 9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914D271-BD38-4768-9723-B049DF963C5F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Text Box 9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809F973-C8F1-4950-805E-FFA34F2DBD35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05" name="Picture 11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  <p:sp>
        <p:nvSpPr>
          <p:cNvPr id="106" name="Line 6"/>
          <p:cNvSpPr/>
          <p:nvPr/>
        </p:nvSpPr>
        <p:spPr>
          <a:xfrm flipV="1">
            <a:off x="6486480" y="3581280"/>
            <a:ext cx="666720" cy="2068560"/>
          </a:xfrm>
          <a:prstGeom prst="line">
            <a:avLst/>
          </a:prstGeom>
          <a:ln w="507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Line 7"/>
          <p:cNvSpPr/>
          <p:nvPr/>
        </p:nvSpPr>
        <p:spPr>
          <a:xfrm flipV="1">
            <a:off x="5164200" y="3581280"/>
            <a:ext cx="666720" cy="2068560"/>
          </a:xfrm>
          <a:prstGeom prst="line">
            <a:avLst/>
          </a:prstGeom>
          <a:ln w="507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Text Box 8"/>
          <p:cNvSpPr/>
          <p:nvPr/>
        </p:nvSpPr>
        <p:spPr>
          <a:xfrm>
            <a:off x="6831720" y="4536360"/>
            <a:ext cx="54896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rguments are copied to parameters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is is called “pass by value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22440" y="254160"/>
            <a:ext cx="1258560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 (PythonTutor)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0" name="Text Box 11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4A2BD63-E51B-4125-840B-7DD82D7AD4BF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11" name="Picture 1" descr=""/>
          <p:cNvPicPr/>
          <p:nvPr/>
        </p:nvPicPr>
        <p:blipFill>
          <a:blip r:embed="rId1"/>
          <a:stretch/>
        </p:blipFill>
        <p:spPr>
          <a:xfrm>
            <a:off x="1589040" y="1752480"/>
            <a:ext cx="9825120" cy="6618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3" name="Text Box 9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98EF4DB-BE36-4E8C-896D-8359102224F7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" name="Text Box 9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16773A6-AF14-4058-84BB-8FBF3A7621A5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TextBox 12"/>
          <p:cNvSpPr/>
          <p:nvPr/>
        </p:nvSpPr>
        <p:spPr>
          <a:xfrm>
            <a:off x="2616120" y="1828800"/>
            <a:ext cx="6508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def print_twice(text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(text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(text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   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def concatenate_str(text1, text2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combined_text = text1 + text2 # concatena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_twice(combined_text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cs220 = "Hello CS220"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cs319 = " / CS319"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concatenate_str(cs220, cs319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Text Box 8"/>
          <p:cNvSpPr/>
          <p:nvPr/>
        </p:nvSpPr>
        <p:spPr>
          <a:xfrm>
            <a:off x="3687120" y="6954120"/>
            <a:ext cx="6028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Try this example yourself using PythonTuto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ex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Fram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Loc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9" name="AutoShape 3"/>
          <p:cNvSpPr/>
          <p:nvPr/>
        </p:nvSpPr>
        <p:spPr>
          <a:xfrm>
            <a:off x="4838760" y="326700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B31650B-24BB-406E-B3D9-55D561B522FF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1512720" y="6544080"/>
            <a:ext cx="9970200" cy="74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ee220c"/>
                </a:solidFill>
                <a:latin typeface="Gill Sans"/>
              </a:rPr>
              <a:t>Let's do some examples in PythonTutor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Loc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2950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set_x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100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405000" y="6254640"/>
            <a:ext cx="7862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1: functions don't execute unless they're call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5EB4B61-1768-4ECF-806E-51A16C47C877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Loc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2950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set_x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100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set_x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286560" y="6254640"/>
            <a:ext cx="9526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2: variables created in a function die after function return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D9E6E51-16BE-404B-98B5-C99BB2F490BE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arning Objectives Today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772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xplain rules of scope of </a:t>
            </a: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local variables 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in a function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en are they created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en are they destroyed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at parts of a program have access to them? (frames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Understand </a:t>
            </a: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can they be used and modified within a function?(global keyword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ere are they stored? (global frame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at parts of a program have access to them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can they be mis-represented as local variables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xplain </a:t>
            </a: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ass by value”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EE19C42-A5BC-402C-941C-A9B1F4615983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5" name="Picture 4" descr=""/>
          <p:cNvPicPr/>
          <p:nvPr/>
        </p:nvPicPr>
        <p:blipFill>
          <a:blip r:embed="rId1"/>
          <a:stretch/>
        </p:blipFill>
        <p:spPr>
          <a:xfrm>
            <a:off x="9016920" y="5205240"/>
            <a:ext cx="3784680" cy="13338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46" name="AutoShape 5"/>
          <p:cNvSpPr/>
          <p:nvPr/>
        </p:nvSpPr>
        <p:spPr>
          <a:xfrm rot="10800000">
            <a:off x="11150640" y="5913000"/>
            <a:ext cx="745920" cy="74628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8592480" y="6960600"/>
            <a:ext cx="44546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Gill Sans"/>
              </a:rPr>
              <a:t>don't memorize the examples,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Gill Sans"/>
              </a:rPr>
              <a:t>learn the rules of Pyth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" name="Text Box 7"/>
          <p:cNvSpPr/>
          <p:nvPr/>
        </p:nvSpPr>
        <p:spPr>
          <a:xfrm>
            <a:off x="8464320" y="8078400"/>
            <a:ext cx="471240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Gill Sans"/>
              </a:rPr>
              <a:t>sample question: </a:t>
            </a: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why did Pyth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do this thing I didn't expec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at this specific line (ask us!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Loc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4589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count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+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unt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unt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unt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262080" y="6254640"/>
            <a:ext cx="9566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3: variables start fresh every time a function is called agai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E0B8C07-E81A-4F0B-BC19-331D456E0035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Loc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4356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display_x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main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100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_x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ain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6" name="Text Box 3"/>
          <p:cNvSpPr/>
          <p:nvPr/>
        </p:nvSpPr>
        <p:spPr>
          <a:xfrm>
            <a:off x="952560" y="5944680"/>
            <a:ext cx="114901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4: you can't see the variables of other function invocations, even those that call you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A8E4B79-A48F-431A-B62F-F58385694A0B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ex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Fram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: Loc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0" name="AutoShape 3"/>
          <p:cNvSpPr/>
          <p:nvPr/>
        </p:nvSpPr>
        <p:spPr>
          <a:xfrm>
            <a:off x="5079960" y="4287960"/>
            <a:ext cx="1176480" cy="1176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B811A67-36DC-4721-B70D-725C1B9B91F5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Glob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4916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hello' # global, outside any func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greeting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greeting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952560" y="7210440"/>
            <a:ext cx="105966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5: you can generally just </a:t>
            </a:r>
            <a:r>
              <a:rPr b="1" lang="en-US" sz="2400" spc="-1" strike="noStrike">
                <a:solidFill>
                  <a:srgbClr val="1db100"/>
                </a:solidFill>
                <a:latin typeface="Gill Sans"/>
              </a:rPr>
              <a:t>use</a:t>
            </a: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 global variables inside a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BA1B7F5-FA2D-4496-80E3-E4E21021B0E6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Glob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478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hello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greeting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welcome!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greeting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greeting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Text Box 3"/>
          <p:cNvSpPr/>
          <p:nvPr/>
        </p:nvSpPr>
        <p:spPr>
          <a:xfrm>
            <a:off x="952560" y="7210440"/>
            <a:ext cx="117871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6: if you do an assignment to a variable in a function, Python assumes you want it loca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9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3B45622-A10F-47F8-8C0F-E5574EC5BD9D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Glob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543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hello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greeting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greeting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welcome!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greeting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Text Box 3"/>
          <p:cNvSpPr/>
          <p:nvPr/>
        </p:nvSpPr>
        <p:spPr>
          <a:xfrm>
            <a:off x="952560" y="7210440"/>
            <a:ext cx="1140444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7: assignment to a variable should be before its use in a function, even if there'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              </a:t>
            </a: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a global variable with the same n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3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6009E44-C611-4A33-87BC-0DD70F9D57C8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Glob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36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hello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greeting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global ms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greeting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welcome!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greeting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952560" y="7210440"/>
            <a:ext cx="114044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8: use a global declaration to prevent Python from creating a</a:t>
            </a:r>
            <a:br>
              <a:rPr sz="2400"/>
            </a:b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               local variable when you want a global variabl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A78C6C0-B7F0-47A9-A130-5A446AD3DE8F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ex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Fram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: Loc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: 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0" name="AutoShape 3"/>
          <p:cNvSpPr/>
          <p:nvPr/>
        </p:nvSpPr>
        <p:spPr>
          <a:xfrm>
            <a:off x="6032520" y="545148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6B61BDC-87A7-4592-BDDA-48EDB006C962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Argument Passing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36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f(x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'B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inside: ' + 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val = 'A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val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f(val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val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4" name="Text Box 3"/>
          <p:cNvSpPr/>
          <p:nvPr/>
        </p:nvSpPr>
        <p:spPr>
          <a:xfrm>
            <a:off x="952560" y="7210440"/>
            <a:ext cx="114044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9: in Python, arguments are "passed by value", meaning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              </a:t>
            </a: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reassignments to a parameter don't change the argument outsi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5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042345D-FB13-4E85-83B1-5B64A24626AB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Argument Passing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36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'A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f(x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'B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inside: ' + 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f(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952560" y="7210440"/>
            <a:ext cx="114044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10: it's irrelevant whether the argument (outside) and</a:t>
            </a:r>
            <a:br>
              <a:rPr sz="2400"/>
            </a:b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                parameter (inside) have the same variable n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8C0C890-8F79-4E12-AF38-99C4CAE68D3C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127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Contex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127080" indent="-8892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Exampl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127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ram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Loc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127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127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" name="AutoShape 3"/>
          <p:cNvSpPr/>
          <p:nvPr/>
        </p:nvSpPr>
        <p:spPr>
          <a:xfrm>
            <a:off x="3568680" y="151452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9AB07C2-F5A5-421E-BF37-63A8199D516E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 Summary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1" name="Text Box 2"/>
          <p:cNvSpPr/>
          <p:nvPr/>
        </p:nvSpPr>
        <p:spPr>
          <a:xfrm>
            <a:off x="888840" y="1393920"/>
            <a:ext cx="11641320" cy="787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ff9300"/>
                </a:solidFill>
                <a:latin typeface="Gill Sans"/>
              </a:rPr>
              <a:t>Lesson 1:</a:t>
            </a:r>
            <a:r>
              <a:rPr b="0" lang="en-US" sz="2100" spc="-1" strike="noStrike">
                <a:solidFill>
                  <a:srgbClr val="ff9300"/>
                </a:solidFill>
                <a:latin typeface="Gill Sans"/>
              </a:rPr>
              <a:t> functions don't execute unless they're called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ff9300"/>
                </a:solidFill>
                <a:latin typeface="Gill Sans"/>
              </a:rPr>
              <a:t>Lesson 2:</a:t>
            </a:r>
            <a:r>
              <a:rPr b="0" lang="en-US" sz="2100" spc="-1" strike="noStrike">
                <a:solidFill>
                  <a:srgbClr val="ff9300"/>
                </a:solidFill>
                <a:latin typeface="Gill Sans"/>
              </a:rPr>
              <a:t> variables created in a function die after function returns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ff9300"/>
                </a:solidFill>
                <a:latin typeface="Gill Sans"/>
              </a:rPr>
              <a:t>Lesson 3:</a:t>
            </a:r>
            <a:r>
              <a:rPr b="0" lang="en-US" sz="2100" spc="-1" strike="noStrike">
                <a:solidFill>
                  <a:srgbClr val="ff9300"/>
                </a:solidFill>
                <a:latin typeface="Gill Sans"/>
              </a:rPr>
              <a:t> variables start fresh every time a function is called again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ff9300"/>
                </a:solidFill>
                <a:latin typeface="Gill Sans"/>
              </a:rPr>
              <a:t>Lesson 4:</a:t>
            </a:r>
            <a:r>
              <a:rPr b="0" lang="en-US" sz="2100" spc="-1" strike="noStrike">
                <a:solidFill>
                  <a:srgbClr val="ff9300"/>
                </a:solidFill>
                <a:latin typeface="Gill Sans"/>
              </a:rPr>
              <a:t> you can't see the variables of other function invocations, even those that call you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00a2ff"/>
                </a:solidFill>
                <a:latin typeface="Gill Sans"/>
              </a:rPr>
              <a:t>Lesson 5:</a:t>
            </a:r>
            <a:r>
              <a:rPr b="0" lang="en-US" sz="2100" spc="-1" strike="noStrike">
                <a:solidFill>
                  <a:srgbClr val="00a2ff"/>
                </a:solidFill>
                <a:latin typeface="Gill Sans"/>
              </a:rPr>
              <a:t> you can generally just </a:t>
            </a:r>
            <a:r>
              <a:rPr b="1" lang="en-US" sz="2100" spc="-1" strike="noStrike">
                <a:solidFill>
                  <a:srgbClr val="00a2ff"/>
                </a:solidFill>
                <a:latin typeface="Gill Sans"/>
              </a:rPr>
              <a:t>use</a:t>
            </a:r>
            <a:r>
              <a:rPr b="0" lang="en-US" sz="2100" spc="-1" strike="noStrike">
                <a:solidFill>
                  <a:srgbClr val="00a2ff"/>
                </a:solidFill>
                <a:latin typeface="Gill Sans"/>
              </a:rPr>
              <a:t> global variables inside a function 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00a2ff"/>
                </a:solidFill>
                <a:latin typeface="Gill Sans"/>
              </a:rPr>
              <a:t>Lesson 6:</a:t>
            </a:r>
            <a:r>
              <a:rPr b="0" lang="en-US" sz="2100" spc="-1" strike="noStrike">
                <a:solidFill>
                  <a:srgbClr val="00a2ff"/>
                </a:solidFill>
                <a:latin typeface="Gill Sans"/>
              </a:rPr>
              <a:t> if you do an assignment to a variable in a function, Python assumes you want it local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00a2ff"/>
                </a:solidFill>
                <a:latin typeface="Gill Sans"/>
              </a:rPr>
              <a:t>Lesson 7:</a:t>
            </a:r>
            <a:r>
              <a:rPr b="0" lang="en-US" sz="2100" spc="-1" strike="noStrike">
                <a:solidFill>
                  <a:srgbClr val="00a2ff"/>
                </a:solidFill>
                <a:latin typeface="Gill Sans"/>
              </a:rPr>
              <a:t> assignment to a variable should be before its use in a function, even if there's a a global variable with the same name 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00a2ff"/>
                </a:solidFill>
                <a:latin typeface="Gill Sans"/>
              </a:rPr>
              <a:t>Lesson 8:</a:t>
            </a:r>
            <a:r>
              <a:rPr b="0" lang="en-US" sz="2100" spc="-1" strike="noStrike">
                <a:solidFill>
                  <a:srgbClr val="00a2ff"/>
                </a:solidFill>
                <a:latin typeface="Gill Sans"/>
              </a:rPr>
              <a:t> use a global declaration to prevent Python from creating a local variable when you want a global variable 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cb297b"/>
                </a:solidFill>
                <a:latin typeface="Gill Sans"/>
              </a:rPr>
              <a:t>Lesson 9:</a:t>
            </a:r>
            <a:r>
              <a:rPr b="0" lang="en-US" sz="2100" spc="-1" strike="noStrike">
                <a:solidFill>
                  <a:srgbClr val="cb297b"/>
                </a:solidFill>
                <a:latin typeface="Gill Sans"/>
              </a:rPr>
              <a:t> in Python, arguments are "passed by value", meaning reassignments to a parameter don't change the argument outside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cb297b"/>
                </a:solidFill>
                <a:latin typeface="Gill Sans"/>
              </a:rPr>
              <a:t>Lesson 10:</a:t>
            </a:r>
            <a:r>
              <a:rPr b="0" lang="en-US" sz="2100" spc="-1" strike="noStrike">
                <a:solidFill>
                  <a:srgbClr val="cb297b"/>
                </a:solidFill>
                <a:latin typeface="Gill Sans"/>
              </a:rPr>
              <a:t> it's irrelevant whether the argument (outside) and parameter (inside) have the same variable name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2" name="Text Box 3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0F7C8F6-EC17-4A51-AB7C-F3AF2DA415C9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" name="Text Box 4"/>
          <p:cNvSpPr/>
          <p:nvPr/>
        </p:nvSpPr>
        <p:spPr>
          <a:xfrm rot="16200000">
            <a:off x="-81720" y="2406600"/>
            <a:ext cx="897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Loca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" name="Text Box 5"/>
          <p:cNvSpPr/>
          <p:nvPr/>
        </p:nvSpPr>
        <p:spPr>
          <a:xfrm rot="16200000">
            <a:off x="-170640" y="5175360"/>
            <a:ext cx="1076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Globa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5" name="Text Box 6"/>
          <p:cNvSpPr/>
          <p:nvPr/>
        </p:nvSpPr>
        <p:spPr>
          <a:xfrm rot="16200000">
            <a:off x="-573840" y="7969320"/>
            <a:ext cx="18824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aramete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ontex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284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ften (in life and programming), the same name can mean different things in different contex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528480" indent="-3697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xamples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28480" indent="-3697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uman name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Michael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o is in the room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28480" indent="-3697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treet addres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534 State Street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at cit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28480" indent="-3697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le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test.py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(which director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5381FCF-DEC8-4E0D-95FE-D0A6CBD699F2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ontex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935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ften (in life and programming), the same name can mean different things in different contex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xamples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uman name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Michael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o is in the room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treet addres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534 State Street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at cit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le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test.py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(which director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ur code often have different variables with the same na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do we keep variable names organized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do we know what a variable name is referring to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EB6404B-5E6E-4DC7-A289-2CEF8B9AE954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ontex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935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ften (in life and programming), the same name can mean different things in different contex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xamples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uman name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Michael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o is in the room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treet addres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534 State Street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at cit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le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test.py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ich director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ur code often have different variables with the same na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do we keep variable names organized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do we know what a variable name is referring to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7982640" y="5329080"/>
            <a:ext cx="4038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ith groups called “frames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9508680" y="5806440"/>
            <a:ext cx="24094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’ll learn so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rules for thi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30C1D9F-4A74-4F88-97B8-9FBB86BEAFA5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ex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Fram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Loc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AutoShape 3"/>
          <p:cNvSpPr/>
          <p:nvPr/>
        </p:nvSpPr>
        <p:spPr>
          <a:xfrm>
            <a:off x="2603520" y="231444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E1BB466-A6AE-4E69-A6D8-EF7C6F30B203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Fram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17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very time a function is invoked (i.e., called), the invocation gets a new “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frame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” for holding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17520" indent="-2221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 parameters also exist in a fram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17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Global fra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17520" indent="-2221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re is always one global frame that all functions can acces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17520" indent="0"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1752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When a variable name is used, Python looks two places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 function invocation’s fram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 global fram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" name="Oval 3"/>
          <p:cNvSpPr/>
          <p:nvPr/>
        </p:nvSpPr>
        <p:spPr>
          <a:xfrm>
            <a:off x="1125360" y="5448240"/>
            <a:ext cx="756000" cy="75564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" name="Oval 4"/>
          <p:cNvSpPr/>
          <p:nvPr/>
        </p:nvSpPr>
        <p:spPr>
          <a:xfrm>
            <a:off x="1125360" y="6342120"/>
            <a:ext cx="756000" cy="75564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Text Box 5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D145FA0-AA94-4546-8124-408D9E7EF305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74" name="Text Box 3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EDA9707-983B-45E7-8717-95CB1116EE98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urmail Singh</dc:creator>
  <dc:description/>
  <dc:language>en-US</dc:language>
  <cp:lastModifiedBy>Gurmail Singh</cp:lastModifiedBy>
  <dcterms:modified xsi:type="dcterms:W3CDTF">2022-12-23T08:05:52Z</dcterms:modified>
  <cp:revision>53</cp:revision>
  <dc:subject/>
  <dc:title>[220] Function Scope</dc:title>
</cp:coreProperties>
</file>