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14F696-2EF6-493F-8A82-AACB41EB45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DE2F06-503A-4073-BD7E-93D0CA3667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9C3D2C-6983-46D1-851F-165DF95B0C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938EE6-243A-4E2A-8EB7-8C2BFBA938B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AEE8F6-BDFA-42A9-9EB6-1E6B006E455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1350E0-3C0E-4015-9AFB-E950620E21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56ABAD-493A-49F1-91C1-4BF176EBC7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8730A3-91AE-49BD-BF43-0590D7691D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06B07E-F4BC-442F-BDCC-4EF83B210E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D72AD4-5EDC-4BA5-A03B-01F92552FB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165671-006C-4C0A-816C-97141AC7B9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0B560D-773F-4F95-91E1-47CC499E8F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 SemiBold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7232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88560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99240" indent="-4726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38880" y="9296280"/>
            <a:ext cx="317520" cy="33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0FBF8A9-4AA8-462B-8DA3-07DB1DE5AA32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hyperlink" Target="https://www.python.org/dev/peps/pep-3131" TargetMode="External"/><Relationship Id="rId2" Type="http://schemas.openxmlformats.org/officeDocument/2006/relationships/hyperlink" Target="https://www.python.org/dev/peps/pep-0008/" TargetMode="External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09520" y="2273400"/>
            <a:ext cx="1258416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"/>
                <a:ea typeface="Gill Sans"/>
              </a:rPr>
              <a:t>[220 / 319] Variables</a:t>
            </a:r>
            <a:br>
              <a:rPr sz="8000"/>
            </a:br>
            <a:r>
              <a:rPr b="0" lang="en-US" sz="8000" spc="-1" strike="noStrike">
                <a:solidFill>
                  <a:srgbClr val="000000"/>
                </a:solidFill>
                <a:latin typeface="Gill Sans"/>
                <a:ea typeface="Gill Sans"/>
              </a:rPr>
              <a:t>and Expressions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0" name="Rectangle 2"/>
          <p:cNvSpPr/>
          <p:nvPr/>
        </p:nvSpPr>
        <p:spPr>
          <a:xfrm>
            <a:off x="1625760" y="5540400"/>
            <a:ext cx="1046448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rmAutofit fontScale="91000"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Department of Computer Sciences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University of Wisconsin-Madison 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Text Box 3"/>
          <p:cNvSpPr/>
          <p:nvPr/>
        </p:nvSpPr>
        <p:spPr>
          <a:xfrm>
            <a:off x="-84600" y="7865640"/>
            <a:ext cx="626076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Readings: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Chapter 2 of Think Python,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  <a:ea typeface="Gill Sans SemiBold"/>
              </a:rPr>
              <a:t>Chapter 3 of Python for Everybody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10880640" y="8244720"/>
            <a:ext cx="148176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Due: </a:t>
            </a: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P1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" name=""/>
          <p:cNvGraphicFramePr/>
          <p:nvPr/>
        </p:nvGraphicFramePr>
        <p:xfrm>
          <a:off x="580248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7720"/>
                <a:gridCol w="284184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86" name="Text Box 67"/>
          <p:cNvSpPr/>
          <p:nvPr/>
        </p:nvSpPr>
        <p:spPr>
          <a:xfrm>
            <a:off x="10923480" y="165708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" name="Text Box 68"/>
          <p:cNvSpPr/>
          <p:nvPr/>
        </p:nvSpPr>
        <p:spPr>
          <a:xfrm>
            <a:off x="10959480" y="7257600"/>
            <a:ext cx="1955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8" name="Text Box 69"/>
          <p:cNvSpPr/>
          <p:nvPr/>
        </p:nvSpPr>
        <p:spPr>
          <a:xfrm>
            <a:off x="2053080" y="8697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Unorder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36684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8080"/>
                <a:gridCol w="284148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90" name="Text Box 136"/>
          <p:cNvSpPr/>
          <p:nvPr/>
        </p:nvSpPr>
        <p:spPr>
          <a:xfrm>
            <a:off x="6332400" y="869760"/>
            <a:ext cx="365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rdered by Preceden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" name=""/>
          <p:cNvGraphicFramePr/>
          <p:nvPr/>
        </p:nvGraphicFramePr>
        <p:xfrm>
          <a:off x="580248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7720"/>
                <a:gridCol w="284184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92" name="Text Box 67"/>
          <p:cNvSpPr/>
          <p:nvPr/>
        </p:nvSpPr>
        <p:spPr>
          <a:xfrm>
            <a:off x="10923480" y="165708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Text Box 68"/>
          <p:cNvSpPr/>
          <p:nvPr/>
        </p:nvSpPr>
        <p:spPr>
          <a:xfrm>
            <a:off x="10959480" y="7257600"/>
            <a:ext cx="1955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4" name="Text Box 69"/>
          <p:cNvSpPr/>
          <p:nvPr/>
        </p:nvSpPr>
        <p:spPr>
          <a:xfrm>
            <a:off x="2053080" y="8697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Unorder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36684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8080"/>
                <a:gridCol w="284148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96" name="Text Box 136"/>
          <p:cNvSpPr/>
          <p:nvPr/>
        </p:nvSpPr>
        <p:spPr>
          <a:xfrm>
            <a:off x="6332400" y="869760"/>
            <a:ext cx="365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rdered by Preceden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"/>
          <p:cNvGraphicFramePr/>
          <p:nvPr/>
        </p:nvGraphicFramePr>
        <p:xfrm>
          <a:off x="580248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7720"/>
                <a:gridCol w="284184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98" name="Text Box 67"/>
          <p:cNvSpPr/>
          <p:nvPr/>
        </p:nvSpPr>
        <p:spPr>
          <a:xfrm>
            <a:off x="10923480" y="165708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Text Box 68"/>
          <p:cNvSpPr/>
          <p:nvPr/>
        </p:nvSpPr>
        <p:spPr>
          <a:xfrm>
            <a:off x="10959480" y="7257600"/>
            <a:ext cx="1955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Text Box 69"/>
          <p:cNvSpPr/>
          <p:nvPr/>
        </p:nvSpPr>
        <p:spPr>
          <a:xfrm>
            <a:off x="2053080" y="8697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Unorder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36684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8080"/>
                <a:gridCol w="284148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102" name="Text Box 136"/>
          <p:cNvSpPr/>
          <p:nvPr/>
        </p:nvSpPr>
        <p:spPr>
          <a:xfrm>
            <a:off x="6332400" y="869760"/>
            <a:ext cx="365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rdered by Preceden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3" name=""/>
          <p:cNvGraphicFramePr/>
          <p:nvPr/>
        </p:nvGraphicFramePr>
        <p:xfrm>
          <a:off x="580248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7720"/>
                <a:gridCol w="284184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104" name="Text Box 67"/>
          <p:cNvSpPr/>
          <p:nvPr/>
        </p:nvSpPr>
        <p:spPr>
          <a:xfrm>
            <a:off x="10923480" y="165708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5" name="Text Box 68"/>
          <p:cNvSpPr/>
          <p:nvPr/>
        </p:nvSpPr>
        <p:spPr>
          <a:xfrm>
            <a:off x="10959480" y="7257600"/>
            <a:ext cx="1955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6" name="Text Box 69"/>
          <p:cNvSpPr/>
          <p:nvPr/>
        </p:nvSpPr>
        <p:spPr>
          <a:xfrm>
            <a:off x="2053080" y="8697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Unorder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36684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8080"/>
                <a:gridCol w="284148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108" name="Text Box 136"/>
          <p:cNvSpPr/>
          <p:nvPr/>
        </p:nvSpPr>
        <p:spPr>
          <a:xfrm>
            <a:off x="6332400" y="869760"/>
            <a:ext cx="365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rdered by Preceden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Oval 137"/>
          <p:cNvSpPr/>
          <p:nvPr/>
        </p:nvSpPr>
        <p:spPr>
          <a:xfrm>
            <a:off x="9524880" y="3143160"/>
            <a:ext cx="435240" cy="435240"/>
          </a:xfrm>
          <a:prstGeom prst="ellipse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0" name="Oval 138"/>
          <p:cNvSpPr/>
          <p:nvPr/>
        </p:nvSpPr>
        <p:spPr>
          <a:xfrm>
            <a:off x="9334440" y="3816360"/>
            <a:ext cx="434880" cy="434880"/>
          </a:xfrm>
          <a:prstGeom prst="ellipse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1" name="Oval 139"/>
          <p:cNvSpPr/>
          <p:nvPr/>
        </p:nvSpPr>
        <p:spPr>
          <a:xfrm>
            <a:off x="9516960" y="4586400"/>
            <a:ext cx="298440" cy="299880"/>
          </a:xfrm>
          <a:prstGeom prst="ellipse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" name="Text Box 140"/>
          <p:cNvSpPr/>
          <p:nvPr/>
        </p:nvSpPr>
        <p:spPr>
          <a:xfrm>
            <a:off x="11048040" y="3769920"/>
            <a:ext cx="177876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10 - -2 // 3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3" name=""/>
          <p:cNvGraphicFramePr/>
          <p:nvPr/>
        </p:nvGraphicFramePr>
        <p:xfrm>
          <a:off x="580248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7720"/>
                <a:gridCol w="284184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114" name="Text Box 67"/>
          <p:cNvSpPr/>
          <p:nvPr/>
        </p:nvSpPr>
        <p:spPr>
          <a:xfrm>
            <a:off x="10923480" y="165708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Text Box 68"/>
          <p:cNvSpPr/>
          <p:nvPr/>
        </p:nvSpPr>
        <p:spPr>
          <a:xfrm>
            <a:off x="10959480" y="7257600"/>
            <a:ext cx="1955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Text Box 69"/>
          <p:cNvSpPr/>
          <p:nvPr/>
        </p:nvSpPr>
        <p:spPr>
          <a:xfrm>
            <a:off x="2053080" y="8697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Unorder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36684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8080"/>
                <a:gridCol w="284148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118" name="Text Box 136"/>
          <p:cNvSpPr/>
          <p:nvPr/>
        </p:nvSpPr>
        <p:spPr>
          <a:xfrm>
            <a:off x="6332400" y="869760"/>
            <a:ext cx="365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rdered by Preceden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9" name="Text Box 137"/>
          <p:cNvSpPr/>
          <p:nvPr/>
        </p:nvSpPr>
        <p:spPr>
          <a:xfrm>
            <a:off x="1018440" y="8421120"/>
            <a:ext cx="705456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1+1==2 or 3 ** 10000000 &gt; 2 ** 20000000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0" name="Oval 138"/>
          <p:cNvSpPr/>
          <p:nvPr/>
        </p:nvSpPr>
        <p:spPr>
          <a:xfrm>
            <a:off x="6108840" y="5632560"/>
            <a:ext cx="1628640" cy="2409840"/>
          </a:xfrm>
          <a:prstGeom prst="ellipse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1" name="Text Box 139"/>
          <p:cNvSpPr/>
          <p:nvPr/>
        </p:nvSpPr>
        <p:spPr>
          <a:xfrm>
            <a:off x="8644320" y="8111520"/>
            <a:ext cx="26488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logical operato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an "short circuit"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Expressions, Variables, and Assignmen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ug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aming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" name="AutoShape 3"/>
          <p:cNvSpPr/>
          <p:nvPr/>
        </p:nvSpPr>
        <p:spPr>
          <a:xfrm>
            <a:off x="7810560" y="231444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5" name="AutoShape 4"/>
          <p:cNvSpPr/>
          <p:nvPr/>
        </p:nvSpPr>
        <p:spPr>
          <a:xfrm rot="20145000">
            <a:off x="2281320" y="4731840"/>
            <a:ext cx="1176120" cy="48600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6" name="AutoShape 5"/>
          <p:cNvSpPr/>
          <p:nvPr/>
        </p:nvSpPr>
        <p:spPr>
          <a:xfrm flipH="1" rot="920400">
            <a:off x="3461400" y="4738680"/>
            <a:ext cx="1176120" cy="48708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7277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Expression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re a mix of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tor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nd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nd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.  For examp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5 + 5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(8/2) ** 2 * 3.14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&gt; 4 + 4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% 2 == 0 or 3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7277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Expression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re a mix of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tor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nd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nd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.  For examp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5 + 5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(8/2) ** 2 * 3.14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&gt; 4 + 4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% 2 == 0 or 3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2024280" y="7728480"/>
            <a:ext cx="89550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Each of these operands is an example of a </a:t>
            </a: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literal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: a fixed val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Expression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re a mix of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tor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nd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nd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.  For examp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4" name="Text Box 3"/>
          <p:cNvSpPr/>
          <p:nvPr/>
        </p:nvSpPr>
        <p:spPr>
          <a:xfrm>
            <a:off x="3287520" y="7728480"/>
            <a:ext cx="6428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n operand may also be a </a:t>
            </a: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variable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: not fix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Expression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re a mix of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tor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nd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nd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.  For examp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7" name="Rectangle 3"/>
          <p:cNvSpPr/>
          <p:nvPr/>
        </p:nvSpPr>
        <p:spPr>
          <a:xfrm>
            <a:off x="2328840" y="2293920"/>
            <a:ext cx="8345520" cy="4883040"/>
          </a:xfrm>
          <a:prstGeom prst="rect">
            <a:avLst/>
          </a:prstGeom>
          <a:solidFill>
            <a:srgbClr val="88fa4e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Quick Test!  Circle the </a:t>
            </a: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literals</a:t>
            </a: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 (others are </a:t>
            </a: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variables</a:t>
            </a: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0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zero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num1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True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hello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"goodbye"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8" name="Text Box 4"/>
          <p:cNvSpPr/>
          <p:nvPr/>
        </p:nvSpPr>
        <p:spPr>
          <a:xfrm>
            <a:off x="3287520" y="7728480"/>
            <a:ext cx="6428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n operand may also be a </a:t>
            </a: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variable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: not fix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36200" y="306000"/>
            <a:ext cx="11099880" cy="9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Learning Objectiv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68560" y="1198440"/>
            <a:ext cx="11099520" cy="8064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1000"/>
          </a:bodyPr>
          <a:p>
            <a:pPr marL="3463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4632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valuate expressions by identifying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-24264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operators and operand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-24264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literal values and variabl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-24264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orrect order of operation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0">
              <a:buNone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4632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Write correct Boolean expression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-24264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ontaining Boolean operators “or” and “and”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0">
              <a:buNone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4632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Write assignment statemen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-24264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ith variables following proper naming rul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0">
              <a:buNone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4632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Define, give examples of, and identify 3 kinds of error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-24264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yntax, runtime, and semantic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0">
              <a:buNone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4632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Write code to perform computations with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-24264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nt, float, string, and bool typ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0">
              <a:buNone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Expression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re a mix of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tor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nd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nd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.  For examp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1" name="Rectangle 3"/>
          <p:cNvSpPr/>
          <p:nvPr/>
        </p:nvSpPr>
        <p:spPr>
          <a:xfrm>
            <a:off x="2328840" y="2293920"/>
            <a:ext cx="8345520" cy="4883040"/>
          </a:xfrm>
          <a:prstGeom prst="rect">
            <a:avLst/>
          </a:prstGeom>
          <a:solidFill>
            <a:srgbClr val="88fa4e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Quick Test!  Circle the </a:t>
            </a: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literals</a:t>
            </a: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 (others are </a:t>
            </a: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variables</a:t>
            </a: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0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zero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num1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True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hello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"goodbye"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2" name="AutoShape 4"/>
          <p:cNvSpPr/>
          <p:nvPr/>
        </p:nvSpPr>
        <p:spPr>
          <a:xfrm>
            <a:off x="5473800" y="3251160"/>
            <a:ext cx="2841480" cy="547560"/>
          </a:xfrm>
          <a:prstGeom prst="roundRect">
            <a:avLst>
              <a:gd name="adj" fmla="val 34736"/>
            </a:avLst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3" name="Text Box 5"/>
          <p:cNvSpPr/>
          <p:nvPr/>
        </p:nvSpPr>
        <p:spPr>
          <a:xfrm>
            <a:off x="3287520" y="7728480"/>
            <a:ext cx="6428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n operand may also be a </a:t>
            </a: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variable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: not fix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Expression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re a mix of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tor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nd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nd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.  For examp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6" name="Rectangle 3"/>
          <p:cNvSpPr/>
          <p:nvPr/>
        </p:nvSpPr>
        <p:spPr>
          <a:xfrm>
            <a:off x="2328840" y="2293920"/>
            <a:ext cx="8345520" cy="4883040"/>
          </a:xfrm>
          <a:prstGeom prst="rect">
            <a:avLst/>
          </a:prstGeom>
          <a:solidFill>
            <a:srgbClr val="88fa4e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Quick Test!  Circle the </a:t>
            </a: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literals</a:t>
            </a: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 (others are </a:t>
            </a: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variables</a:t>
            </a: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0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zero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num1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True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hello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"goodbye"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7" name="AutoShape 4"/>
          <p:cNvSpPr/>
          <p:nvPr/>
        </p:nvSpPr>
        <p:spPr>
          <a:xfrm>
            <a:off x="5473800" y="3251160"/>
            <a:ext cx="2841480" cy="547560"/>
          </a:xfrm>
          <a:prstGeom prst="roundRect">
            <a:avLst>
              <a:gd name="adj" fmla="val 34736"/>
            </a:avLst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AutoShape 5"/>
          <p:cNvSpPr/>
          <p:nvPr/>
        </p:nvSpPr>
        <p:spPr>
          <a:xfrm>
            <a:off x="5473800" y="4724280"/>
            <a:ext cx="2841480" cy="547920"/>
          </a:xfrm>
          <a:prstGeom prst="roundRect">
            <a:avLst>
              <a:gd name="adj" fmla="val 34736"/>
            </a:avLst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9" name="Text Box 6"/>
          <p:cNvSpPr/>
          <p:nvPr/>
        </p:nvSpPr>
        <p:spPr>
          <a:xfrm>
            <a:off x="3287520" y="7728480"/>
            <a:ext cx="6428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n operand may also be a </a:t>
            </a: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variable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: not fix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Expression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re a mix of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tor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nd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nd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.  For examp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Rectangle 3"/>
          <p:cNvSpPr/>
          <p:nvPr/>
        </p:nvSpPr>
        <p:spPr>
          <a:xfrm>
            <a:off x="2328840" y="2293920"/>
            <a:ext cx="8345520" cy="4883040"/>
          </a:xfrm>
          <a:prstGeom prst="rect">
            <a:avLst/>
          </a:prstGeom>
          <a:solidFill>
            <a:srgbClr val="88fa4e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Quick Test!  Circle the </a:t>
            </a: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literals</a:t>
            </a: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 (others are </a:t>
            </a: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variables</a:t>
            </a: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0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zero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num1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True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hello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"goodbye"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3" name="AutoShape 4"/>
          <p:cNvSpPr/>
          <p:nvPr/>
        </p:nvSpPr>
        <p:spPr>
          <a:xfrm>
            <a:off x="5473800" y="3251160"/>
            <a:ext cx="2841480" cy="547560"/>
          </a:xfrm>
          <a:prstGeom prst="roundRect">
            <a:avLst>
              <a:gd name="adj" fmla="val 34736"/>
            </a:avLst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4" name="AutoShape 5"/>
          <p:cNvSpPr/>
          <p:nvPr/>
        </p:nvSpPr>
        <p:spPr>
          <a:xfrm>
            <a:off x="5473800" y="4724280"/>
            <a:ext cx="2841480" cy="547920"/>
          </a:xfrm>
          <a:prstGeom prst="roundRect">
            <a:avLst>
              <a:gd name="adj" fmla="val 34736"/>
            </a:avLst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5" name="AutoShape 6"/>
          <p:cNvSpPr/>
          <p:nvPr/>
        </p:nvSpPr>
        <p:spPr>
          <a:xfrm>
            <a:off x="5473800" y="5689440"/>
            <a:ext cx="2841480" cy="547920"/>
          </a:xfrm>
          <a:prstGeom prst="roundRect">
            <a:avLst>
              <a:gd name="adj" fmla="val 34736"/>
            </a:avLst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6" name="Text Box 7"/>
          <p:cNvSpPr/>
          <p:nvPr/>
        </p:nvSpPr>
        <p:spPr>
          <a:xfrm>
            <a:off x="3287520" y="7728480"/>
            <a:ext cx="6428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n operand may also be a </a:t>
            </a: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variable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: not fix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Expression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re a mix of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tor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nd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nd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.  For examp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9" name="Rectangle 3"/>
          <p:cNvSpPr/>
          <p:nvPr/>
        </p:nvSpPr>
        <p:spPr>
          <a:xfrm>
            <a:off x="2328840" y="2293920"/>
            <a:ext cx="8345520" cy="4883040"/>
          </a:xfrm>
          <a:prstGeom prst="rect">
            <a:avLst/>
          </a:prstGeom>
          <a:solidFill>
            <a:srgbClr val="88fa4e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Quick Test!  Circle the </a:t>
            </a: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literals</a:t>
            </a: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 (others are </a:t>
            </a: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variables</a:t>
            </a: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0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zero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num1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True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hello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"goodbye"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0" name="AutoShape 4"/>
          <p:cNvSpPr/>
          <p:nvPr/>
        </p:nvSpPr>
        <p:spPr>
          <a:xfrm>
            <a:off x="5473800" y="3251160"/>
            <a:ext cx="2841480" cy="547560"/>
          </a:xfrm>
          <a:prstGeom prst="roundRect">
            <a:avLst>
              <a:gd name="adj" fmla="val 34736"/>
            </a:avLst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1" name="AutoShape 5"/>
          <p:cNvSpPr/>
          <p:nvPr/>
        </p:nvSpPr>
        <p:spPr>
          <a:xfrm>
            <a:off x="5473800" y="4724280"/>
            <a:ext cx="2841480" cy="547920"/>
          </a:xfrm>
          <a:prstGeom prst="roundRect">
            <a:avLst>
              <a:gd name="adj" fmla="val 34736"/>
            </a:avLst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2" name="AutoShape 6"/>
          <p:cNvSpPr/>
          <p:nvPr/>
        </p:nvSpPr>
        <p:spPr>
          <a:xfrm>
            <a:off x="5473800" y="5689440"/>
            <a:ext cx="2841480" cy="547920"/>
          </a:xfrm>
          <a:prstGeom prst="roundRect">
            <a:avLst>
              <a:gd name="adj" fmla="val 34736"/>
            </a:avLst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3" name="Text Box 7"/>
          <p:cNvSpPr/>
          <p:nvPr/>
        </p:nvSpPr>
        <p:spPr>
          <a:xfrm>
            <a:off x="3849120" y="8692920"/>
            <a:ext cx="53053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How do we put a value in a variable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4" name="Text Box 8"/>
          <p:cNvSpPr/>
          <p:nvPr/>
        </p:nvSpPr>
        <p:spPr>
          <a:xfrm>
            <a:off x="3287520" y="7728480"/>
            <a:ext cx="6428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n operand may also be a </a:t>
            </a: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variable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: not fix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Assignmen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n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assignmen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computes an expression (maybe a simple one) and puts the result in a variab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Assignmen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n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assignmen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computes an expression (maybe a simple one) and puts the result in a variab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otal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area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is_bigger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is_even_or_odd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Assignmen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n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assignmen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computes an expression (maybe a simple one) and puts the result in a variab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otal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area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is_bigger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is_even_or_odd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Assignmen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n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assignmen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computes an expression (maybe a simple one) and puts the result in a variab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total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area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is_bigger 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is_even_or_odd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Assignmen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n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assignmen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computes an expression (maybe a simple one) and puts the result in a variab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total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area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is_bigger 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is_even_or_odd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5" name="Rectangle 3"/>
          <p:cNvSpPr/>
          <p:nvPr/>
        </p:nvSpPr>
        <p:spPr>
          <a:xfrm>
            <a:off x="4114800" y="6070680"/>
            <a:ext cx="5899320" cy="62064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6" name="Text Box 4"/>
          <p:cNvSpPr/>
          <p:nvPr/>
        </p:nvSpPr>
        <p:spPr>
          <a:xfrm>
            <a:off x="6190920" y="68133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Express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Assignmen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n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assignmen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computes an expression (maybe a simple one) and puts the result in a variab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total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area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is_bigger 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is_even_or_odd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9" name="Line 3"/>
          <p:cNvSpPr/>
          <p:nvPr/>
        </p:nvSpPr>
        <p:spPr>
          <a:xfrm flipV="1">
            <a:off x="3944880" y="6616800"/>
            <a:ext cx="0" cy="6588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0" name="Text Box 4"/>
          <p:cNvSpPr/>
          <p:nvPr/>
        </p:nvSpPr>
        <p:spPr>
          <a:xfrm>
            <a:off x="2250360" y="7524360"/>
            <a:ext cx="3389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ssignment Operato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" name="Rectangle 5"/>
          <p:cNvSpPr/>
          <p:nvPr/>
        </p:nvSpPr>
        <p:spPr>
          <a:xfrm>
            <a:off x="4114800" y="6070680"/>
            <a:ext cx="5899320" cy="62064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2" name="Text Box 6"/>
          <p:cNvSpPr/>
          <p:nvPr/>
        </p:nvSpPr>
        <p:spPr>
          <a:xfrm>
            <a:off x="6190920" y="68133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Express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903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90360" indent="-6336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Operator Precedenc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903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xpressions, Variables, and Assignmen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903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ug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903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903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aming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903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" name="AutoShape 3"/>
          <p:cNvSpPr/>
          <p:nvPr/>
        </p:nvSpPr>
        <p:spPr>
          <a:xfrm>
            <a:off x="5168880" y="169236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" name="AutoShape 4"/>
          <p:cNvSpPr/>
          <p:nvPr/>
        </p:nvSpPr>
        <p:spPr>
          <a:xfrm>
            <a:off x="2255760" y="5126040"/>
            <a:ext cx="1176480" cy="48564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Assignmen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n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assignmen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computes an expression (maybe a simple one) and puts the result in a variab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total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area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is_bigger 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is_even_or_odd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" name="Rectangle 3"/>
          <p:cNvSpPr/>
          <p:nvPr/>
        </p:nvSpPr>
        <p:spPr>
          <a:xfrm>
            <a:off x="723960" y="5975280"/>
            <a:ext cx="3052800" cy="62244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1487160" y="6838560"/>
            <a:ext cx="1367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Variabl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7" name="Line 5"/>
          <p:cNvSpPr/>
          <p:nvPr/>
        </p:nvSpPr>
        <p:spPr>
          <a:xfrm flipV="1">
            <a:off x="3944880" y="6616800"/>
            <a:ext cx="0" cy="6588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8" name="Text Box 6"/>
          <p:cNvSpPr/>
          <p:nvPr/>
        </p:nvSpPr>
        <p:spPr>
          <a:xfrm>
            <a:off x="2250360" y="7524360"/>
            <a:ext cx="3389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ssignment Operato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9" name="Rectangle 7"/>
          <p:cNvSpPr/>
          <p:nvPr/>
        </p:nvSpPr>
        <p:spPr>
          <a:xfrm>
            <a:off x="4114800" y="6070680"/>
            <a:ext cx="5899320" cy="62064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0" name="Text Box 8"/>
          <p:cNvSpPr/>
          <p:nvPr/>
        </p:nvSpPr>
        <p:spPr>
          <a:xfrm>
            <a:off x="6190920" y="68133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Express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Expressions, Variables, and Assignmen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ug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aming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3" name="AutoShape 3"/>
          <p:cNvSpPr/>
          <p:nvPr/>
        </p:nvSpPr>
        <p:spPr>
          <a:xfrm>
            <a:off x="2279520" y="330516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7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4" name="AutoShape 4"/>
          <p:cNvSpPr/>
          <p:nvPr/>
        </p:nvSpPr>
        <p:spPr>
          <a:xfrm rot="20145000">
            <a:off x="2281320" y="4731840"/>
            <a:ext cx="1176120" cy="48600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5" name="AutoShape 5"/>
          <p:cNvSpPr/>
          <p:nvPr/>
        </p:nvSpPr>
        <p:spPr>
          <a:xfrm flipH="1" rot="920400">
            <a:off x="3461400" y="4738680"/>
            <a:ext cx="1176120" cy="48708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Expressions, Variables, and Assignmen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Bug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aming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8" name="AutoShape 3"/>
          <p:cNvSpPr/>
          <p:nvPr/>
        </p:nvSpPr>
        <p:spPr>
          <a:xfrm>
            <a:off x="5041800" y="4287960"/>
            <a:ext cx="1176480" cy="1176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9" name="AutoShape 4"/>
          <p:cNvSpPr/>
          <p:nvPr/>
        </p:nvSpPr>
        <p:spPr>
          <a:xfrm rot="20145000">
            <a:off x="2281320" y="4731840"/>
            <a:ext cx="1176120" cy="48600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0" name="AutoShape 5"/>
          <p:cNvSpPr/>
          <p:nvPr/>
        </p:nvSpPr>
        <p:spPr>
          <a:xfrm flipH="1" rot="920400">
            <a:off x="3461400" y="4738680"/>
            <a:ext cx="1176120" cy="48708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ategories of Error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02" name="Oval 2"/>
          <p:cNvSpPr/>
          <p:nvPr/>
        </p:nvSpPr>
        <p:spPr>
          <a:xfrm>
            <a:off x="274680" y="1587600"/>
            <a:ext cx="127008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3" name="Oval 3"/>
          <p:cNvSpPr/>
          <p:nvPr/>
        </p:nvSpPr>
        <p:spPr>
          <a:xfrm>
            <a:off x="274680" y="3784680"/>
            <a:ext cx="127008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4" name="Oval 4"/>
          <p:cNvSpPr/>
          <p:nvPr/>
        </p:nvSpPr>
        <p:spPr>
          <a:xfrm>
            <a:off x="274680" y="5981760"/>
            <a:ext cx="1270080" cy="127008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5" name="Text Box 5"/>
          <p:cNvSpPr/>
          <p:nvPr/>
        </p:nvSpPr>
        <p:spPr>
          <a:xfrm>
            <a:off x="1464840" y="1760040"/>
            <a:ext cx="655632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700" spc="-1" strike="noStrike">
                <a:solidFill>
                  <a:srgbClr val="ff9300"/>
                </a:solidFill>
                <a:latin typeface="Gill Sans"/>
              </a:rPr>
              <a:t>dog cat the of chase any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Gill Sans"/>
              </a:rPr>
              <a:t>[word soup, not grammatically sensible]</a:t>
            </a:r>
            <a:endParaRPr b="1" lang="en-US" sz="27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ategories of Error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968120" y="1587600"/>
            <a:ext cx="11099880" cy="7277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yntax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t never makes sense in any context; Python doesn't even ru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5 = x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8" name="Oval 3"/>
          <p:cNvSpPr/>
          <p:nvPr/>
        </p:nvSpPr>
        <p:spPr>
          <a:xfrm>
            <a:off x="274680" y="1587600"/>
            <a:ext cx="127008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9" name="Oval 4"/>
          <p:cNvSpPr/>
          <p:nvPr/>
        </p:nvSpPr>
        <p:spPr>
          <a:xfrm>
            <a:off x="274680" y="3784680"/>
            <a:ext cx="127008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0" name="Oval 5"/>
          <p:cNvSpPr/>
          <p:nvPr/>
        </p:nvSpPr>
        <p:spPr>
          <a:xfrm>
            <a:off x="274680" y="5981760"/>
            <a:ext cx="1270080" cy="127008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ategories of Error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968120" y="1587600"/>
            <a:ext cx="11099880" cy="7277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yntax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t never makes sense in any context; Python doesn't even ru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5 = x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3" name="Oval 3"/>
          <p:cNvSpPr/>
          <p:nvPr/>
        </p:nvSpPr>
        <p:spPr>
          <a:xfrm>
            <a:off x="274680" y="1587600"/>
            <a:ext cx="127008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4" name="Oval 4"/>
          <p:cNvSpPr/>
          <p:nvPr/>
        </p:nvSpPr>
        <p:spPr>
          <a:xfrm>
            <a:off x="274680" y="3784680"/>
            <a:ext cx="127008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5" name="Oval 5"/>
          <p:cNvSpPr/>
          <p:nvPr/>
        </p:nvSpPr>
        <p:spPr>
          <a:xfrm>
            <a:off x="274680" y="5981760"/>
            <a:ext cx="1270080" cy="127008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6" name="Text Box 6"/>
          <p:cNvSpPr/>
          <p:nvPr/>
        </p:nvSpPr>
        <p:spPr>
          <a:xfrm>
            <a:off x="1309320" y="4008240"/>
            <a:ext cx="885600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700" spc="-1" strike="noStrike">
                <a:solidFill>
                  <a:srgbClr val="ff9300"/>
                </a:solidFill>
                <a:latin typeface="Gill Sans"/>
              </a:rPr>
              <a:t>this sentence is false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Gill Sans"/>
              </a:rPr>
              <a:t>[grammatical, but my head explodes if I think about it]</a:t>
            </a:r>
            <a:endParaRPr b="1" lang="en-US" sz="27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ategories of Error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968120" y="1587600"/>
            <a:ext cx="11099880" cy="7277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52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yntax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52520" indent="-3175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t never makes sense in any context; Python doesn't even ru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2520" indent="-31752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5 = x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2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ntime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52520" indent="-3175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Need to run to find out whether it will crash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2520" indent="-3175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ppears with different names (TypeError, ZeroDivisionError, etc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2520" indent="-31752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x = 5 / 0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9" name="Oval 3"/>
          <p:cNvSpPr/>
          <p:nvPr/>
        </p:nvSpPr>
        <p:spPr>
          <a:xfrm>
            <a:off x="274680" y="1587600"/>
            <a:ext cx="127008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0" name="Oval 4"/>
          <p:cNvSpPr/>
          <p:nvPr/>
        </p:nvSpPr>
        <p:spPr>
          <a:xfrm>
            <a:off x="274680" y="3784680"/>
            <a:ext cx="127008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1" name="Oval 5"/>
          <p:cNvSpPr/>
          <p:nvPr/>
        </p:nvSpPr>
        <p:spPr>
          <a:xfrm>
            <a:off x="274680" y="5981760"/>
            <a:ext cx="1270080" cy="127008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ategories of Error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968120" y="1587600"/>
            <a:ext cx="11099880" cy="7277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52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yntax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52520" indent="-3175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t never makes sense in any context; Python doesn't even ru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2520" indent="-31752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5 = x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2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ntime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52520" indent="-3175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Need to run to find out whether it will crash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2520" indent="-3175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ppears with different names (TypeError, ZeroDivisionError, etc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2520" indent="-31752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x = 5 / 0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4" name="Oval 3"/>
          <p:cNvSpPr/>
          <p:nvPr/>
        </p:nvSpPr>
        <p:spPr>
          <a:xfrm>
            <a:off x="274680" y="1587600"/>
            <a:ext cx="127008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5" name="Oval 4"/>
          <p:cNvSpPr/>
          <p:nvPr/>
        </p:nvSpPr>
        <p:spPr>
          <a:xfrm>
            <a:off x="274680" y="3784680"/>
            <a:ext cx="127008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6" name="Oval 5"/>
          <p:cNvSpPr/>
          <p:nvPr/>
        </p:nvSpPr>
        <p:spPr>
          <a:xfrm>
            <a:off x="274680" y="5981760"/>
            <a:ext cx="1270080" cy="127008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1501920" y="6129000"/>
            <a:ext cx="624384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700" spc="-1" strike="noStrike">
                <a:solidFill>
                  <a:srgbClr val="ff9300"/>
                </a:solidFill>
                <a:latin typeface="Gill Sans"/>
              </a:rPr>
              <a:t>one week is 10 days long</a:t>
            </a:r>
            <a:endParaRPr b="1" lang="en-US" sz="27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"/>
              </a:rPr>
              <a:t>[grammatical, coherent, but incorrect]</a:t>
            </a:r>
            <a:endParaRPr b="1" lang="en-US" sz="27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ategories of Error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968120" y="1587600"/>
            <a:ext cx="11099880" cy="7277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yntax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t never makes sense in any context; Python doesn't even ru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5 = x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ntime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Need to run to find out whether it will crash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ppears with different names (TypeError, ZeroDivisionError, etc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x = 5 / 0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spcBef>
                <a:spcPts val="6100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mantic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t runs with no error, but you get the wrong answer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square_area = square_side * 2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0" name="Oval 3"/>
          <p:cNvSpPr/>
          <p:nvPr/>
        </p:nvSpPr>
        <p:spPr>
          <a:xfrm>
            <a:off x="274680" y="1587600"/>
            <a:ext cx="127008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1" name="Oval 4"/>
          <p:cNvSpPr/>
          <p:nvPr/>
        </p:nvSpPr>
        <p:spPr>
          <a:xfrm>
            <a:off x="274680" y="3784680"/>
            <a:ext cx="127008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2" name="Oval 5"/>
          <p:cNvSpPr/>
          <p:nvPr/>
        </p:nvSpPr>
        <p:spPr>
          <a:xfrm>
            <a:off x="274680" y="5981760"/>
            <a:ext cx="1270080" cy="127008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1968120" y="1587600"/>
            <a:ext cx="11099880" cy="7277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yntax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t never makes sense in any context; Python doesn't even ru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5 = x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ntime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Need to run to find out whether it will crash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ppears with different names (TypeError, ZeroDivisionError, etc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x = 5 / 0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spcBef>
                <a:spcPts val="6100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mantic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t runs with no error, but you get the wrong answer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square_area = square_side * 2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ategories of Error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35" name="Oval 3"/>
          <p:cNvSpPr/>
          <p:nvPr/>
        </p:nvSpPr>
        <p:spPr>
          <a:xfrm>
            <a:off x="274680" y="1587600"/>
            <a:ext cx="127008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6" name="Oval 4"/>
          <p:cNvSpPr/>
          <p:nvPr/>
        </p:nvSpPr>
        <p:spPr>
          <a:xfrm>
            <a:off x="274680" y="3784680"/>
            <a:ext cx="127008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7" name="Oval 5"/>
          <p:cNvSpPr/>
          <p:nvPr/>
        </p:nvSpPr>
        <p:spPr>
          <a:xfrm>
            <a:off x="274680" y="5981760"/>
            <a:ext cx="1270080" cy="127008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8" name="Rectangle 6"/>
          <p:cNvSpPr/>
          <p:nvPr/>
        </p:nvSpPr>
        <p:spPr>
          <a:xfrm>
            <a:off x="1803240" y="1041480"/>
            <a:ext cx="11074680" cy="7277040"/>
          </a:xfrm>
          <a:prstGeom prst="rect">
            <a:avLst/>
          </a:prstGeom>
          <a:solidFill>
            <a:srgbClr val="ffffff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9" name="Text Box 7"/>
          <p:cNvSpPr/>
          <p:nvPr/>
        </p:nvSpPr>
        <p:spPr>
          <a:xfrm>
            <a:off x="2492640" y="4003200"/>
            <a:ext cx="9694440" cy="833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800" spc="-1" strike="noStrike">
                <a:solidFill>
                  <a:srgbClr val="ee220c"/>
                </a:solidFill>
                <a:latin typeface="Gill Sans"/>
              </a:rPr>
              <a:t>what kind of error is the worst?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580248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7720"/>
                <a:gridCol w="284184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50" name="Text Box 67"/>
          <p:cNvSpPr/>
          <p:nvPr/>
        </p:nvSpPr>
        <p:spPr>
          <a:xfrm>
            <a:off x="10923480" y="165708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" name="Text Box 68"/>
          <p:cNvSpPr/>
          <p:nvPr/>
        </p:nvSpPr>
        <p:spPr>
          <a:xfrm>
            <a:off x="10959480" y="7257600"/>
            <a:ext cx="1955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36684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8080"/>
                <a:gridCol w="284148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53" name="Text Box 135"/>
          <p:cNvSpPr/>
          <p:nvPr/>
        </p:nvSpPr>
        <p:spPr>
          <a:xfrm>
            <a:off x="2053080" y="8697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Unorder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" name="Text Box 136"/>
          <p:cNvSpPr/>
          <p:nvPr/>
        </p:nvSpPr>
        <p:spPr>
          <a:xfrm>
            <a:off x="6332400" y="869760"/>
            <a:ext cx="365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rdered by Preceden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Expressions, Variables, and Assignmen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Bug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aming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2" name="AutoShape 3"/>
          <p:cNvSpPr/>
          <p:nvPr/>
        </p:nvSpPr>
        <p:spPr>
          <a:xfrm>
            <a:off x="2400480" y="528624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7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3" name="AutoShape 4"/>
          <p:cNvSpPr/>
          <p:nvPr/>
        </p:nvSpPr>
        <p:spPr>
          <a:xfrm rot="20145000">
            <a:off x="2281320" y="4731840"/>
            <a:ext cx="1176120" cy="48600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929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4" name="AutoShape 5"/>
          <p:cNvSpPr/>
          <p:nvPr/>
        </p:nvSpPr>
        <p:spPr>
          <a:xfrm flipH="1" rot="920400">
            <a:off x="3461400" y="4738680"/>
            <a:ext cx="1176120" cy="48708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929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ample: int 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46" name="Text Box 2"/>
          <p:cNvSpPr/>
          <p:nvPr/>
        </p:nvSpPr>
        <p:spPr>
          <a:xfrm>
            <a:off x="2080800" y="3200400"/>
            <a:ext cx="28454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conds = 12345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7" name="Text Box 3"/>
          <p:cNvSpPr/>
          <p:nvPr/>
        </p:nvSpPr>
        <p:spPr>
          <a:xfrm>
            <a:off x="1138320" y="5855760"/>
            <a:ext cx="595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int out hours, minutes, and seconds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8" name="Text Box 4"/>
          <p:cNvSpPr/>
          <p:nvPr/>
        </p:nvSpPr>
        <p:spPr>
          <a:xfrm>
            <a:off x="8720280" y="633600"/>
            <a:ext cx="3132000" cy="772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50000" spc="-1" strike="noStrike">
                <a:solidFill>
                  <a:srgbClr val="d6d5d5"/>
                </a:solidFill>
                <a:latin typeface="Gill Sans"/>
              </a:rPr>
              <a:t>?</a:t>
            </a:r>
            <a:endParaRPr b="1" lang="en-US" sz="50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ample: float 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50" name="Text Box 2"/>
          <p:cNvSpPr/>
          <p:nvPr/>
        </p:nvSpPr>
        <p:spPr>
          <a:xfrm>
            <a:off x="822960" y="2457360"/>
            <a:ext cx="555660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marL="457200" indent="-304920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mpound growth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3049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ou start with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$10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3049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every year it grows by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7%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3049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ou wait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30 yea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3049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how much do you have at the end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1" name="Text Box 3"/>
          <p:cNvSpPr/>
          <p:nvPr/>
        </p:nvSpPr>
        <p:spPr>
          <a:xfrm>
            <a:off x="8720280" y="633600"/>
            <a:ext cx="3132000" cy="772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50000" spc="-1" strike="noStrike">
                <a:solidFill>
                  <a:srgbClr val="d6d5d5"/>
                </a:solidFill>
                <a:latin typeface="Gill Sans"/>
              </a:rPr>
              <a:t>?</a:t>
            </a:r>
            <a:endParaRPr b="1" lang="en-US" sz="50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2" name="Text Box 4"/>
          <p:cNvSpPr/>
          <p:nvPr/>
        </p:nvSpPr>
        <p:spPr>
          <a:xfrm>
            <a:off x="2611440" y="5501880"/>
            <a:ext cx="206676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year 0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$10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year 1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$107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year 2: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ample: string 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54" name="Text Box 2"/>
          <p:cNvSpPr/>
          <p:nvPr/>
        </p:nvSpPr>
        <p:spPr>
          <a:xfrm>
            <a:off x="2508480" y="2156400"/>
            <a:ext cx="513684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marL="380880" indent="-253800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Visually compare two scores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80880" indent="-2538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lice has 10 poi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80880" indent="-2538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Bob has 8 poi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5" name="Text Box 3"/>
          <p:cNvSpPr/>
          <p:nvPr/>
        </p:nvSpPr>
        <p:spPr>
          <a:xfrm>
            <a:off x="2776320" y="4173120"/>
            <a:ext cx="2476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Desired output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6" name="Text Box 4"/>
          <p:cNvSpPr/>
          <p:nvPr/>
        </p:nvSpPr>
        <p:spPr>
          <a:xfrm>
            <a:off x="2842560" y="4879080"/>
            <a:ext cx="3211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alice: ||||||||||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bob: ||||||||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7" name="Text Box 5"/>
          <p:cNvSpPr/>
          <p:nvPr/>
        </p:nvSpPr>
        <p:spPr>
          <a:xfrm>
            <a:off x="7389000" y="6758640"/>
            <a:ext cx="3211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lice: ||||||||||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ob:   ||||||||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8" name="AutoShape 6"/>
          <p:cNvSpPr/>
          <p:nvPr/>
        </p:nvSpPr>
        <p:spPr>
          <a:xfrm>
            <a:off x="4641840" y="5818320"/>
            <a:ext cx="2468520" cy="1425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7251" y="20894"/>
                  <a:pt x="51" y="13694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9" name="Text Box 7"/>
          <p:cNvSpPr/>
          <p:nvPr/>
        </p:nvSpPr>
        <p:spPr>
          <a:xfrm>
            <a:off x="3678120" y="6941880"/>
            <a:ext cx="1748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even bette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ample: bool 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61" name="Text Box 2"/>
          <p:cNvSpPr/>
          <p:nvPr/>
        </p:nvSpPr>
        <p:spPr>
          <a:xfrm>
            <a:off x="2831040" y="2262600"/>
            <a:ext cx="6922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Bounds check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is the value between 0 and 100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2" name="Text Box 3"/>
          <p:cNvSpPr/>
          <p:nvPr/>
        </p:nvSpPr>
        <p:spPr>
          <a:xfrm>
            <a:off x="838440" y="4847400"/>
            <a:ext cx="41256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utput i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you may continue: 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3" name="Text Box 4"/>
          <p:cNvSpPr/>
          <p:nvPr/>
        </p:nvSpPr>
        <p:spPr>
          <a:xfrm>
            <a:off x="7605000" y="4847400"/>
            <a:ext cx="43084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utput i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you may continue: 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4" name="Line 5"/>
          <p:cNvSpPr/>
          <p:nvPr/>
        </p:nvSpPr>
        <p:spPr>
          <a:xfrm>
            <a:off x="7391520" y="2900520"/>
            <a:ext cx="1749240" cy="2006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5" name="Line 6"/>
          <p:cNvSpPr/>
          <p:nvPr/>
        </p:nvSpPr>
        <p:spPr>
          <a:xfrm flipH="1">
            <a:off x="3708360" y="2900520"/>
            <a:ext cx="1749600" cy="2006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6" name="Text Box 7"/>
          <p:cNvSpPr/>
          <p:nvPr/>
        </p:nvSpPr>
        <p:spPr>
          <a:xfrm>
            <a:off x="3760200" y="3552480"/>
            <a:ext cx="631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1db100"/>
                </a:solidFill>
                <a:latin typeface="Gill Sans"/>
              </a:rPr>
              <a:t>Y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7" name="Text Box 8"/>
          <p:cNvSpPr/>
          <p:nvPr/>
        </p:nvSpPr>
        <p:spPr>
          <a:xfrm>
            <a:off x="8478360" y="3552480"/>
            <a:ext cx="592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N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Expressions, Variables, and Assignmen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Bug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aming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0" name="AutoShape 3"/>
          <p:cNvSpPr/>
          <p:nvPr/>
        </p:nvSpPr>
        <p:spPr>
          <a:xfrm>
            <a:off x="4051440" y="626436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1" name="AutoShape 4"/>
          <p:cNvSpPr/>
          <p:nvPr/>
        </p:nvSpPr>
        <p:spPr>
          <a:xfrm rot="20145000">
            <a:off x="2281320" y="4731840"/>
            <a:ext cx="1176120" cy="48600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929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2" name="AutoShape 5"/>
          <p:cNvSpPr/>
          <p:nvPr/>
        </p:nvSpPr>
        <p:spPr>
          <a:xfrm flipH="1" rot="920400">
            <a:off x="3461400" y="4738680"/>
            <a:ext cx="1176120" cy="48708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929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What Variable Names are Allowed?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991800" y="1628640"/>
            <a:ext cx="11099880" cy="4502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6000"/>
          </a:bodyPr>
          <a:p>
            <a:pPr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1st_score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= 100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[bad variable]       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score_1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= 100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1db100"/>
                </a:solidFill>
                <a:latin typeface="Gill Sans"/>
              </a:rPr>
              <a:t>[good variable]               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firstScore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= 100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[not a recommended variable]       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first_score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= 100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1db100"/>
                </a:solidFill>
                <a:latin typeface="Gill Sans"/>
              </a:rPr>
              <a:t>[recommended variable]               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urrent rules are quite complex:</a:t>
            </a:r>
            <a:br>
              <a:rPr sz="3200"/>
            </a:br>
            <a:r>
              <a:rPr b="0" lang="en-US" sz="3200" spc="-1" strike="noStrike" u="sng">
                <a:solidFill>
                  <a:srgbClr val="0000ff"/>
                </a:solidFill>
                <a:uFillTx/>
                <a:latin typeface="Gill Sans"/>
                <a:hlinkClick r:id="rId1"/>
              </a:rPr>
              <a:t>https://www.python.org/dev/peps/pep-313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lease don’t use camel case:</a:t>
            </a:r>
            <a:br>
              <a:rPr sz="3200"/>
            </a:br>
            <a:r>
              <a:rPr b="0" lang="en-US" sz="3200" spc="-1" strike="noStrike" u="sng">
                <a:solidFill>
                  <a:srgbClr val="0000ff"/>
                </a:solidFill>
                <a:uFillTx/>
                <a:latin typeface="Gill Sans"/>
                <a:hlinkClick r:id="rId2"/>
              </a:rPr>
              <a:t>https://www.python.org/dev/peps/pep-0008/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Gill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ff9300"/>
                </a:solidFill>
                <a:latin typeface="Gill Sans"/>
              </a:rPr>
              <a:t>Python 3 has become friendlier to non-English programmer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5" name="Text Box 3"/>
          <p:cNvSpPr/>
          <p:nvPr/>
        </p:nvSpPr>
        <p:spPr>
          <a:xfrm>
            <a:off x="2840040" y="8583480"/>
            <a:ext cx="2680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600"/>
                <a:tab algn="l" pos="25560"/>
                <a:tab algn="l" pos="38160"/>
                <a:tab algn="l" pos="50760"/>
                <a:tab algn="l" pos="63360"/>
                <a:tab algn="l" pos="76320"/>
                <a:tab algn="l" pos="88920"/>
                <a:tab algn="l" pos="101520"/>
                <a:tab algn="l" pos="114480"/>
                <a:tab algn="l" pos="127080"/>
                <a:tab algn="l" pos="139680"/>
                <a:tab algn="l" pos="152280"/>
                <a:tab algn="l" pos="165240"/>
                <a:tab algn="l" pos="177840"/>
                <a:tab algn="l" pos="190440"/>
                <a:tab algn="l" pos="203040"/>
                <a:tab algn="l" pos="216000"/>
                <a:tab algn="l" pos="228600"/>
                <a:tab algn="l" pos="241200"/>
                <a:tab algn="l" pos="254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quero_café = 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6" name="Text Box 4"/>
          <p:cNvSpPr/>
          <p:nvPr/>
        </p:nvSpPr>
        <p:spPr>
          <a:xfrm>
            <a:off x="7038360" y="8400240"/>
            <a:ext cx="28317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Gill Sans"/>
              </a:rPr>
              <a:t>this is allowed, a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Gill Sans"/>
              </a:rPr>
              <a:t>different than "e"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cxnSp>
        <p:nvCxnSpPr>
          <p:cNvPr id="277" name="Straight Arrow Connector 2"/>
          <p:cNvCxnSpPr>
            <a:stCxn id="276" idx="1"/>
            <a:endCxn id="275" idx="3"/>
          </p:cNvCxnSpPr>
          <p:nvPr/>
        </p:nvCxnSpPr>
        <p:spPr>
          <a:xfrm flipH="1">
            <a:off x="5797080" y="8816760"/>
            <a:ext cx="141048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ules for naming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79" name="Oval 2"/>
          <p:cNvSpPr/>
          <p:nvPr/>
        </p:nvSpPr>
        <p:spPr>
          <a:xfrm>
            <a:off x="490680" y="2006640"/>
            <a:ext cx="126972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0" name="Oval 3"/>
          <p:cNvSpPr/>
          <p:nvPr/>
        </p:nvSpPr>
        <p:spPr>
          <a:xfrm>
            <a:off x="490680" y="3556080"/>
            <a:ext cx="126972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1" name="Oval 4"/>
          <p:cNvSpPr/>
          <p:nvPr/>
        </p:nvSpPr>
        <p:spPr>
          <a:xfrm>
            <a:off x="490680" y="5105520"/>
            <a:ext cx="1269720" cy="126972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2" name="Text Box 5"/>
          <p:cNvSpPr/>
          <p:nvPr/>
        </p:nvSpPr>
        <p:spPr>
          <a:xfrm>
            <a:off x="1271160" y="2376000"/>
            <a:ext cx="11034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Only use letters a-z (upper and lower), numbers, and underscor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3" name="Text Box 6"/>
          <p:cNvSpPr/>
          <p:nvPr/>
        </p:nvSpPr>
        <p:spPr>
          <a:xfrm>
            <a:off x="1758240" y="3925440"/>
            <a:ext cx="4383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start with a number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4" name="Text Box 7"/>
          <p:cNvSpPr/>
          <p:nvPr/>
        </p:nvSpPr>
        <p:spPr>
          <a:xfrm>
            <a:off x="1458360" y="5474880"/>
            <a:ext cx="80881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use Python keywords (e.g., and, False, etc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5" name="Text Box 8"/>
          <p:cNvSpPr/>
          <p:nvPr/>
        </p:nvSpPr>
        <p:spPr>
          <a:xfrm>
            <a:off x="1058760" y="7779600"/>
            <a:ext cx="10885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r 220, you may use only variables containing English alphabe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ules for naming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87" name="Oval 2"/>
          <p:cNvSpPr/>
          <p:nvPr/>
        </p:nvSpPr>
        <p:spPr>
          <a:xfrm>
            <a:off x="490680" y="2006640"/>
            <a:ext cx="126972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8" name="Oval 3"/>
          <p:cNvSpPr/>
          <p:nvPr/>
        </p:nvSpPr>
        <p:spPr>
          <a:xfrm>
            <a:off x="490680" y="3556080"/>
            <a:ext cx="126972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9" name="Oval 4"/>
          <p:cNvSpPr/>
          <p:nvPr/>
        </p:nvSpPr>
        <p:spPr>
          <a:xfrm>
            <a:off x="490680" y="5105520"/>
            <a:ext cx="1269720" cy="126972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0" name="Text Box 5"/>
          <p:cNvSpPr/>
          <p:nvPr/>
        </p:nvSpPr>
        <p:spPr>
          <a:xfrm>
            <a:off x="1271160" y="2376000"/>
            <a:ext cx="11034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Only use letters a-z (upper and lower), numbers, and underscor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1" name="Text Box 6"/>
          <p:cNvSpPr/>
          <p:nvPr/>
        </p:nvSpPr>
        <p:spPr>
          <a:xfrm>
            <a:off x="1758240" y="3925440"/>
            <a:ext cx="4383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start with a number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2" name="Text Box 7"/>
          <p:cNvSpPr/>
          <p:nvPr/>
        </p:nvSpPr>
        <p:spPr>
          <a:xfrm>
            <a:off x="1458360" y="5474880"/>
            <a:ext cx="80881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use Python keywords (e.g., and, False, etc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3" name="Text Box 8"/>
          <p:cNvSpPr/>
          <p:nvPr/>
        </p:nvSpPr>
        <p:spPr>
          <a:xfrm>
            <a:off x="3839400" y="6564240"/>
            <a:ext cx="119952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GOO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_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_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4" name="Text Box 9"/>
          <p:cNvSpPr/>
          <p:nvPr/>
        </p:nvSpPr>
        <p:spPr>
          <a:xfrm>
            <a:off x="7657200" y="6564240"/>
            <a:ext cx="156528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BA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220clas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i3.1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!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5" name="Text Box 10"/>
          <p:cNvSpPr/>
          <p:nvPr/>
        </p:nvSpPr>
        <p:spPr>
          <a:xfrm>
            <a:off x="6775560" y="8750160"/>
            <a:ext cx="33285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what rules are violated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ules for naming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97" name="Oval 2"/>
          <p:cNvSpPr/>
          <p:nvPr/>
        </p:nvSpPr>
        <p:spPr>
          <a:xfrm>
            <a:off x="490680" y="2006640"/>
            <a:ext cx="126972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8" name="Oval 3"/>
          <p:cNvSpPr/>
          <p:nvPr/>
        </p:nvSpPr>
        <p:spPr>
          <a:xfrm>
            <a:off x="490680" y="3556080"/>
            <a:ext cx="126972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9" name="Oval 4"/>
          <p:cNvSpPr/>
          <p:nvPr/>
        </p:nvSpPr>
        <p:spPr>
          <a:xfrm>
            <a:off x="490680" y="5105520"/>
            <a:ext cx="1269720" cy="126972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0" name="Text Box 5"/>
          <p:cNvSpPr/>
          <p:nvPr/>
        </p:nvSpPr>
        <p:spPr>
          <a:xfrm>
            <a:off x="1271160" y="2376000"/>
            <a:ext cx="11034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Only use letters a-z (upper and lower), numbers, and underscor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1" name="Text Box 6"/>
          <p:cNvSpPr/>
          <p:nvPr/>
        </p:nvSpPr>
        <p:spPr>
          <a:xfrm>
            <a:off x="1758240" y="3925440"/>
            <a:ext cx="4383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start with a number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2" name="Text Box 7"/>
          <p:cNvSpPr/>
          <p:nvPr/>
        </p:nvSpPr>
        <p:spPr>
          <a:xfrm>
            <a:off x="1458360" y="5474880"/>
            <a:ext cx="80881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use Python keywords (e.g., and, False, etc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3" name="Text Box 8"/>
          <p:cNvSpPr/>
          <p:nvPr/>
        </p:nvSpPr>
        <p:spPr>
          <a:xfrm>
            <a:off x="3839400" y="6564240"/>
            <a:ext cx="119952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GOO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_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_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4" name="Text Box 9"/>
          <p:cNvSpPr/>
          <p:nvPr/>
        </p:nvSpPr>
        <p:spPr>
          <a:xfrm>
            <a:off x="7657200" y="6564240"/>
            <a:ext cx="156528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BA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220clas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i3.1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!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5" name="Oval 10"/>
          <p:cNvSpPr/>
          <p:nvPr/>
        </p:nvSpPr>
        <p:spPr>
          <a:xfrm>
            <a:off x="9266400" y="7002360"/>
            <a:ext cx="407880" cy="37620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580248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7720"/>
                <a:gridCol w="284184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56" name="Text Box 67"/>
          <p:cNvSpPr/>
          <p:nvPr/>
        </p:nvSpPr>
        <p:spPr>
          <a:xfrm>
            <a:off x="10923480" y="165708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" name="Text Box 68"/>
          <p:cNvSpPr/>
          <p:nvPr/>
        </p:nvSpPr>
        <p:spPr>
          <a:xfrm>
            <a:off x="10959480" y="7257600"/>
            <a:ext cx="1955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36684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8080"/>
                <a:gridCol w="284148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59" name="Text Box 135"/>
          <p:cNvSpPr/>
          <p:nvPr/>
        </p:nvSpPr>
        <p:spPr>
          <a:xfrm>
            <a:off x="2053080" y="8697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Unorder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" name="Text Box 136"/>
          <p:cNvSpPr/>
          <p:nvPr/>
        </p:nvSpPr>
        <p:spPr>
          <a:xfrm>
            <a:off x="6332400" y="869760"/>
            <a:ext cx="365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rdered by Preceden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ules for naming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07" name="Oval 2"/>
          <p:cNvSpPr/>
          <p:nvPr/>
        </p:nvSpPr>
        <p:spPr>
          <a:xfrm>
            <a:off x="490680" y="2006640"/>
            <a:ext cx="126972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8" name="Oval 3"/>
          <p:cNvSpPr/>
          <p:nvPr/>
        </p:nvSpPr>
        <p:spPr>
          <a:xfrm>
            <a:off x="490680" y="3556080"/>
            <a:ext cx="126972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9" name="Oval 4"/>
          <p:cNvSpPr/>
          <p:nvPr/>
        </p:nvSpPr>
        <p:spPr>
          <a:xfrm>
            <a:off x="490680" y="5105520"/>
            <a:ext cx="1269720" cy="126972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0" name="Text Box 5"/>
          <p:cNvSpPr/>
          <p:nvPr/>
        </p:nvSpPr>
        <p:spPr>
          <a:xfrm>
            <a:off x="1271160" y="2376000"/>
            <a:ext cx="11034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Only use letters a-z (upper and lower), numbers, and underscor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1" name="Text Box 6"/>
          <p:cNvSpPr/>
          <p:nvPr/>
        </p:nvSpPr>
        <p:spPr>
          <a:xfrm>
            <a:off x="1758240" y="3925440"/>
            <a:ext cx="4383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start with a number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2" name="Text Box 7"/>
          <p:cNvSpPr/>
          <p:nvPr/>
        </p:nvSpPr>
        <p:spPr>
          <a:xfrm>
            <a:off x="1458360" y="5474880"/>
            <a:ext cx="80881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use Python keywords (e.g., and, False, etc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3" name="Text Box 8"/>
          <p:cNvSpPr/>
          <p:nvPr/>
        </p:nvSpPr>
        <p:spPr>
          <a:xfrm>
            <a:off x="3839400" y="6564240"/>
            <a:ext cx="119952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GOO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_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_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4" name="Text Box 9"/>
          <p:cNvSpPr/>
          <p:nvPr/>
        </p:nvSpPr>
        <p:spPr>
          <a:xfrm>
            <a:off x="7657200" y="6564240"/>
            <a:ext cx="156528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BA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220clas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i3.1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!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5" name="Oval 10"/>
          <p:cNvSpPr/>
          <p:nvPr/>
        </p:nvSpPr>
        <p:spPr>
          <a:xfrm>
            <a:off x="9266400" y="7002360"/>
            <a:ext cx="407880" cy="37620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6" name="Oval 11"/>
          <p:cNvSpPr/>
          <p:nvPr/>
        </p:nvSpPr>
        <p:spPr>
          <a:xfrm>
            <a:off x="8847000" y="7365960"/>
            <a:ext cx="408240" cy="37800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ules for naming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18" name="Oval 2"/>
          <p:cNvSpPr/>
          <p:nvPr/>
        </p:nvSpPr>
        <p:spPr>
          <a:xfrm>
            <a:off x="490680" y="2006640"/>
            <a:ext cx="126972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9" name="Oval 3"/>
          <p:cNvSpPr/>
          <p:nvPr/>
        </p:nvSpPr>
        <p:spPr>
          <a:xfrm>
            <a:off x="490680" y="3556080"/>
            <a:ext cx="126972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0" name="Oval 4"/>
          <p:cNvSpPr/>
          <p:nvPr/>
        </p:nvSpPr>
        <p:spPr>
          <a:xfrm>
            <a:off x="490680" y="5105520"/>
            <a:ext cx="1269720" cy="126972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1" name="Text Box 5"/>
          <p:cNvSpPr/>
          <p:nvPr/>
        </p:nvSpPr>
        <p:spPr>
          <a:xfrm>
            <a:off x="1271160" y="2376000"/>
            <a:ext cx="11034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Only use letters a-z (upper and lower), numbers, and underscor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2" name="Text Box 6"/>
          <p:cNvSpPr/>
          <p:nvPr/>
        </p:nvSpPr>
        <p:spPr>
          <a:xfrm>
            <a:off x="1758240" y="3925440"/>
            <a:ext cx="4383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start with a number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3" name="Text Box 7"/>
          <p:cNvSpPr/>
          <p:nvPr/>
        </p:nvSpPr>
        <p:spPr>
          <a:xfrm>
            <a:off x="1458360" y="5474880"/>
            <a:ext cx="80881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use Python keywords (e.g., and, False, etc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4" name="Text Box 8"/>
          <p:cNvSpPr/>
          <p:nvPr/>
        </p:nvSpPr>
        <p:spPr>
          <a:xfrm>
            <a:off x="3839400" y="6564240"/>
            <a:ext cx="119952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GOO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_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_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5" name="Text Box 9"/>
          <p:cNvSpPr/>
          <p:nvPr/>
        </p:nvSpPr>
        <p:spPr>
          <a:xfrm>
            <a:off x="7657200" y="6564240"/>
            <a:ext cx="156528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BA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220clas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i3.1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!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6" name="Oval 10"/>
          <p:cNvSpPr/>
          <p:nvPr/>
        </p:nvSpPr>
        <p:spPr>
          <a:xfrm>
            <a:off x="9266400" y="7002360"/>
            <a:ext cx="407880" cy="37620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7" name="Oval 11"/>
          <p:cNvSpPr/>
          <p:nvPr/>
        </p:nvSpPr>
        <p:spPr>
          <a:xfrm>
            <a:off x="8847000" y="7365960"/>
            <a:ext cx="408240" cy="37800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8" name="Oval 12"/>
          <p:cNvSpPr/>
          <p:nvPr/>
        </p:nvSpPr>
        <p:spPr>
          <a:xfrm>
            <a:off x="9177480" y="7764480"/>
            <a:ext cx="407880" cy="37620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9" name="Oval 13"/>
          <p:cNvSpPr/>
          <p:nvPr/>
        </p:nvSpPr>
        <p:spPr>
          <a:xfrm>
            <a:off x="8758080" y="8128080"/>
            <a:ext cx="408240" cy="37764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ules for naming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31" name="Oval 2"/>
          <p:cNvSpPr/>
          <p:nvPr/>
        </p:nvSpPr>
        <p:spPr>
          <a:xfrm>
            <a:off x="490680" y="2006640"/>
            <a:ext cx="126972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2" name="Oval 3"/>
          <p:cNvSpPr/>
          <p:nvPr/>
        </p:nvSpPr>
        <p:spPr>
          <a:xfrm>
            <a:off x="490680" y="3556080"/>
            <a:ext cx="126972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3" name="Oval 4"/>
          <p:cNvSpPr/>
          <p:nvPr/>
        </p:nvSpPr>
        <p:spPr>
          <a:xfrm>
            <a:off x="490680" y="5105520"/>
            <a:ext cx="1269720" cy="126972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4" name="Text Box 5"/>
          <p:cNvSpPr/>
          <p:nvPr/>
        </p:nvSpPr>
        <p:spPr>
          <a:xfrm>
            <a:off x="1271160" y="2376000"/>
            <a:ext cx="11034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Only use letters a-z (upper and lower), numbers, and underscor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5" name="Text Box 6"/>
          <p:cNvSpPr/>
          <p:nvPr/>
        </p:nvSpPr>
        <p:spPr>
          <a:xfrm>
            <a:off x="1758240" y="3925440"/>
            <a:ext cx="4383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start with a number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6" name="Text Box 7"/>
          <p:cNvSpPr/>
          <p:nvPr/>
        </p:nvSpPr>
        <p:spPr>
          <a:xfrm>
            <a:off x="1458360" y="5474880"/>
            <a:ext cx="80881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use Python keywords (e.g., and, False, etc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7" name="Text Box 8"/>
          <p:cNvSpPr/>
          <p:nvPr/>
        </p:nvSpPr>
        <p:spPr>
          <a:xfrm>
            <a:off x="3839400" y="6564240"/>
            <a:ext cx="119952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GOO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_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_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8" name="Text Box 9"/>
          <p:cNvSpPr/>
          <p:nvPr/>
        </p:nvSpPr>
        <p:spPr>
          <a:xfrm>
            <a:off x="7657200" y="6564240"/>
            <a:ext cx="156528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BA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220clas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i3.1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!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9" name="Oval 10"/>
          <p:cNvSpPr/>
          <p:nvPr/>
        </p:nvSpPr>
        <p:spPr>
          <a:xfrm>
            <a:off x="9266400" y="7002360"/>
            <a:ext cx="407880" cy="37620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0" name="Oval 11"/>
          <p:cNvSpPr/>
          <p:nvPr/>
        </p:nvSpPr>
        <p:spPr>
          <a:xfrm>
            <a:off x="8847000" y="7365960"/>
            <a:ext cx="408240" cy="37800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1" name="Oval 12"/>
          <p:cNvSpPr/>
          <p:nvPr/>
        </p:nvSpPr>
        <p:spPr>
          <a:xfrm>
            <a:off x="9177480" y="7764480"/>
            <a:ext cx="407880" cy="37620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2" name="Oval 13"/>
          <p:cNvSpPr/>
          <p:nvPr/>
        </p:nvSpPr>
        <p:spPr>
          <a:xfrm>
            <a:off x="8758080" y="8128080"/>
            <a:ext cx="408240" cy="37764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Identifying keyword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44" name="Oval 4"/>
          <p:cNvSpPr/>
          <p:nvPr/>
        </p:nvSpPr>
        <p:spPr>
          <a:xfrm>
            <a:off x="291960" y="1746360"/>
            <a:ext cx="1270080" cy="126972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5" name="Text Box 7"/>
          <p:cNvSpPr/>
          <p:nvPr/>
        </p:nvSpPr>
        <p:spPr>
          <a:xfrm>
            <a:off x="1405080" y="2116800"/>
            <a:ext cx="80881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use Python keywords (e.g., and, False, etc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6" name="Text Box 8"/>
          <p:cNvSpPr/>
          <p:nvPr/>
        </p:nvSpPr>
        <p:spPr>
          <a:xfrm>
            <a:off x="3351960" y="5811120"/>
            <a:ext cx="11203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GOO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7" name="Text Box 9"/>
          <p:cNvSpPr/>
          <p:nvPr/>
        </p:nvSpPr>
        <p:spPr>
          <a:xfrm>
            <a:off x="8972280" y="580896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BA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8" name="Text Box 7"/>
          <p:cNvSpPr/>
          <p:nvPr/>
        </p:nvSpPr>
        <p:spPr>
          <a:xfrm>
            <a:off x="1333440" y="3463200"/>
            <a:ext cx="8296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Gill Sans"/>
              </a:rPr>
              <a:t>How to figure out if something is a Python keyword?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9" name="Text Box 7"/>
          <p:cNvSpPr/>
          <p:nvPr/>
        </p:nvSpPr>
        <p:spPr>
          <a:xfrm>
            <a:off x="1184760" y="4199040"/>
            <a:ext cx="11684520" cy="95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ython keywords turn green in color in jupyter notebook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f used as a variable, that keyword will no longer work as intended!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350" name="Picture 1" descr=""/>
          <p:cNvPicPr/>
          <p:nvPr/>
        </p:nvPicPr>
        <p:blipFill>
          <a:blip r:embed="rId1"/>
          <a:stretch/>
        </p:blipFill>
        <p:spPr>
          <a:xfrm>
            <a:off x="7074000" y="6227640"/>
            <a:ext cx="3346200" cy="1827360"/>
          </a:xfrm>
          <a:prstGeom prst="rect">
            <a:avLst/>
          </a:prstGeom>
          <a:ln w="0">
            <a:noFill/>
          </a:ln>
        </p:spPr>
      </p:pic>
      <p:sp>
        <p:nvSpPr>
          <p:cNvPr id="351" name="Text Box 7"/>
          <p:cNvSpPr/>
          <p:nvPr/>
        </p:nvSpPr>
        <p:spPr>
          <a:xfrm>
            <a:off x="1221840" y="8841600"/>
            <a:ext cx="93895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Gill Sans"/>
              </a:rPr>
              <a:t>Pay attention to green colorization within jupyter notebook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352" name="Picture 4" descr=""/>
          <p:cNvPicPr/>
          <p:nvPr/>
        </p:nvPicPr>
        <p:blipFill>
          <a:blip r:embed="rId2"/>
          <a:stretch/>
        </p:blipFill>
        <p:spPr>
          <a:xfrm>
            <a:off x="1206360" y="6327720"/>
            <a:ext cx="4727880" cy="174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Expressions, Variables, and Assignmen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Bug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Naming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5" name="AutoShape 3"/>
          <p:cNvSpPr/>
          <p:nvPr/>
        </p:nvSpPr>
        <p:spPr>
          <a:xfrm>
            <a:off x="2279520" y="726768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7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6" name="AutoShape 4"/>
          <p:cNvSpPr/>
          <p:nvPr/>
        </p:nvSpPr>
        <p:spPr>
          <a:xfrm rot="20145000">
            <a:off x="2281320" y="4731840"/>
            <a:ext cx="1176120" cy="48600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929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7" name="AutoShape 5"/>
          <p:cNvSpPr/>
          <p:nvPr/>
        </p:nvSpPr>
        <p:spPr>
          <a:xfrm flipH="1" rot="920400">
            <a:off x="3461400" y="4738680"/>
            <a:ext cx="1176120" cy="48708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929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Practice: Sphere Volum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59" name="Text Box 2"/>
          <p:cNvSpPr/>
          <p:nvPr/>
        </p:nvSpPr>
        <p:spPr>
          <a:xfrm>
            <a:off x="809640" y="8804880"/>
            <a:ext cx="1138428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https://www.google.com/search?q=sphere%20calc%3A%20find%20V&amp;oq=area+of+a+sphere&amp;aqs=chrome.0.0l6.2671j0j7&amp;sourceid=chrome&amp;ie=UTF-8&amp;skip=s</a:t>
            </a:r>
            <a:endParaRPr b="1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360" name="Picture 3" descr=""/>
          <p:cNvPicPr/>
          <p:nvPr/>
        </p:nvPicPr>
        <p:blipFill>
          <a:blip r:embed="rId1"/>
          <a:stretch/>
        </p:blipFill>
        <p:spPr>
          <a:xfrm>
            <a:off x="425520" y="1625760"/>
            <a:ext cx="6769080" cy="626112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4" descr=""/>
          <p:cNvPicPr/>
          <p:nvPr/>
        </p:nvPicPr>
        <p:blipFill>
          <a:blip r:embed="rId2"/>
          <a:stretch/>
        </p:blipFill>
        <p:spPr>
          <a:xfrm>
            <a:off x="8242200" y="2781360"/>
            <a:ext cx="3479760" cy="2222280"/>
          </a:xfrm>
          <a:prstGeom prst="rect">
            <a:avLst/>
          </a:prstGeom>
          <a:ln w="0">
            <a:noFill/>
          </a:ln>
        </p:spPr>
      </p:pic>
      <p:sp>
        <p:nvSpPr>
          <p:cNvPr id="362" name="Text Box 5"/>
          <p:cNvSpPr/>
          <p:nvPr/>
        </p:nvSpPr>
        <p:spPr>
          <a:xfrm>
            <a:off x="7199280" y="6337440"/>
            <a:ext cx="5564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extension: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ind radius given a volu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Practice: Character Art - Block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64" name="Text Box 2"/>
          <p:cNvSpPr/>
          <p:nvPr/>
        </p:nvSpPr>
        <p:spPr>
          <a:xfrm>
            <a:off x="1192680" y="1866600"/>
            <a:ext cx="6045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a2ff"/>
                </a:solidFill>
                <a:latin typeface="Gill Sans"/>
              </a:rPr>
              <a:t>write some code to draw the following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5" name="Text Box 3"/>
          <p:cNvSpPr/>
          <p:nvPr/>
        </p:nvSpPr>
        <p:spPr>
          <a:xfrm>
            <a:off x="4621680" y="3197520"/>
            <a:ext cx="375984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6" name="Line 4"/>
          <p:cNvSpPr/>
          <p:nvPr/>
        </p:nvSpPr>
        <p:spPr>
          <a:xfrm>
            <a:off x="4127400" y="7880400"/>
            <a:ext cx="4137120" cy="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7" name="Line 5"/>
          <p:cNvSpPr/>
          <p:nvPr/>
        </p:nvSpPr>
        <p:spPr>
          <a:xfrm>
            <a:off x="8480520" y="3292560"/>
            <a:ext cx="0" cy="429732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8" name="Text Box 6"/>
          <p:cNvSpPr/>
          <p:nvPr/>
        </p:nvSpPr>
        <p:spPr>
          <a:xfrm>
            <a:off x="5742720" y="8054640"/>
            <a:ext cx="906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idth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9" name="Text Box 7"/>
          <p:cNvSpPr/>
          <p:nvPr/>
        </p:nvSpPr>
        <p:spPr>
          <a:xfrm rot="16200000">
            <a:off x="8297640" y="5206680"/>
            <a:ext cx="1028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heigh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Practice: Quadratic Formula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71" name="Text Box 2"/>
          <p:cNvSpPr/>
          <p:nvPr/>
        </p:nvSpPr>
        <p:spPr>
          <a:xfrm>
            <a:off x="4722480" y="8804880"/>
            <a:ext cx="355860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https://en.wikipedia.org/wiki/Quadratic_formula</a:t>
            </a:r>
            <a:endParaRPr b="1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372" name="Picture 3" descr=""/>
          <p:cNvPicPr/>
          <p:nvPr/>
        </p:nvPicPr>
        <p:blipFill>
          <a:blip r:embed="rId1"/>
          <a:stretch/>
        </p:blipFill>
        <p:spPr>
          <a:xfrm>
            <a:off x="2317680" y="5181480"/>
            <a:ext cx="8369280" cy="303552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4" descr=""/>
          <p:cNvPicPr/>
          <p:nvPr/>
        </p:nvPicPr>
        <p:blipFill>
          <a:blip r:embed="rId2"/>
          <a:stretch/>
        </p:blipFill>
        <p:spPr>
          <a:xfrm>
            <a:off x="3137040" y="1708200"/>
            <a:ext cx="6730920" cy="1447920"/>
          </a:xfrm>
          <a:prstGeom prst="rect">
            <a:avLst/>
          </a:prstGeom>
          <a:ln w="0">
            <a:noFill/>
          </a:ln>
        </p:spPr>
      </p:pic>
      <p:sp>
        <p:nvSpPr>
          <p:cNvPr id="374" name="Text Box 5"/>
          <p:cNvSpPr/>
          <p:nvPr/>
        </p:nvSpPr>
        <p:spPr>
          <a:xfrm>
            <a:off x="3639600" y="4086000"/>
            <a:ext cx="572436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900" spc="-1" strike="noStrike">
                <a:solidFill>
                  <a:srgbClr val="ee220c"/>
                </a:solidFill>
                <a:latin typeface="Gill Sans"/>
              </a:rPr>
              <a:t>what values of x satisfy the above?</a:t>
            </a:r>
            <a:endParaRPr b="1" lang="en-US" sz="29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hallenge*: Checker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76" name="Text Box 2"/>
          <p:cNvSpPr/>
          <p:nvPr/>
        </p:nvSpPr>
        <p:spPr>
          <a:xfrm>
            <a:off x="1192680" y="1866600"/>
            <a:ext cx="6045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a2ff"/>
                </a:solidFill>
                <a:latin typeface="Gill Sans"/>
              </a:rPr>
              <a:t>write some code to draw the following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7" name="Text Box 3"/>
          <p:cNvSpPr/>
          <p:nvPr/>
        </p:nvSpPr>
        <p:spPr>
          <a:xfrm>
            <a:off x="4621680" y="3197520"/>
            <a:ext cx="375984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8" name="Line 4"/>
          <p:cNvSpPr/>
          <p:nvPr/>
        </p:nvSpPr>
        <p:spPr>
          <a:xfrm>
            <a:off x="4127400" y="7880400"/>
            <a:ext cx="4137120" cy="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9" name="Line 5"/>
          <p:cNvSpPr/>
          <p:nvPr/>
        </p:nvSpPr>
        <p:spPr>
          <a:xfrm>
            <a:off x="8480520" y="3292560"/>
            <a:ext cx="0" cy="429732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0" name="Text Box 6"/>
          <p:cNvSpPr/>
          <p:nvPr/>
        </p:nvSpPr>
        <p:spPr>
          <a:xfrm>
            <a:off x="5742720" y="8054640"/>
            <a:ext cx="906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idth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1" name="Text Box 7"/>
          <p:cNvSpPr/>
          <p:nvPr/>
        </p:nvSpPr>
        <p:spPr>
          <a:xfrm rot="16200000">
            <a:off x="8297640" y="5206680"/>
            <a:ext cx="1028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heigh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2" name="Text Box 2"/>
          <p:cNvSpPr/>
          <p:nvPr/>
        </p:nvSpPr>
        <p:spPr>
          <a:xfrm>
            <a:off x="509400" y="9029880"/>
            <a:ext cx="10060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a2ff"/>
                </a:solidFill>
                <a:latin typeface="Gill Sans"/>
              </a:rPr>
              <a:t>* Challenge =  beyond what you would be asked to do on an exa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hallenge: Border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84" name="Text Box 2"/>
          <p:cNvSpPr/>
          <p:nvPr/>
        </p:nvSpPr>
        <p:spPr>
          <a:xfrm>
            <a:off x="1192680" y="1866240"/>
            <a:ext cx="6045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a2ff"/>
                </a:solidFill>
                <a:latin typeface="Gill Sans"/>
              </a:rPr>
              <a:t>write some code to draw the following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5" name="Text Box 3"/>
          <p:cNvSpPr/>
          <p:nvPr/>
        </p:nvSpPr>
        <p:spPr>
          <a:xfrm>
            <a:off x="4621680" y="3197520"/>
            <a:ext cx="375984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        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        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        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        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6" name="Line 4"/>
          <p:cNvSpPr/>
          <p:nvPr/>
        </p:nvSpPr>
        <p:spPr>
          <a:xfrm>
            <a:off x="4127400" y="7880400"/>
            <a:ext cx="4137120" cy="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7" name="Line 5"/>
          <p:cNvSpPr/>
          <p:nvPr/>
        </p:nvSpPr>
        <p:spPr>
          <a:xfrm>
            <a:off x="8480520" y="3292560"/>
            <a:ext cx="0" cy="429732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8" name="Text Box 6"/>
          <p:cNvSpPr/>
          <p:nvPr/>
        </p:nvSpPr>
        <p:spPr>
          <a:xfrm>
            <a:off x="5742720" y="8054640"/>
            <a:ext cx="906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idth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9" name="Text Box 7"/>
          <p:cNvSpPr/>
          <p:nvPr/>
        </p:nvSpPr>
        <p:spPr>
          <a:xfrm rot="16200000">
            <a:off x="8297640" y="5206680"/>
            <a:ext cx="1028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heigh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580248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7720"/>
                <a:gridCol w="284184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62" name="Text Box 67"/>
          <p:cNvSpPr/>
          <p:nvPr/>
        </p:nvSpPr>
        <p:spPr>
          <a:xfrm>
            <a:off x="10923480" y="165708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" name="Text Box 68"/>
          <p:cNvSpPr/>
          <p:nvPr/>
        </p:nvSpPr>
        <p:spPr>
          <a:xfrm>
            <a:off x="10959480" y="7257600"/>
            <a:ext cx="1955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36684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8080"/>
                <a:gridCol w="284148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65" name="Text Box 135"/>
          <p:cNvSpPr/>
          <p:nvPr/>
        </p:nvSpPr>
        <p:spPr>
          <a:xfrm>
            <a:off x="2053080" y="8697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Unorder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Text Box 136"/>
          <p:cNvSpPr/>
          <p:nvPr/>
        </p:nvSpPr>
        <p:spPr>
          <a:xfrm>
            <a:off x="6332400" y="869760"/>
            <a:ext cx="365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rdered by Preceden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hallenge: Snak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91" name="Text Box 2"/>
          <p:cNvSpPr/>
          <p:nvPr/>
        </p:nvSpPr>
        <p:spPr>
          <a:xfrm>
            <a:off x="1192680" y="1866600"/>
            <a:ext cx="6045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a2ff"/>
                </a:solidFill>
                <a:latin typeface="Gill Sans"/>
              </a:rPr>
              <a:t>write some code to draw the following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2" name="Text Box 3"/>
          <p:cNvSpPr/>
          <p:nvPr/>
        </p:nvSpPr>
        <p:spPr>
          <a:xfrm>
            <a:off x="4621680" y="2837880"/>
            <a:ext cx="3759840" cy="59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3" name="Line 4"/>
          <p:cNvSpPr/>
          <p:nvPr/>
        </p:nvSpPr>
        <p:spPr>
          <a:xfrm>
            <a:off x="4127400" y="8769240"/>
            <a:ext cx="4137120" cy="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4" name="Line 5"/>
          <p:cNvSpPr/>
          <p:nvPr/>
        </p:nvSpPr>
        <p:spPr>
          <a:xfrm>
            <a:off x="8480520" y="2771640"/>
            <a:ext cx="0" cy="570708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5" name="Text Box 6"/>
          <p:cNvSpPr/>
          <p:nvPr/>
        </p:nvSpPr>
        <p:spPr>
          <a:xfrm>
            <a:off x="5742720" y="8943840"/>
            <a:ext cx="906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idth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6" name="Text Box 7"/>
          <p:cNvSpPr/>
          <p:nvPr/>
        </p:nvSpPr>
        <p:spPr>
          <a:xfrm rot="16200000">
            <a:off x="8297640" y="6096240"/>
            <a:ext cx="1028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heigh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580248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7720"/>
                <a:gridCol w="284184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68" name="Text Box 67"/>
          <p:cNvSpPr/>
          <p:nvPr/>
        </p:nvSpPr>
        <p:spPr>
          <a:xfrm>
            <a:off x="10923480" y="165708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" name="Text Box 68"/>
          <p:cNvSpPr/>
          <p:nvPr/>
        </p:nvSpPr>
        <p:spPr>
          <a:xfrm>
            <a:off x="10959480" y="7257600"/>
            <a:ext cx="1955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36684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8080"/>
                <a:gridCol w="284148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71" name="Text Box 135"/>
          <p:cNvSpPr/>
          <p:nvPr/>
        </p:nvSpPr>
        <p:spPr>
          <a:xfrm>
            <a:off x="2053080" y="8697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Unorder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Text Box 136"/>
          <p:cNvSpPr/>
          <p:nvPr/>
        </p:nvSpPr>
        <p:spPr>
          <a:xfrm>
            <a:off x="6332400" y="869760"/>
            <a:ext cx="365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rdered by Preceden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580248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7720"/>
                <a:gridCol w="284184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74" name="Text Box 67"/>
          <p:cNvSpPr/>
          <p:nvPr/>
        </p:nvSpPr>
        <p:spPr>
          <a:xfrm>
            <a:off x="10923480" y="165708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" name="Text Box 68"/>
          <p:cNvSpPr/>
          <p:nvPr/>
        </p:nvSpPr>
        <p:spPr>
          <a:xfrm>
            <a:off x="10959480" y="7257600"/>
            <a:ext cx="1955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36684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8080"/>
                <a:gridCol w="284148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77" name="Text Box 135"/>
          <p:cNvSpPr/>
          <p:nvPr/>
        </p:nvSpPr>
        <p:spPr>
          <a:xfrm>
            <a:off x="2053080" y="8697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Unorder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" name="Text Box 136"/>
          <p:cNvSpPr/>
          <p:nvPr/>
        </p:nvSpPr>
        <p:spPr>
          <a:xfrm>
            <a:off x="6332400" y="869760"/>
            <a:ext cx="365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rdered by Preceden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580248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7720"/>
                <a:gridCol w="284184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80" name="Text Box 67"/>
          <p:cNvSpPr/>
          <p:nvPr/>
        </p:nvSpPr>
        <p:spPr>
          <a:xfrm>
            <a:off x="10923480" y="165708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1" name="Text Box 68"/>
          <p:cNvSpPr/>
          <p:nvPr/>
        </p:nvSpPr>
        <p:spPr>
          <a:xfrm>
            <a:off x="10959480" y="7257600"/>
            <a:ext cx="1955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" name="Text Box 69"/>
          <p:cNvSpPr/>
          <p:nvPr/>
        </p:nvSpPr>
        <p:spPr>
          <a:xfrm>
            <a:off x="2053080" y="8697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Unorder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36684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8080"/>
                <a:gridCol w="284148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84" name="Text Box 136"/>
          <p:cNvSpPr/>
          <p:nvPr/>
        </p:nvSpPr>
        <p:spPr>
          <a:xfrm>
            <a:off x="6332400" y="869760"/>
            <a:ext cx="365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rdered by Preceden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urmail Singh</dc:creator>
  <dc:description/>
  <dc:language>en-US</dc:language>
  <cp:lastModifiedBy>Gurmail Singh</cp:lastModifiedBy>
  <dcterms:modified xsi:type="dcterms:W3CDTF">2022-12-23T08:03:51Z</dcterms:modified>
  <cp:revision>41</cp:revision>
  <dc:subject/>
  <dc:title>[301] Variables and Expressions</dc:title>
</cp:coreProperties>
</file>