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A1FE-F314-48DF-B141-68CB68B95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BA22-4A0E-43FC-A847-B4A790BC7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5D30-25EC-468B-9A2F-AE2EAC64C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C3CD-D0E8-4B0F-99D9-4E17F0B0A3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7D7E-BFC0-43D4-9D90-CC27EBCC5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4480-FA6A-4548-BF5F-15D321DF6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7E39-2583-4B04-A952-7374332E0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C0F0-251D-414C-A2BE-7F023B04D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C2EE-BEA1-480B-B33C-6AA663B49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BE24-D618-47BE-8696-374A38955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24FA-4E12-45C4-943C-1AFD074FC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CBD2-C271-4B70-AA22-8EDD97ADA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C50930-1998-4F02-9267-02DA00D14A2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10T09:05:24Z</dcterms:modified>
  <cp:revision>26</cp:revision>
  <dc:subject/>
  <dc:title>[220] Conditionals</dc:title>
</cp:coreProperties>
</file>