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14150-5F9D-4B45-AE0B-85D03F8FA2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A6BD5-90DB-43C9-9C33-E1DC82C5D1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8E9B7-1C6C-4665-A625-B161568DCB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DA866-3F5E-4561-9A1C-C503F985ECD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A51E6-DA04-4463-8514-825AA2A3E9B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D09C5-9D5E-496D-9076-3791B61D50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373BA-2600-4961-BA14-64B2CCA8BC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4CD53-216E-481E-B4A1-917BA253D7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8838E-1F82-4182-AAB5-25FDE6BECB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2C434-837C-45DE-AABB-BDCCD28339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9F50F-2F1B-460E-90DC-9D89CA5ECD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E122A-879D-4114-9407-5C790954C9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B93487B-F0F4-4298-B4CA-023FCC85BE98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201924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Function Scope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625760" y="5540400"/>
            <a:ext cx="104644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737280" y="8016120"/>
            <a:ext cx="6243840" cy="10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Parts of Chapter 3 of Think Python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9E7532C-7D59-4165-BDD8-9D6A3B85EB6B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8" name="Picture 7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79" name="Text Box 3"/>
          <p:cNvSpPr/>
          <p:nvPr/>
        </p:nvSpPr>
        <p:spPr>
          <a:xfrm>
            <a:off x="5582880" y="4871520"/>
            <a:ext cx="623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s220 and cs319 will be in the global fr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6123D3F-20DC-4CD0-A33A-BCA80B46A1A1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2" name="Picture 14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5582880" y="4871520"/>
            <a:ext cx="623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s220 and cs319 will be in the global fr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9026280" y="1900800"/>
            <a:ext cx="40629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wo frames will exist dur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e time we’re execut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rint_twi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Line 5"/>
          <p:cNvSpPr/>
          <p:nvPr/>
        </p:nvSpPr>
        <p:spPr>
          <a:xfrm flipH="1" flipV="1">
            <a:off x="7691400" y="1916280"/>
            <a:ext cx="1427040" cy="33624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Line 6"/>
          <p:cNvSpPr/>
          <p:nvPr/>
        </p:nvSpPr>
        <p:spPr>
          <a:xfrm flipH="1">
            <a:off x="7800480" y="2878200"/>
            <a:ext cx="1427400" cy="64620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FBBAFCA-22FA-45EF-9E59-17636813462A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9" name="Picture 15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90" name="Text Box 3"/>
          <p:cNvSpPr/>
          <p:nvPr/>
        </p:nvSpPr>
        <p:spPr>
          <a:xfrm>
            <a:off x="5582880" y="4871520"/>
            <a:ext cx="623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s220 and cs319 will be in the global fr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9026280" y="1900800"/>
            <a:ext cx="40629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wo frames will exist dur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e time we’re execut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rint_twi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Line 6"/>
          <p:cNvSpPr/>
          <p:nvPr/>
        </p:nvSpPr>
        <p:spPr>
          <a:xfrm flipH="1">
            <a:off x="7800480" y="2878200"/>
            <a:ext cx="1427400" cy="64620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312480" y="6385680"/>
            <a:ext cx="50886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you don’t generally see or interac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th frames when programming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ut it’s an important mental mode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Line 5"/>
          <p:cNvSpPr/>
          <p:nvPr/>
        </p:nvSpPr>
        <p:spPr>
          <a:xfrm flipH="1" flipV="1">
            <a:off x="7691400" y="1916280"/>
            <a:ext cx="1427040" cy="33624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DBC14A1-07B1-44E5-BEF9-EA6920D6CBD0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97" name="Picture 9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98" name="Text Box 4"/>
          <p:cNvSpPr/>
          <p:nvPr/>
        </p:nvSpPr>
        <p:spPr>
          <a:xfrm>
            <a:off x="6920280" y="5473080"/>
            <a:ext cx="5344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is code can acces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line1, line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7899480" y="2915280"/>
            <a:ext cx="5130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 acces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cs220, cs319, text1, text2, combined_tex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5562000" y="1920960"/>
            <a:ext cx="5068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 acces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cs220, cs319, tex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3477240" y="7349040"/>
            <a:ext cx="60411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call the variables that can currently b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ccessed “in scope” and variables th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not be “out of scop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3192531-8C4E-4420-943B-8E62EB1FF707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B977D99-B42D-44C3-88C2-1787E2736C6D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05" name="Picture 11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106" name="Line 6"/>
          <p:cNvSpPr/>
          <p:nvPr/>
        </p:nvSpPr>
        <p:spPr>
          <a:xfrm flipV="1">
            <a:off x="6486480" y="3581280"/>
            <a:ext cx="666720" cy="2068560"/>
          </a:xfrm>
          <a:prstGeom prst="line">
            <a:avLst/>
          </a:prstGeom>
          <a:ln w="507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Line 7"/>
          <p:cNvSpPr/>
          <p:nvPr/>
        </p:nvSpPr>
        <p:spPr>
          <a:xfrm flipV="1">
            <a:off x="5164200" y="3581280"/>
            <a:ext cx="666720" cy="2068560"/>
          </a:xfrm>
          <a:prstGeom prst="line">
            <a:avLst/>
          </a:prstGeom>
          <a:ln w="507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6831720" y="4536360"/>
            <a:ext cx="5489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rguments are copied to parameter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is is called “pass by valu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22440" y="254160"/>
            <a:ext cx="1258560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 (PythonTutor)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0" name="Text Box 11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5737969-124E-4F84-A01C-C28DA898DD90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11" name="Picture 1" descr=""/>
          <p:cNvPicPr/>
          <p:nvPr/>
        </p:nvPicPr>
        <p:blipFill>
          <a:blip r:embed="rId1"/>
          <a:stretch/>
        </p:blipFill>
        <p:spPr>
          <a:xfrm>
            <a:off x="1589040" y="1752480"/>
            <a:ext cx="9825120" cy="661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A322540-F879-4470-98BB-EF7863A27F8E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D88F91E-F3F1-408E-9BCB-E58FABFF9A90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Box 12"/>
          <p:cNvSpPr/>
          <p:nvPr/>
        </p:nvSpPr>
        <p:spPr>
          <a:xfrm>
            <a:off x="2616120" y="1828800"/>
            <a:ext cx="650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print_twice(text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text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text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concatenate_str(text1, text2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ombined_text = text1 + text2 # concatena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_twice(combined_text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s220 = "Hello CS220"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s319 = " / CS319"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oncatenate_str(cs220, cs319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3687120" y="6954120"/>
            <a:ext cx="6028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Try this example yourself using PythonTuto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AutoShape 3"/>
          <p:cNvSpPr/>
          <p:nvPr/>
        </p:nvSpPr>
        <p:spPr>
          <a:xfrm>
            <a:off x="4838760" y="326700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B211D3D-2FA6-4C1A-8FBB-7DDE0B0CAE4D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1512720" y="6544080"/>
            <a:ext cx="9970200" cy="74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ee220c"/>
                </a:solidFill>
                <a:latin typeface="Gill Sans"/>
              </a:rPr>
              <a:t>Let's do some examples in PythonTutor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2950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set_x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0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405000" y="6254640"/>
            <a:ext cx="7862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1: functions don't execute unless they're call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156341D-62D6-4278-A14C-55C451A89B66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2950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set_x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0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et_x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286560" y="6254640"/>
            <a:ext cx="9526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2: variables created in a function die after function return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BDF3914-0EBB-49C4-8723-F818DEB34BEE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arning Objectives Toda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xplain rules of scope of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local variables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n a function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en are they creat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en are they destroy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at parts of a program have access to them? (frames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Understand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can they be used and modified within a function?(global keyword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ere are they stored? (global fram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at parts of a program have access to them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can they be mis-represented as local variab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xplain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ass by value”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73D9E20-70F2-46B0-A536-8DCDB331ECD6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9016920" y="5205240"/>
            <a:ext cx="3784680" cy="13338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46" name="AutoShape 5"/>
          <p:cNvSpPr/>
          <p:nvPr/>
        </p:nvSpPr>
        <p:spPr>
          <a:xfrm rot="10800000">
            <a:off x="11150640" y="5913000"/>
            <a:ext cx="745920" cy="7462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8592480" y="6960600"/>
            <a:ext cx="4454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don't memorize the examples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learn the rules of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8464320" y="8078400"/>
            <a:ext cx="47124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sample question: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why did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do this thing I didn't expec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at this specific line (ask us!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4589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count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+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unt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unt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unt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262080" y="6254640"/>
            <a:ext cx="9566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3: variables start fresh every time a function is called agai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DBB99F2-5D67-450B-9EAB-9666CB829539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4356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display_x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main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0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_x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ain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952560" y="5944680"/>
            <a:ext cx="114901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4: you can't see the variables of other function invocations, even those that call you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3A600A0-CCD3-4584-86A0-3AB043DF1862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AutoShape 3"/>
          <p:cNvSpPr/>
          <p:nvPr/>
        </p:nvSpPr>
        <p:spPr>
          <a:xfrm>
            <a:off x="5079960" y="4287960"/>
            <a:ext cx="1176480" cy="1176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9C11011-2981-423F-9A6E-7DA1067B1DFE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4916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 # global, outside any fun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952560" y="7210440"/>
            <a:ext cx="105966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5: you can generally just </a:t>
            </a:r>
            <a:r>
              <a:rPr b="1" lang="en-US" sz="2400" spc="-1" strike="noStrike">
                <a:solidFill>
                  <a:srgbClr val="1db100"/>
                </a:solidFill>
                <a:latin typeface="Gill Sans"/>
              </a:rPr>
              <a:t>use</a:t>
            </a: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global variables inside a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91DF5C1-498F-44DE-9F75-161293FED32E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478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welcome!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greeting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952560" y="7210440"/>
            <a:ext cx="117871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6: if you do an assignment to a variable in a function, Python assumes you want it loc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9B99A5B-4B7E-4AFA-9D7D-E3AE4A40AD25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543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greeting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welcome!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952560" y="7210440"/>
            <a:ext cx="114044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7: assignment to a variable should be before its use in a function, even if there'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</a:t>
            </a: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a global variable with the same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213B29D-773F-4A59-B4DD-57D88A8AD403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36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lobal ms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greeting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welcome!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952560" y="7210440"/>
            <a:ext cx="11404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8: use a global declaration to prevent Python from creating a</a:t>
            </a:r>
            <a:br>
              <a:rPr sz="2400"/>
            </a:b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 local variable when you want a global variabl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77AD823-C0A8-479F-B8CB-4CD8DD963A53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AutoShape 3"/>
          <p:cNvSpPr/>
          <p:nvPr/>
        </p:nvSpPr>
        <p:spPr>
          <a:xfrm>
            <a:off x="6032520" y="545148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F05298F-DEB6-43AC-A42A-69032A05432F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Argument Passing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36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'B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inside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val = 'A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val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(val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val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952560" y="7210440"/>
            <a:ext cx="11404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9: in Python, arguments are "passed by value", meaning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</a:t>
            </a: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reassignments to a parameter don't change the argument outsi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D774A7D-6062-48A6-8C74-1EE756B6882C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Argument Passing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36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'A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'B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inside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952560" y="7210440"/>
            <a:ext cx="11404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10: it's irrelevant whether the argument (outside) and</a:t>
            </a:r>
            <a:br>
              <a:rPr sz="2400"/>
            </a:b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  parameter (inside) have the same variable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BAF0864-E5F6-4177-931D-5696D064C589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127080" indent="-8892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AutoShape 3"/>
          <p:cNvSpPr/>
          <p:nvPr/>
        </p:nvSpPr>
        <p:spPr>
          <a:xfrm>
            <a:off x="3568680" y="151452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BC2E25E-8BAB-42A6-91F7-88A2EE374FAE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 Summar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1" name="Text Box 2"/>
          <p:cNvSpPr/>
          <p:nvPr/>
        </p:nvSpPr>
        <p:spPr>
          <a:xfrm>
            <a:off x="888840" y="1393920"/>
            <a:ext cx="11641320" cy="78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1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functions don't execute unless they're called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2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variables created in a function die after function returns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3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variables start fresh every time a function is called again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4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you can't see the variables of other function invocations, even those that call you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5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you can generally just </a:t>
            </a: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use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global variables inside a function 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6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if you do an assignment to a variable in a function, Python assumes you want it local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7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assignment to a variable should be before its use in a function, even if there's a a global variable with the same name 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8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use a global declaration to prevent Python from creating a local variable when you want a global variable 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cb297b"/>
                </a:solidFill>
                <a:latin typeface="Gill Sans"/>
              </a:rPr>
              <a:t>Lesson 9:</a:t>
            </a:r>
            <a:r>
              <a:rPr b="0" lang="en-US" sz="2100" spc="-1" strike="noStrike">
                <a:solidFill>
                  <a:srgbClr val="cb297b"/>
                </a:solidFill>
                <a:latin typeface="Gill Sans"/>
              </a:rPr>
              <a:t> in Python, arguments are "passed by value", meaning reassignments to a parameter don't change the argument outside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cb297b"/>
                </a:solidFill>
                <a:latin typeface="Gill Sans"/>
              </a:rPr>
              <a:t>Lesson 10:</a:t>
            </a:r>
            <a:r>
              <a:rPr b="0" lang="en-US" sz="2100" spc="-1" strike="noStrike">
                <a:solidFill>
                  <a:srgbClr val="cb297b"/>
                </a:solidFill>
                <a:latin typeface="Gill Sans"/>
              </a:rPr>
              <a:t> it's irrelevant whether the argument (outside) and parameter (inside) have the same variable name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BA835A7-D2D7-41DC-AB89-A5860DC230F8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Text Box 4"/>
          <p:cNvSpPr/>
          <p:nvPr/>
        </p:nvSpPr>
        <p:spPr>
          <a:xfrm rot="16200000">
            <a:off x="-81720" y="2406600"/>
            <a:ext cx="897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Loc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Text Box 5"/>
          <p:cNvSpPr/>
          <p:nvPr/>
        </p:nvSpPr>
        <p:spPr>
          <a:xfrm rot="16200000">
            <a:off x="-170640" y="5175360"/>
            <a:ext cx="1076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lob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Text Box 6"/>
          <p:cNvSpPr/>
          <p:nvPr/>
        </p:nvSpPr>
        <p:spPr>
          <a:xfrm rot="16200000">
            <a:off x="-573840" y="7969320"/>
            <a:ext cx="18824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ntex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284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ften (in life and programming), the same name can mean different things in different contex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amp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uman name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Michael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o is in the room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eet addres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534 State Stree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at cit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le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test.py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(which director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E9A1F8E-009E-48E0-83B0-97119D94F2CE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ntex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ften (in life and programming), the same name can mean different things in different contex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amp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uman name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Michael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o is in the room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eet addres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534 State Stree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at cit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le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test.py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(which director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ur code often have different variables with the same na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eep variable names organiz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now what a variable name is referring to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AFD1783-2DAC-402A-8AB5-BE9D42D7BB81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ntex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ften (in life and programming), the same name can mean different things in different contex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amp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uman name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Michael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o is in the room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eet addres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534 State Stree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at cit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le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test.py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ich director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ur code often have different variables with the same na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eep variable names organiz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now what a variable name is referring to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7982640" y="5329080"/>
            <a:ext cx="4038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th groups called “frames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9508680" y="5806440"/>
            <a:ext cx="2409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’ll learn so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rules for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B26380A-4E6D-47D7-B31F-4D05769B5F82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AutoShape 3"/>
          <p:cNvSpPr/>
          <p:nvPr/>
        </p:nvSpPr>
        <p:spPr>
          <a:xfrm>
            <a:off x="2603520" y="231444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5265FD8-DC01-4943-9900-BEAC7BAA1256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Fram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very time a function is invoked (i.e., called), the invocation gets a new “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fram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” for hold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parameters also exist in a fram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Global fra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re is always one global frame that all functions can acces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hen a variable name is used, Python looks two places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function invocation’s fram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global fram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Oval 3"/>
          <p:cNvSpPr/>
          <p:nvPr/>
        </p:nvSpPr>
        <p:spPr>
          <a:xfrm>
            <a:off x="1125360" y="5448240"/>
            <a:ext cx="75600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Oval 4"/>
          <p:cNvSpPr/>
          <p:nvPr/>
        </p:nvSpPr>
        <p:spPr>
          <a:xfrm>
            <a:off x="1125360" y="6342120"/>
            <a:ext cx="756000" cy="75564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2DEDB26-4DBA-49C4-B9E4-A6F050EEFC59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DDE8FE5-DF18-4CCF-B31A-ACE37F22327F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2-12-23T08:05:52Z</dcterms:modified>
  <cp:revision>53</cp:revision>
  <dc:subject/>
  <dc:title>[220] Function Scope</dc:title>
</cp:coreProperties>
</file>