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8389F-69AD-46E6-AA8B-D502855BE2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04563-25E8-4145-9B54-551E30A05F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2D542-73F0-4485-8C0F-D2B602116C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791B0-290F-4C8C-AA4F-AA73060579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21D31-A0C5-418D-8326-B1D91CD7B1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2D100-737E-4A37-8BDE-410A5130F1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08DF2-F8D8-4FA7-87E8-0512FD4EE0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C69C0-86E7-44BB-95E7-E020F08363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54A12-B17F-4016-BAEB-E263E7C8F3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FC6E1-408B-42E2-B3DB-7EC8990A13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014F7-EFDB-46F5-A475-C675FC90B2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3A95B-3353-4D3B-8DF9-0E85FE7C13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47EC709-8936-4A4C-9A32-0B00CAC36E9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Calibri"/>
                <a:ea typeface="Gill Sans"/>
              </a:rPr>
              <a:t>Creating Funct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7280" y="7559280"/>
            <a:ext cx="7684200" cy="19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5 to 5.8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reating Fruitful Functions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5450040" y="2290680"/>
            <a:ext cx="1382400" cy="86544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5450040" y="4211640"/>
            <a:ext cx="314928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1605600" y="6828840"/>
            <a:ext cx="9792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start a function definition with “def” (short for definition)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nd use a colon (“:”) instead of an equal sign (“=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Oval 9"/>
          <p:cNvSpPr/>
          <p:nvPr/>
        </p:nvSpPr>
        <p:spPr>
          <a:xfrm>
            <a:off x="128268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6730920" y="2284560"/>
            <a:ext cx="71928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6415200" y="4935600"/>
            <a:ext cx="438948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337920" y="6828840"/>
            <a:ext cx="6327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put the “return” keyword befo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expression associated with the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Oval 9"/>
          <p:cNvSpPr/>
          <p:nvPr/>
        </p:nvSpPr>
        <p:spPr>
          <a:xfrm>
            <a:off x="282420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5551560" y="4948200"/>
            <a:ext cx="100656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211560" y="6982200"/>
            <a:ext cx="765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indent (tab space) before the statement(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Oval 8"/>
          <p:cNvSpPr/>
          <p:nvPr/>
        </p:nvSpPr>
        <p:spPr>
          <a:xfrm>
            <a:off x="293364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5550480" y="4276800"/>
            <a:ext cx="6937560" cy="1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def g(r):</a:t>
            </a:r>
            <a:endParaRPr b="1" lang="en-US" sz="39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return 3.14 * r ** 2</a:t>
            </a:r>
            <a:endParaRPr b="1" lang="en-US" sz="3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859920" y="7010280"/>
            <a:ext cx="5283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mputing the area from the radi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Oval 7"/>
          <p:cNvSpPr/>
          <p:nvPr/>
        </p:nvSpPr>
        <p:spPr>
          <a:xfrm>
            <a:off x="326376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5550480" y="4276800"/>
            <a:ext cx="6929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et_area(radius)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3.14 * radius **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109880" y="7010280"/>
            <a:ext cx="1078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it’s common to have longer names for functions an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Oval 7"/>
          <p:cNvSpPr/>
          <p:nvPr/>
        </p:nvSpPr>
        <p:spPr>
          <a:xfrm>
            <a:off x="105408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5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550480" y="4276800"/>
            <a:ext cx="692964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et_area(diameter)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adius = diameter /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3.14 * radius **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715400" y="7010280"/>
            <a:ext cx="957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t’s also common to have more than one line of code (all indented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Oval 7"/>
          <p:cNvSpPr/>
          <p:nvPr/>
        </p:nvSpPr>
        <p:spPr>
          <a:xfrm>
            <a:off x="140976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6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175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t’s implement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5354640" y="3375000"/>
            <a:ext cx="229392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nlo"/>
              </a:rPr>
              <a:t>cube(side)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129480" y="4689720"/>
            <a:ext cx="674388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nlo"/>
              </a:rPr>
              <a:t>is_between(lower, num, upper)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575960" y="6473160"/>
            <a:ext cx="4273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jupyter / PythonTutor demos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99, 100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???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???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Oval 8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5" name="AutoShape 10"/>
          <p:cNvSpPr/>
          <p:nvPr/>
        </p:nvSpPr>
        <p:spPr>
          <a:xfrm>
            <a:off x="1212840" y="2851200"/>
            <a:ext cx="3962520" cy="113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46" y="0"/>
                </a:moveTo>
                <a:cubicBezTo>
                  <a:pt x="155" y="0"/>
                  <a:pt x="0" y="543"/>
                  <a:pt x="0" y="1213"/>
                </a:cubicBezTo>
                <a:lnTo>
                  <a:pt x="0" y="20387"/>
                </a:lnTo>
                <a:cubicBezTo>
                  <a:pt x="0" y="21057"/>
                  <a:pt x="155" y="21600"/>
                  <a:pt x="346" y="21600"/>
                </a:cubicBezTo>
                <a:lnTo>
                  <a:pt x="8313" y="21600"/>
                </a:lnTo>
                <a:cubicBezTo>
                  <a:pt x="8504" y="21600"/>
                  <a:pt x="8659" y="21057"/>
                  <a:pt x="8659" y="20387"/>
                </a:cubicBezTo>
                <a:lnTo>
                  <a:pt x="8659" y="13606"/>
                </a:lnTo>
                <a:lnTo>
                  <a:pt x="21600" y="11179"/>
                </a:lnTo>
                <a:lnTo>
                  <a:pt x="8659" y="8752"/>
                </a:lnTo>
                <a:lnTo>
                  <a:pt x="8659" y="1213"/>
                </a:lnTo>
                <a:cubicBezTo>
                  <a:pt x="8659" y="543"/>
                  <a:pt x="8504" y="0"/>
                  <a:pt x="8313" y="0"/>
                </a:cubicBezTo>
                <a:lnTo>
                  <a:pt x="346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274720" y="2817000"/>
            <a:ext cx="47397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actual code, but imag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arameters as variables that a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utomatically initialized for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5007240" y="1912680"/>
            <a:ext cx="298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declar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5071320" y="4895640"/>
            <a:ext cx="2860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invoc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Line 14"/>
          <p:cNvSpPr/>
          <p:nvPr/>
        </p:nvSpPr>
        <p:spPr>
          <a:xfrm flipH="1">
            <a:off x="4130280" y="2195640"/>
            <a:ext cx="909720" cy="37620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Line 15"/>
          <p:cNvSpPr/>
          <p:nvPr/>
        </p:nvSpPr>
        <p:spPr>
          <a:xfrm flipH="1">
            <a:off x="3267000" y="5164200"/>
            <a:ext cx="1859040" cy="41436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Oval 10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Text Box 17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Oval 18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Oval 19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Text Box 20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3" name="Line 22"/>
          <p:cNvSpPr/>
          <p:nvPr/>
        </p:nvSpPr>
        <p:spPr>
          <a:xfrm>
            <a:off x="520560" y="7805880"/>
            <a:ext cx="80917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the syntax of a function header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ef, ( ), :, tabbing, retur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 function with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rrect header and indent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return value (fruitful function) or without (void functio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rameters that have default valu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 function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nowing difference in outcomes of print and return statemen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termine result of function calls with 3 types of argument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ositional, keyword, and defaul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race function invocations, to determine control flo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876312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18"/>
          <p:cNvSpPr/>
          <p:nvPr/>
        </p:nvSpPr>
        <p:spPr>
          <a:xfrm>
            <a:off x="906948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9069480" y="5301720"/>
            <a:ext cx="138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953820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Rectangle 21"/>
          <p:cNvSpPr/>
          <p:nvPr/>
        </p:nvSpPr>
        <p:spPr>
          <a:xfrm>
            <a:off x="1013472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Rectangle 22"/>
          <p:cNvSpPr/>
          <p:nvPr/>
        </p:nvSpPr>
        <p:spPr>
          <a:xfrm>
            <a:off x="1013472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-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AutoShape 23"/>
          <p:cNvSpPr/>
          <p:nvPr/>
        </p:nvSpPr>
        <p:spPr>
          <a:xfrm>
            <a:off x="9769320" y="3198960"/>
            <a:ext cx="47808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AutoShape 24"/>
          <p:cNvSpPr/>
          <p:nvPr/>
        </p:nvSpPr>
        <p:spPr>
          <a:xfrm>
            <a:off x="10787040" y="2793960"/>
            <a:ext cx="914400" cy="88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772" y="13806"/>
                  <a:pt x="9572" y="21006"/>
                  <a:pt x="0" y="2160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25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Oval 26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Oval 27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Oval 28"/>
          <p:cNvSpPr/>
          <p:nvPr/>
        </p:nvSpPr>
        <p:spPr>
          <a:xfrm>
            <a:off x="8756640" y="6540480"/>
            <a:ext cx="754200" cy="75564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29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Text Box 30"/>
          <p:cNvSpPr/>
          <p:nvPr/>
        </p:nvSpPr>
        <p:spPr>
          <a:xfrm>
            <a:off x="9567360" y="6684840"/>
            <a:ext cx="277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5" name="Line 32"/>
          <p:cNvSpPr/>
          <p:nvPr/>
        </p:nvSpPr>
        <p:spPr>
          <a:xfrm>
            <a:off x="520560" y="7805880"/>
            <a:ext cx="115603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33"/>
          <p:cNvSpPr/>
          <p:nvPr/>
        </p:nvSpPr>
        <p:spPr>
          <a:xfrm>
            <a:off x="1639440" y="8316720"/>
            <a:ext cx="9724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common pitfall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confusing keyword arguments and 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Rectangle 17"/>
          <p:cNvSpPr/>
          <p:nvPr/>
        </p:nvSpPr>
        <p:spPr>
          <a:xfrm>
            <a:off x="876312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Text Box 18"/>
          <p:cNvSpPr/>
          <p:nvPr/>
        </p:nvSpPr>
        <p:spPr>
          <a:xfrm>
            <a:off x="906948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Text Box 19"/>
          <p:cNvSpPr/>
          <p:nvPr/>
        </p:nvSpPr>
        <p:spPr>
          <a:xfrm>
            <a:off x="9069480" y="5301720"/>
            <a:ext cx="138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Text Box 20"/>
          <p:cNvSpPr/>
          <p:nvPr/>
        </p:nvSpPr>
        <p:spPr>
          <a:xfrm>
            <a:off x="953820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Rectangle 21"/>
          <p:cNvSpPr/>
          <p:nvPr/>
        </p:nvSpPr>
        <p:spPr>
          <a:xfrm>
            <a:off x="1013472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Rectangle 22"/>
          <p:cNvSpPr/>
          <p:nvPr/>
        </p:nvSpPr>
        <p:spPr>
          <a:xfrm>
            <a:off x="1013472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-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AutoShape 23"/>
          <p:cNvSpPr/>
          <p:nvPr/>
        </p:nvSpPr>
        <p:spPr>
          <a:xfrm>
            <a:off x="9769320" y="3198960"/>
            <a:ext cx="47808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AutoShape 24"/>
          <p:cNvSpPr/>
          <p:nvPr/>
        </p:nvSpPr>
        <p:spPr>
          <a:xfrm>
            <a:off x="10787040" y="2793960"/>
            <a:ext cx="914400" cy="88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772" y="13806"/>
                  <a:pt x="9572" y="21006"/>
                  <a:pt x="0" y="2160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Text Box 25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Oval 26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Oval 27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Oval 28"/>
          <p:cNvSpPr/>
          <p:nvPr/>
        </p:nvSpPr>
        <p:spPr>
          <a:xfrm>
            <a:off x="8756640" y="6540480"/>
            <a:ext cx="754200" cy="75564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Text Box 29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30"/>
          <p:cNvSpPr/>
          <p:nvPr/>
        </p:nvSpPr>
        <p:spPr>
          <a:xfrm>
            <a:off x="9567360" y="6684840"/>
            <a:ext cx="277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8" name="Line 32"/>
          <p:cNvSpPr/>
          <p:nvPr/>
        </p:nvSpPr>
        <p:spPr>
          <a:xfrm>
            <a:off x="520560" y="7805880"/>
            <a:ext cx="115603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Text Box 33"/>
          <p:cNvSpPr/>
          <p:nvPr/>
        </p:nvSpPr>
        <p:spPr>
          <a:xfrm>
            <a:off x="5063760" y="8316720"/>
            <a:ext cx="28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orksheet practice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175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Generating grid for game like Battleship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2419920" y="7454160"/>
            <a:ext cx="84553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enlo"/>
              </a:rPr>
              <a:t>get_grid(width, height, symb = ‘#’, title = ‘</a:t>
            </a: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Grid:</a:t>
            </a:r>
            <a:r>
              <a:rPr b="0" lang="en-US" sz="3000" spc="-1" strike="noStrike">
                <a:solidFill>
                  <a:srgbClr val="000000"/>
                </a:solidFill>
                <a:latin typeface="Menlo"/>
              </a:rPr>
              <a:t>’)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5078880" y="8257680"/>
            <a:ext cx="2846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PythonTutor demo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TextBox 9"/>
          <p:cNvSpPr/>
          <p:nvPr/>
        </p:nvSpPr>
        <p:spPr>
          <a:xfrm>
            <a:off x="4140360" y="2687760"/>
            <a:ext cx="2361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ri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7112160" y="4161960"/>
            <a:ext cx="1603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0 x 8 gri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AutoShape 8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AutoShape 4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12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AutoShape 13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Text Box 15"/>
          <p:cNvSpPr/>
          <p:nvPr/>
        </p:nvSpPr>
        <p:spPr>
          <a:xfrm>
            <a:off x="3555720" y="8635680"/>
            <a:ext cx="5727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e could call print from multiple plac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Text Box 12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AutoShape 13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Rectangle 15"/>
          <p:cNvSpPr/>
          <p:nvPr/>
        </p:nvSpPr>
        <p:spPr>
          <a:xfrm>
            <a:off x="7075440" y="2590920"/>
            <a:ext cx="1623960" cy="5810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AutoShape 1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AutoShape 3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AutoShape 4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AutoShape 5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AutoShape 6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8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AutoShape 10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11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AutoShape 12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13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Rectangle 15"/>
          <p:cNvSpPr/>
          <p:nvPr/>
        </p:nvSpPr>
        <p:spPr>
          <a:xfrm>
            <a:off x="5248440" y="5600880"/>
            <a:ext cx="162396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Text Box 16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AutoShape 1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7318440" y="6726240"/>
            <a:ext cx="1519200" cy="13874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AutoShape 5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AutoShape 6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 Box 8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AutoShape 11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12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AutoShape 13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Text Box 14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Text Box 15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Rectangle 16"/>
          <p:cNvSpPr/>
          <p:nvPr/>
        </p:nvSpPr>
        <p:spPr>
          <a:xfrm>
            <a:off x="5248440" y="5600880"/>
            <a:ext cx="162396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AutoShape 17"/>
          <p:cNvSpPr/>
          <p:nvPr/>
        </p:nvSpPr>
        <p:spPr>
          <a:xfrm>
            <a:off x="7442280" y="6784920"/>
            <a:ext cx="1271520" cy="1268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4" y="0"/>
                </a:moveTo>
                <a:cubicBezTo>
                  <a:pt x="87" y="0"/>
                  <a:pt x="0" y="87"/>
                  <a:pt x="0" y="194"/>
                </a:cubicBezTo>
                <a:lnTo>
                  <a:pt x="0" y="21404"/>
                </a:lnTo>
                <a:cubicBezTo>
                  <a:pt x="0" y="21511"/>
                  <a:pt x="87" y="21600"/>
                  <a:pt x="194" y="21600"/>
                </a:cubicBezTo>
                <a:lnTo>
                  <a:pt x="21406" y="21600"/>
                </a:lnTo>
                <a:cubicBezTo>
                  <a:pt x="21513" y="21600"/>
                  <a:pt x="21600" y="21511"/>
                  <a:pt x="21600" y="21404"/>
                </a:cubicBezTo>
                <a:lnTo>
                  <a:pt x="21600" y="20822"/>
                </a:lnTo>
                <a:cubicBezTo>
                  <a:pt x="21600" y="20715"/>
                  <a:pt x="21513" y="20628"/>
                  <a:pt x="21406" y="20628"/>
                </a:cubicBezTo>
                <a:lnTo>
                  <a:pt x="1163" y="20628"/>
                </a:lnTo>
                <a:cubicBezTo>
                  <a:pt x="1056" y="20628"/>
                  <a:pt x="970" y="20539"/>
                  <a:pt x="970" y="20432"/>
                </a:cubicBezTo>
                <a:lnTo>
                  <a:pt x="970" y="194"/>
                </a:lnTo>
                <a:cubicBezTo>
                  <a:pt x="970" y="87"/>
                  <a:pt x="883" y="0"/>
                  <a:pt x="776" y="0"/>
                </a:cubicBezTo>
                <a:lnTo>
                  <a:pt x="194" y="0"/>
                </a:lnTo>
                <a:close/>
                <a:moveTo>
                  <a:pt x="16860" y="3004"/>
                </a:moveTo>
                <a:lnTo>
                  <a:pt x="16860" y="19065"/>
                </a:lnTo>
                <a:lnTo>
                  <a:pt x="19553" y="19065"/>
                </a:lnTo>
                <a:lnTo>
                  <a:pt x="19553" y="3004"/>
                </a:lnTo>
                <a:lnTo>
                  <a:pt x="16860" y="3004"/>
                </a:lnTo>
                <a:close/>
                <a:moveTo>
                  <a:pt x="7272" y="6922"/>
                </a:moveTo>
                <a:lnTo>
                  <a:pt x="7272" y="19065"/>
                </a:lnTo>
                <a:lnTo>
                  <a:pt x="9965" y="19065"/>
                </a:lnTo>
                <a:lnTo>
                  <a:pt x="9965" y="6922"/>
                </a:lnTo>
                <a:lnTo>
                  <a:pt x="7272" y="6922"/>
                </a:lnTo>
                <a:close/>
                <a:moveTo>
                  <a:pt x="12066" y="10127"/>
                </a:moveTo>
                <a:lnTo>
                  <a:pt x="12066" y="19065"/>
                </a:lnTo>
                <a:lnTo>
                  <a:pt x="14759" y="19065"/>
                </a:lnTo>
                <a:lnTo>
                  <a:pt x="14759" y="10127"/>
                </a:lnTo>
                <a:lnTo>
                  <a:pt x="12066" y="10127"/>
                </a:lnTo>
                <a:close/>
                <a:moveTo>
                  <a:pt x="2478" y="15151"/>
                </a:moveTo>
                <a:lnTo>
                  <a:pt x="2478" y="19065"/>
                </a:lnTo>
                <a:lnTo>
                  <a:pt x="5171" y="19065"/>
                </a:lnTo>
                <a:lnTo>
                  <a:pt x="5171" y="15151"/>
                </a:lnTo>
                <a:lnTo>
                  <a:pt x="2478" y="15151"/>
                </a:ln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18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AutoShape 1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>
              <a:alpha val="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AutoShape 3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AutoShape 4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5041440" y="4815360"/>
            <a:ext cx="8235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only get to answer once, then function stop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5791680" y="2296080"/>
            <a:ext cx="6492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function can print as much as it lik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13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41" name="Picture 14" descr=""/>
          <p:cNvPicPr/>
          <p:nvPr/>
        </p:nvPicPr>
        <p:blipFill>
          <a:blip r:embed="rId1"/>
          <a:stretch/>
        </p:blipFill>
        <p:spPr>
          <a:xfrm>
            <a:off x="6540480" y="5495760"/>
            <a:ext cx="3251160" cy="250200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15"/>
          <p:cNvSpPr/>
          <p:nvPr/>
        </p:nvSpPr>
        <p:spPr>
          <a:xfrm>
            <a:off x="5965560" y="8022600"/>
            <a:ext cx="43999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ill Sans"/>
              </a:rPr>
              <a:t>https://memegenerator.net/instance/56355449/millionaire-regis-is-that-your-final-answer</a:t>
            </a: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Text Box 16"/>
          <p:cNvSpPr/>
          <p:nvPr/>
        </p:nvSpPr>
        <p:spPr>
          <a:xfrm>
            <a:off x="10191600" y="6457320"/>
            <a:ext cx="148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bad_add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example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1"/>
          <p:cNvSpPr/>
          <p:nvPr/>
        </p:nvSpPr>
        <p:spPr>
          <a:xfrm>
            <a:off x="1473120" y="609480"/>
            <a:ext cx="11099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Interactive Examples with PythonTutor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Course website schedule page entry for “</a:t>
            </a: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Creating Functions</a:t>
            </a: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TextBox 7"/>
          <p:cNvSpPr/>
          <p:nvPr/>
        </p:nvSpPr>
        <p:spPr>
          <a:xfrm>
            <a:off x="2540160" y="2666880"/>
            <a:ext cx="6508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c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C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b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B1")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c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B2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a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A1")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b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A2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a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Text Box 1"/>
          <p:cNvSpPr/>
          <p:nvPr/>
        </p:nvSpPr>
        <p:spPr>
          <a:xfrm>
            <a:off x="5778360" y="4425840"/>
            <a:ext cx="36957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Let’s trace this exampl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3998520"/>
            <a:ext cx="11099880" cy="175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Where do </a:t>
            </a:r>
            <a:r>
              <a:rPr b="0" i="1" lang="en-US" sz="4800" spc="-1" strike="noStrike">
                <a:solidFill>
                  <a:srgbClr val="000000"/>
                </a:solidFill>
                <a:latin typeface="Gill Sans SemiBold"/>
              </a:rPr>
              <a:t>modules</a:t>
            </a:r>
            <a:r>
              <a:rPr b="0" i="1" lang="en-US" sz="48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 come from?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" name="Text Box 2"/>
          <p:cNvSpPr/>
          <p:nvPr/>
        </p:nvSpPr>
        <p:spPr>
          <a:xfrm>
            <a:off x="1536480" y="982800"/>
            <a:ext cx="444852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28760" indent="-28584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e-installe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e.g., math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qr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n(), co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,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tc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8597160" y="804960"/>
            <a:ext cx="194796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57200" indent="-30492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uilt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pu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in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en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tc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1221840" y="6977160"/>
            <a:ext cx="40240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380880" indent="-25380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talle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e.g., jupyter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p install jupy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p install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8991360" y="7067520"/>
            <a:ext cx="26949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28760" indent="-28584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usto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ject (lab-p3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Line 6"/>
          <p:cNvSpPr/>
          <p:nvPr/>
        </p:nvSpPr>
        <p:spPr>
          <a:xfrm flipV="1">
            <a:off x="8213760" y="2811240"/>
            <a:ext cx="1006560" cy="174276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Line 7"/>
          <p:cNvSpPr/>
          <p:nvPr/>
        </p:nvSpPr>
        <p:spPr>
          <a:xfrm>
            <a:off x="8442360" y="5456160"/>
            <a:ext cx="784080" cy="156528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Line 8"/>
          <p:cNvSpPr/>
          <p:nvPr/>
        </p:nvSpPr>
        <p:spPr>
          <a:xfrm flipH="1">
            <a:off x="4363560" y="5265720"/>
            <a:ext cx="1220760" cy="167796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Line 9"/>
          <p:cNvSpPr/>
          <p:nvPr/>
        </p:nvSpPr>
        <p:spPr>
          <a:xfrm flipH="1" flipV="1">
            <a:off x="3860640" y="2387160"/>
            <a:ext cx="1571760" cy="216684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28800" y="830376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naconda did these installations for 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1257480" y="3492360"/>
            <a:ext cx="9293040" cy="1619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577880" y="532368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how do we write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like move cod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ypes of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thin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ke “Move Cod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produce output with pri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change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produc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ilar to mathematical func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y might say a function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returns a valu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wney calls these functions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fruitful”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function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we’ll use this, but don’t expect people to generally be aware of this terminology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do both!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ypes of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thin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ke “Move Cod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produce output with pri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change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produc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ilar to mathematical func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y might say a function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returns a valu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wney calls these functions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fruitful”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function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we’ll use this, but don’t expect people to generally be aware of this terminology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do both!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047600" y="4395960"/>
            <a:ext cx="5640480" cy="48096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5450040" y="2284560"/>
            <a:ext cx="38556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6885000" y="4183200"/>
            <a:ext cx="38592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5025600" y="7010280"/>
            <a:ext cx="2952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name is “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5869080" y="2284560"/>
            <a:ext cx="29376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481880" y="4211640"/>
            <a:ext cx="38592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4539600" y="7010280"/>
            <a:ext cx="3924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t takes one parameter, “x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2-06T08:09:51Z</dcterms:modified>
  <cp:revision>47</cp:revision>
  <dc:subject/>
  <dc:title>[301] Creating Functions</dc:title>
</cp:coreProperties>
</file>