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32BDC-B96E-46D0-92B8-A9634A066B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8F808-9470-4719-A06D-32F15452D0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586C0-48EF-4CC1-9B06-C4B2EA914C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87701-D12F-413B-8BB2-AB25556950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15344-F5E2-42BB-9B9D-41998F1805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6B97F-43E1-4405-9290-969D4D74F9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15745-377D-45A8-AE22-98DD5061E7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42D44-9C0D-4DEC-B9BE-0E6CD2AF6E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C47BC-D359-425A-A0ED-A241975A86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46900-5C86-4007-BFDA-6F3E2F3374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9BDFB-C44A-4A33-A9BC-AD3DE58502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BF7B0-0DC5-4E3F-B5DD-65DC3AFB39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FD9918A-7576-48AA-8F3D-4571CDB4AAC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1" TargetMode="External"/><Relationship Id="rId2" Type="http://schemas.openxmlformats.org/officeDocument/2006/relationships/hyperlink" Target="https://www.python.org/dev/peps/pep-0008/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27340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Variables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and Express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3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880640" y="8244720"/>
            <a:ext cx="1481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Oval 137"/>
          <p:cNvSpPr/>
          <p:nvPr/>
        </p:nvSpPr>
        <p:spPr>
          <a:xfrm>
            <a:off x="9524880" y="3143160"/>
            <a:ext cx="435240" cy="4352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138"/>
          <p:cNvSpPr/>
          <p:nvPr/>
        </p:nvSpPr>
        <p:spPr>
          <a:xfrm>
            <a:off x="9334440" y="3816360"/>
            <a:ext cx="434880" cy="434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Oval 139"/>
          <p:cNvSpPr/>
          <p:nvPr/>
        </p:nvSpPr>
        <p:spPr>
          <a:xfrm>
            <a:off x="9516960" y="4586400"/>
            <a:ext cx="298440" cy="299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140"/>
          <p:cNvSpPr/>
          <p:nvPr/>
        </p:nvSpPr>
        <p:spPr>
          <a:xfrm>
            <a:off x="11048040" y="3769920"/>
            <a:ext cx="17787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0 - -2 // 3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37"/>
          <p:cNvSpPr/>
          <p:nvPr/>
        </p:nvSpPr>
        <p:spPr>
          <a:xfrm>
            <a:off x="1018440" y="8421120"/>
            <a:ext cx="70545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+1==2 or 3 ** 10000000 &gt; 2 ** 2000000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Oval 138"/>
          <p:cNvSpPr/>
          <p:nvPr/>
        </p:nvSpPr>
        <p:spPr>
          <a:xfrm>
            <a:off x="6108840" y="5632560"/>
            <a:ext cx="1628640" cy="24098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39"/>
          <p:cNvSpPr/>
          <p:nvPr/>
        </p:nvSpPr>
        <p:spPr>
          <a:xfrm>
            <a:off x="8644320" y="8111520"/>
            <a:ext cx="2648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logical operato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"short circuit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78105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024280" y="7728480"/>
            <a:ext cx="895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ach of these operands is an example of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liter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a fixed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119844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46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 expressions by identifying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perators and operan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teral values and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order of oper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rrect Boolean express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aining Boolean operators “or” and “and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ssignment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 variables following proper naming ru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fine, give examples of, and identify 3 kinds of erro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, runtime, and semanti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de to perform computations wit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ing, and bool typ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849120" y="8692920"/>
            <a:ext cx="5305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do we put a value in a variabl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-6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5168880" y="16923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2255760" y="5126040"/>
            <a:ext cx="1176480" cy="48564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723960" y="5975280"/>
            <a:ext cx="3052800" cy="6224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487160" y="6838560"/>
            <a:ext cx="1367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5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2279520" y="330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504180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2" name="Oval 2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Oval 3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464840" y="1760040"/>
            <a:ext cx="65563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dog cat the of chase an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word soup, not grammatically sensible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309320" y="4008240"/>
            <a:ext cx="88560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this sentence is fals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but my head explodes if I think about i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501920" y="6129000"/>
            <a:ext cx="62438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one week is 10 days long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coherent, but incorrec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5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803240" y="1041480"/>
            <a:ext cx="11074680" cy="727704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492640" y="4003200"/>
            <a:ext cx="9694440" cy="83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ee220c"/>
                </a:solidFill>
                <a:latin typeface="Gill Sans"/>
              </a:rPr>
              <a:t>what kind of error is the worst?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2400480" y="5286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in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080800" y="3200400"/>
            <a:ext cx="2845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onds = 1234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38320" y="5855760"/>
            <a:ext cx="595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 out hours, minutes, and seconds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floa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822960" y="2457360"/>
            <a:ext cx="55566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mpound growth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start with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ry year it grows by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7%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wait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30 yea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much do you have at the en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611440" y="5501880"/>
            <a:ext cx="2066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0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1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7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2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string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2508480" y="2156400"/>
            <a:ext cx="5136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isually compare two score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ice has 10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b has 8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776320" y="4173120"/>
            <a:ext cx="247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sired 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42560" y="487908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bob: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389000" y="675864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b:  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4641840" y="5818320"/>
            <a:ext cx="2468520" cy="142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7251" y="20894"/>
                  <a:pt x="51" y="13694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3678120" y="6941880"/>
            <a:ext cx="1748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n bet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bool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2831040" y="2262600"/>
            <a:ext cx="6922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ounds check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 the value between 0 and 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838440" y="4847400"/>
            <a:ext cx="412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7605000" y="4847400"/>
            <a:ext cx="4308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7391520" y="2900520"/>
            <a:ext cx="174924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Line 6"/>
          <p:cNvSpPr/>
          <p:nvPr/>
        </p:nvSpPr>
        <p:spPr>
          <a:xfrm flipH="1">
            <a:off x="3708360" y="2900520"/>
            <a:ext cx="174960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3760200" y="3552480"/>
            <a:ext cx="631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8478360" y="3552480"/>
            <a:ext cx="59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4051440" y="62643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hat Variable Names are Allowed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1800" y="1628640"/>
            <a:ext cx="11099880" cy="450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6000"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1st_scor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ba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ore_1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goo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not a recommende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_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recommende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urrent rules are quite complex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lease don’t use camel case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2"/>
              </a:rPr>
              <a:t>https://www.python.org/dev/peps/pep-0008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9300"/>
                </a:solidFill>
                <a:latin typeface="Gill Sans"/>
              </a:rPr>
              <a:t>Python 3 has become friendlier to non-English programm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2840040" y="8583480"/>
            <a:ext cx="268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00"/>
                <a:tab algn="l" pos="25560"/>
                <a:tab algn="l" pos="38160"/>
                <a:tab algn="l" pos="50760"/>
                <a:tab algn="l" pos="63360"/>
                <a:tab algn="l" pos="76320"/>
                <a:tab algn="l" pos="88920"/>
                <a:tab algn="l" pos="101520"/>
                <a:tab algn="l" pos="114480"/>
                <a:tab algn="l" pos="127080"/>
                <a:tab algn="l" pos="139680"/>
                <a:tab algn="l" pos="152280"/>
                <a:tab algn="l" pos="165240"/>
                <a:tab algn="l" pos="177840"/>
                <a:tab algn="l" pos="190440"/>
                <a:tab algn="l" pos="203040"/>
                <a:tab algn="l" pos="216000"/>
                <a:tab algn="l" pos="228600"/>
                <a:tab algn="l" pos="241200"/>
                <a:tab algn="l" pos="254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quero_café =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7038360" y="8400240"/>
            <a:ext cx="2831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this is allowed, 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ifferent than "e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cxnSp>
        <p:nvCxnSpPr>
          <p:cNvPr id="277" name="Straight Arrow Connector 2"/>
          <p:cNvCxnSpPr>
            <a:stCxn id="276" idx="1"/>
            <a:endCxn id="275" idx="3"/>
          </p:cNvCxnSpPr>
          <p:nvPr/>
        </p:nvCxnSpPr>
        <p:spPr>
          <a:xfrm flipH="1">
            <a:off x="5797080" y="8816760"/>
            <a:ext cx="14104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9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058760" y="7779600"/>
            <a:ext cx="1088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 220, you may use only variables containing English alphabe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6775560" y="8750160"/>
            <a:ext cx="3328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rules are violate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keyword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291960" y="1746360"/>
            <a:ext cx="127008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405080" y="211680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3351960" y="5811120"/>
            <a:ext cx="11203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8972280" y="58089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333440" y="3463200"/>
            <a:ext cx="8296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How to figure out if something is a Python keyword?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1184760" y="4199040"/>
            <a:ext cx="116845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ython keywords turn green in color 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f used as a variable, that keyword will no longer work as intended!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0" name="Picture 1" descr=""/>
          <p:cNvPicPr/>
          <p:nvPr/>
        </p:nvPicPr>
        <p:blipFill>
          <a:blip r:embed="rId1"/>
          <a:stretch/>
        </p:blipFill>
        <p:spPr>
          <a:xfrm>
            <a:off x="7074000" y="6227640"/>
            <a:ext cx="3346200" cy="18273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7"/>
          <p:cNvSpPr/>
          <p:nvPr/>
        </p:nvSpPr>
        <p:spPr>
          <a:xfrm>
            <a:off x="1221840" y="8841600"/>
            <a:ext cx="9389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Pay attention to green colorization with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1206360" y="6327720"/>
            <a:ext cx="472788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2279520" y="7267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Sphere Volum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809640" y="8804880"/>
            <a:ext cx="1138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www.google.com/search?q=sphere%20calc%3A%20find%20V&amp;oq=area+of+a+sphere&amp;aqs=chrome.0.0l6.2671j0j7&amp;sourceid=chrome&amp;ie=UTF-8&amp;skip=s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25520" y="1625760"/>
            <a:ext cx="6769080" cy="6261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8242200" y="2781360"/>
            <a:ext cx="3479760" cy="22222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7199280" y="6337440"/>
            <a:ext cx="556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xtension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ind radius given a volu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Character Art - Block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Quadratic Formula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4722480" y="8804880"/>
            <a:ext cx="3558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en.wikipedia.org/wiki/Quadratic_formula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2317680" y="5181480"/>
            <a:ext cx="8369280" cy="3035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3137040" y="1708200"/>
            <a:ext cx="6730920" cy="14479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5"/>
          <p:cNvSpPr/>
          <p:nvPr/>
        </p:nvSpPr>
        <p:spPr>
          <a:xfrm>
            <a:off x="3639600" y="4086000"/>
            <a:ext cx="572436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900" spc="-1" strike="noStrike">
                <a:solidFill>
                  <a:srgbClr val="ee220c"/>
                </a:solidFill>
                <a:latin typeface="Gill Sans"/>
              </a:rPr>
              <a:t>what values of x satisfy the above?</a:t>
            </a:r>
            <a:endParaRPr b="1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*: Checke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509400" y="9029880"/>
            <a:ext cx="1006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* Challenge =  beyond what you would be asked to do on an exa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Bord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192680" y="186624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5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Snak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1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3:51Z</dcterms:modified>
  <cp:revision>41</cp:revision>
  <dc:subject/>
  <dc:title>[301] Variables and Expressions</dc:title>
</cp:coreProperties>
</file>