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18B1A4-8D8C-493C-B719-A3D6930B4E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3ACFC208-5464-4685-BA09-7B6F3F913E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0EC6D4E3-DBD4-4A65-B490-95B15E05CB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6F3F3DD4-A139-491B-AE58-49E02138CD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A5F49B3F-BC77-4F3C-9FF4-770CA79B04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03C6E159-7690-469E-94C2-592D0C774B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D0C25F21-19D3-4272-8E28-1364CE1796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AB55F304-106D-488E-8F15-0E4EF4107A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0503C265-EF1F-47BA-9359-3A6B48DBAD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D594BC43-8DDB-4AD2-9C68-D1732C484F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0D41D49C-7FA2-4F8F-A431-AE5B018A22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D89457CF-AA16-4BBF-9BF5-720E0E02D9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EA2D905-5A96-43DB-810D-3B36B298DF6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220 / 319] 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E970DA3-9E3C-4BB6-A87F-F6E0BC2F96B0}"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80A3236-A7E0-4BDE-94E8-A363633BF1C6}"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A89A2BA-304F-4B57-BD3A-2DF5ED97AF6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508D20A-7054-4DF4-BB2F-664F056387A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2EB14CB-6271-42EB-99D8-3FB68294817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6EC58A4-A0AB-4AD8-BC74-142FAB299AE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C482180-0EDE-44E0-9239-BB4CFFF5512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765585F-77C2-4A3E-A658-630691B1447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FADA101-2414-456C-B7DF-247B3CA29EBC}"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27344D5-B4EC-48CD-A80C-35FA1E81C016}"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F0ACBAF8-63AD-4138-B8B8-616398A2B13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7B6860C-A0E2-4D34-BF67-CCE79BF0A32C}"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E298B12-A807-4E76-BDFB-AA2661E528E6}"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1CFA28B-B53C-455F-ADB7-F9D12A10F4E7}"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44D204D-2838-4761-BF2E-F25B17FBA42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3F8CB91-F37C-4589-A554-3AE07720C43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Gurmail Singh</cp:lastModifiedBy>
  <dcterms:modified xsi:type="dcterms:W3CDTF">2023-01-24T01:20:11Z</dcterms:modified>
  <cp:revision>28</cp:revision>
  <dc:subject/>
  <dc:title>[301] Refactoring Conditionals</dc:title>
</cp:coreProperties>
</file>