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BBF3D-E767-4510-9C03-B1207C6B76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731CF-CE18-4196-91E9-55278CFA03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F6B0D-0381-4CB4-ABA7-B5BD950EF6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3217F-1CD4-465E-B926-9D226674DC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0C41A-E38D-45C7-B8A1-6AA6A58CD7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176B1-45AC-4D81-BF10-ADAD892134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A9B63-D965-4C72-80D3-7B68671E6C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ECD24-FD15-4EB7-A8C5-7C66D3B2C8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EEA98-7629-40E9-ADC1-2C1518B6B7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6AF27-5983-4A07-BE14-1100100BE5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A578C-AC08-4FC0-81A9-BB1677A738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247B6-DED2-433B-969B-535651CA49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5DB58CB-95A7-4AEC-AF54-3D155C6C139B}" type="slidenum">
              <a:rPr b="0" lang="en-US" sz="1600" spc="-1" strike="noStrike">
                <a:solidFill>
                  <a:srgbClr val="000000"/>
                </a:solidFill>
                <a:latin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atetheboringstuff.com/chapter2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1937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Iteration 2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342720" y="7806960"/>
            <a:ext cx="6580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Sweigart book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1495160" y="8000280"/>
            <a:ext cx="20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222640" y="48895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97080" y="267984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146320" y="336060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11560" y="41497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336760" y="48862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269000" y="1743120"/>
            <a:ext cx="120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269000" y="1743120"/>
            <a:ext cx="12024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336760" y="272736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322000" y="8225640"/>
            <a:ext cx="8359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2: knowing that certain code is written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 again, look for common patterns to break it 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&lt;= 30</a:t>
            </a: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80920" y="8409600"/>
            <a:ext cx="7641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op will run with values of i of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 to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234920" y="351360"/>
            <a:ext cx="5289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enced coders will focus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 everything about “i”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cause that is in the loop condi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ing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 with break/contin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21640" y="1682640"/>
            <a:ext cx="4475160" cy="763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7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721640" y="2879640"/>
            <a:ext cx="4475160" cy="11289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2 of Sweigar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(great recap so far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8642520" y="4672080"/>
            <a:ext cx="2631960" cy="34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>
            <a:hlinkClick r:id="rId2"/>
          </p:cNvPr>
          <p:cNvSpPr/>
          <p:nvPr/>
        </p:nvSpPr>
        <p:spPr>
          <a:xfrm>
            <a:off x="5121720" y="8435520"/>
            <a:ext cx="718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a2ff"/>
                </a:solidFill>
                <a:uFillTx/>
                <a:latin typeface="Gill Sans"/>
              </a:rPr>
              <a:t>http://automatetheboringstuff.com/chapter2/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84280" y="8409600"/>
            <a:ext cx="6434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ode prints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, 4, 6, …, 58, 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744120" y="2001960"/>
            <a:ext cx="12024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630760" y="4641480"/>
            <a:ext cx="1742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, 2, 3, …, 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495040" y="8592840"/>
            <a:ext cx="201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0, 1, 2, …, N-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6448320" y="768816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04640" y="851508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448320" y="805644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804640" y="888336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57480" y="4460400"/>
            <a:ext cx="27889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assumes w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use 0 for first row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630440" y="2022480"/>
            <a:ext cx="1877760" cy="240336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0" y="21600"/>
                </a:moveTo>
                <a:cubicBezTo>
                  <a:pt x="-2" y="7436"/>
                  <a:pt x="7197" y="236"/>
                  <a:pt x="21598" y="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67040" y="5415120"/>
            <a:ext cx="4281480" cy="2166840"/>
          </a:xfrm>
          <a:custGeom>
            <a:avLst/>
            <a:gdLst/>
            <a:ahLst/>
            <a:rect l="l" t="t" r="r" b="b"/>
            <a:pathLst>
              <a:path w="21348" h="21600">
                <a:moveTo>
                  <a:pt x="7" y="0"/>
                </a:moveTo>
                <a:cubicBezTo>
                  <a:pt x="-252" y="5374"/>
                  <a:pt x="6862" y="12574"/>
                  <a:pt x="21348" y="2160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3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until the end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067640" y="2421000"/>
            <a:ext cx="6320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has_more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data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get_next(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151160" y="4127400"/>
            <a:ext cx="6550200" cy="9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64320" y="6561720"/>
            <a:ext cx="8674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ople creating functions/modules for other programm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 use will often have functions for checking if there is m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and for getting the data one piec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8973000" y="4940280"/>
            <a:ext cx="12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341120" y="2590920"/>
            <a:ext cx="35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783360" y="2406600"/>
            <a:ext cx="12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800280" y="3530520"/>
            <a:ext cx="2809800" cy="70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88" y="0"/>
                </a:moveTo>
                <a:cubicBezTo>
                  <a:pt x="219" y="0"/>
                  <a:pt x="0" y="875"/>
                  <a:pt x="0" y="1955"/>
                </a:cubicBezTo>
                <a:lnTo>
                  <a:pt x="0" y="19645"/>
                </a:lnTo>
                <a:cubicBezTo>
                  <a:pt x="0" y="20725"/>
                  <a:pt x="219" y="21600"/>
                  <a:pt x="488" y="21600"/>
                </a:cubicBezTo>
                <a:lnTo>
                  <a:pt x="12638" y="21600"/>
                </a:lnTo>
                <a:cubicBezTo>
                  <a:pt x="12907" y="21600"/>
                  <a:pt x="13126" y="20725"/>
                  <a:pt x="13126" y="19645"/>
                </a:cubicBezTo>
                <a:lnTo>
                  <a:pt x="13126" y="15198"/>
                </a:lnTo>
                <a:lnTo>
                  <a:pt x="21600" y="11301"/>
                </a:lnTo>
                <a:lnTo>
                  <a:pt x="13126" y="7391"/>
                </a:lnTo>
                <a:lnTo>
                  <a:pt x="13126" y="1955"/>
                </a:lnTo>
                <a:cubicBezTo>
                  <a:pt x="13126" y="875"/>
                  <a:pt x="12907" y="0"/>
                  <a:pt x="12638" y="0"/>
                </a:cubicBezTo>
                <a:lnTo>
                  <a:pt x="488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357000" y="3668040"/>
            <a:ext cx="3901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Don’t get too excited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nly the loops get a break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208320" y="8294760"/>
            <a:ext cx="6586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ust like </a:t>
            </a: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function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loop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975320" y="8375400"/>
            <a:ext cx="9052920" cy="7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when we’re searching through many things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Allows us to stop as soon as we find what we want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Prime Search Program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answer whether a range of numbers contains a pr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t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d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Yes or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4 to 16 =&gt; NO (because 14, 15, and 16 are all not prim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 to 12 =&gt; YES (because 11 is prim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5384880" y="4127400"/>
            <a:ext cx="5661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793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147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94908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5848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82191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88542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94892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01250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8404920" y="4929120"/>
            <a:ext cx="122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658520" y="8162640"/>
            <a:ext cx="9686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stops current iteratio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es back to the condition, without executing the "more code part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ly to start another ite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863600"/>
            <a:ext cx="4173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body familiar with this structure might skip arou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54400" y="3205800"/>
            <a:ext cx="4968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1s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327760" y="3615480"/>
            <a:ext cx="5504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3r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99680" y="4034520"/>
            <a:ext cx="606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2n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836880" y="7352640"/>
            <a:ext cx="5329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re are many similarities between reading/writing code and essay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8544240"/>
            <a:ext cx="8329680" cy="43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to skip over values we want to igno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Average Scor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keep a running average of user-provided sc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” for quit (keep running until thi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core in the 0 to 100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pute average and print after each new numb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vg is 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11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ad input, skipping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q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xit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743880" y="6807240"/>
            <a:ext cx="4668480" cy="957240"/>
          </a:xfrm>
          <a:prstGeom prst="rect">
            <a:avLst/>
          </a:prstGeom>
          <a:solidFill>
            <a:srgbClr val="f8b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Twist: use “continue” to skip over inputs not in the 0 to 100 rang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8404920" y="4929120"/>
            <a:ext cx="122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46240" y="339696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many blocks are ther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643720" y="4816440"/>
            <a:ext cx="3162240" cy="1076400"/>
          </a:xfrm>
          <a:custGeom>
            <a:avLst/>
            <a:gdLst/>
            <a:ahLst/>
            <a:rect l="l" t="t" r="r" b="b"/>
            <a:pathLst>
              <a:path w="21600" h="20455">
                <a:moveTo>
                  <a:pt x="0" y="20298"/>
                </a:moveTo>
                <a:cubicBezTo>
                  <a:pt x="13941" y="21600"/>
                  <a:pt x="21141" y="14834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00600" y="3914280"/>
            <a:ext cx="2374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here does thi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jump back to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8480" y="6733440"/>
            <a:ext cx="6908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286000" y="194328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05560" y="3638520"/>
            <a:ext cx="3255840" cy="22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  <a:lnTo>
                  <a:pt x="10421" y="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9148680" y="4120200"/>
            <a:ext cx="3011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tinue and brea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ways apply to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ner loop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212840" y="5819760"/>
            <a:ext cx="1943280" cy="164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0" y="0"/>
                </a:lnTo>
                <a:lnTo>
                  <a:pt x="0" y="21600"/>
                </a:lnTo>
                <a:lnTo>
                  <a:pt x="10292" y="2160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break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4424040"/>
            <a:ext cx="11099880" cy="90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orksheet Problem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286000" y="26668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349360" y="345456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00480" y="424188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33:40Z</dcterms:modified>
  <cp:revision>26</cp:revision>
  <dc:subject/>
  <dc:title>[220] Iteration 2</dc:title>
</cp:coreProperties>
</file>