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33ACD-A435-48E5-BE70-815D2393AE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AB626-C8E0-442A-B61D-AB6EE459D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02053-D715-42BA-BCE4-DEF113411A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23062-C25B-4F6A-B553-24570668DE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BA68A-4024-4019-801D-1DC474564D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4FDC0-8BD9-49A1-A1BD-3C8065E077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B602F-E133-47A8-94C5-4AB461D549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3B569-56C8-4E1C-8467-AB6E1A6C02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BC8AC-1E57-49F8-A55A-ACDE1277AF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1F43B-5966-4BFC-B988-AAD39A70BA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A86A9-49B2-4DC5-9D03-67EDC457B8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DFE23-D091-457A-B606-1055B04C50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7706BCA-5159-43F6-99D9-0D470C163D7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Gill Sans"/>
              </a:rPr>
              <a:t>Creat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559280"/>
            <a:ext cx="7684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reating Fruitful Functions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50040" y="2290680"/>
            <a:ext cx="1382400" cy="86544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450040" y="4211640"/>
            <a:ext cx="31492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5600" y="6828840"/>
            <a:ext cx="9792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start a function definition with “def” (short for definition)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nd use a colon (“:”) instead of an equal sign (“=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826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30920" y="2284560"/>
            <a:ext cx="71928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15200" y="4935600"/>
            <a:ext cx="43894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37920" y="6828840"/>
            <a:ext cx="6327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put the “return” keyword bef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expression associated with the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282420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551560" y="4948200"/>
            <a:ext cx="100656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11560" y="6982200"/>
            <a:ext cx="765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ndent (tab space) before the statement(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93364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50480" y="4276800"/>
            <a:ext cx="6937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def g(r):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return 3.14 * r ** 2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9920" y="7010280"/>
            <a:ext cx="528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mputing the area from the radi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263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50480" y="4276800"/>
            <a:ext cx="692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radius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09880" y="7010280"/>
            <a:ext cx="1078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t’s common to have longer names for functions an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10540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50480" y="4276800"/>
            <a:ext cx="6929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diameter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dius = diameter /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15400" y="7010280"/>
            <a:ext cx="957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’s also common to have more than one line of code (all indented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409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t’s implement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354640" y="3375000"/>
            <a:ext cx="2293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cube(side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9480" y="4689720"/>
            <a:ext cx="67438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is_between(lower, num, upper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5960" y="6473160"/>
            <a:ext cx="427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jupyter / PythonTutor demos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99, 100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212840" y="2851200"/>
            <a:ext cx="396252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6" y="0"/>
                </a:moveTo>
                <a:cubicBezTo>
                  <a:pt x="155" y="0"/>
                  <a:pt x="0" y="543"/>
                  <a:pt x="0" y="1213"/>
                </a:cubicBezTo>
                <a:lnTo>
                  <a:pt x="0" y="20387"/>
                </a:lnTo>
                <a:cubicBezTo>
                  <a:pt x="0" y="21057"/>
                  <a:pt x="155" y="21600"/>
                  <a:pt x="346" y="21600"/>
                </a:cubicBezTo>
                <a:lnTo>
                  <a:pt x="8313" y="21600"/>
                </a:lnTo>
                <a:cubicBezTo>
                  <a:pt x="8504" y="21600"/>
                  <a:pt x="8659" y="21057"/>
                  <a:pt x="8659" y="20387"/>
                </a:cubicBezTo>
                <a:lnTo>
                  <a:pt x="8659" y="13606"/>
                </a:lnTo>
                <a:lnTo>
                  <a:pt x="21600" y="11179"/>
                </a:lnTo>
                <a:lnTo>
                  <a:pt x="8659" y="8752"/>
                </a:lnTo>
                <a:lnTo>
                  <a:pt x="8659" y="1213"/>
                </a:lnTo>
                <a:cubicBezTo>
                  <a:pt x="8659" y="543"/>
                  <a:pt x="8504" y="0"/>
                  <a:pt x="8313" y="0"/>
                </a:cubicBezTo>
                <a:lnTo>
                  <a:pt x="34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274720" y="2817000"/>
            <a:ext cx="4739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actual code, but imag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arameters as variables that a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utomatically initialized for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007240" y="1912680"/>
            <a:ext cx="298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decla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071320" y="4895640"/>
            <a:ext cx="286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invoc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30280" y="2195640"/>
            <a:ext cx="909720" cy="37620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3267000" y="5164200"/>
            <a:ext cx="1859040" cy="41436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20560" y="7805880"/>
            <a:ext cx="80917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the syntax of a function header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, ( ), :, tabbing, retur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 wi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header and ind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turn value (fruitful function) or without (void func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ameters that have default val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ing difference in outcomes of print and return stat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result of function calls with 3 types of argument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itional, keyword, and defa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ce function invocations, to determine 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639440" y="8316720"/>
            <a:ext cx="9724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common pitfall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confusing keyword arguments and 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063760" y="8316720"/>
            <a:ext cx="28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orksheet practic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Generating grid for game like Battleship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19920" y="7454160"/>
            <a:ext cx="845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get_grid(width, height, symb = ‘#’, title = ‘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id:</a:t>
            </a: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’)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078880" y="8257680"/>
            <a:ext cx="2846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PythonTutor demo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140360" y="268776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112160" y="4161960"/>
            <a:ext cx="1603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0 x 8 gri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555720" y="8635680"/>
            <a:ext cx="5727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ould call print from multiple pl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7075440" y="2590920"/>
            <a:ext cx="1623960" cy="58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18440" y="6726240"/>
            <a:ext cx="1519200" cy="138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7442280" y="6784920"/>
            <a:ext cx="1271520" cy="126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" y="0"/>
                </a:moveTo>
                <a:cubicBezTo>
                  <a:pt x="87" y="0"/>
                  <a:pt x="0" y="87"/>
                  <a:pt x="0" y="194"/>
                </a:cubicBezTo>
                <a:lnTo>
                  <a:pt x="0" y="21404"/>
                </a:lnTo>
                <a:cubicBezTo>
                  <a:pt x="0" y="21511"/>
                  <a:pt x="87" y="21600"/>
                  <a:pt x="194" y="21600"/>
                </a:cubicBezTo>
                <a:lnTo>
                  <a:pt x="21406" y="21600"/>
                </a:lnTo>
                <a:cubicBezTo>
                  <a:pt x="21513" y="21600"/>
                  <a:pt x="21600" y="21511"/>
                  <a:pt x="21600" y="21404"/>
                </a:cubicBezTo>
                <a:lnTo>
                  <a:pt x="21600" y="20822"/>
                </a:lnTo>
                <a:cubicBezTo>
                  <a:pt x="21600" y="20715"/>
                  <a:pt x="21513" y="20628"/>
                  <a:pt x="21406" y="20628"/>
                </a:cubicBezTo>
                <a:lnTo>
                  <a:pt x="1163" y="20628"/>
                </a:lnTo>
                <a:cubicBezTo>
                  <a:pt x="1056" y="20628"/>
                  <a:pt x="970" y="20539"/>
                  <a:pt x="970" y="20432"/>
                </a:cubicBezTo>
                <a:lnTo>
                  <a:pt x="970" y="194"/>
                </a:lnTo>
                <a:cubicBezTo>
                  <a:pt x="970" y="87"/>
                  <a:pt x="883" y="0"/>
                  <a:pt x="776" y="0"/>
                </a:cubicBezTo>
                <a:lnTo>
                  <a:pt x="194" y="0"/>
                </a:lnTo>
                <a:close/>
                <a:moveTo>
                  <a:pt x="16860" y="3004"/>
                </a:moveTo>
                <a:lnTo>
                  <a:pt x="16860" y="19065"/>
                </a:lnTo>
                <a:lnTo>
                  <a:pt x="19553" y="19065"/>
                </a:lnTo>
                <a:lnTo>
                  <a:pt x="19553" y="3004"/>
                </a:lnTo>
                <a:lnTo>
                  <a:pt x="16860" y="3004"/>
                </a:lnTo>
                <a:close/>
                <a:moveTo>
                  <a:pt x="7272" y="6922"/>
                </a:moveTo>
                <a:lnTo>
                  <a:pt x="7272" y="19065"/>
                </a:lnTo>
                <a:lnTo>
                  <a:pt x="9965" y="19065"/>
                </a:lnTo>
                <a:lnTo>
                  <a:pt x="9965" y="6922"/>
                </a:lnTo>
                <a:lnTo>
                  <a:pt x="7272" y="6922"/>
                </a:lnTo>
                <a:close/>
                <a:moveTo>
                  <a:pt x="12066" y="10127"/>
                </a:moveTo>
                <a:lnTo>
                  <a:pt x="12066" y="19065"/>
                </a:lnTo>
                <a:lnTo>
                  <a:pt x="14759" y="19065"/>
                </a:lnTo>
                <a:lnTo>
                  <a:pt x="14759" y="10127"/>
                </a:lnTo>
                <a:lnTo>
                  <a:pt x="12066" y="10127"/>
                </a:lnTo>
                <a:close/>
                <a:moveTo>
                  <a:pt x="2478" y="15151"/>
                </a:moveTo>
                <a:lnTo>
                  <a:pt x="2478" y="19065"/>
                </a:lnTo>
                <a:lnTo>
                  <a:pt x="5171" y="19065"/>
                </a:lnTo>
                <a:lnTo>
                  <a:pt x="5171" y="15151"/>
                </a:lnTo>
                <a:lnTo>
                  <a:pt x="2478" y="15151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41440" y="4815360"/>
            <a:ext cx="823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only get to answer once, then function stop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680" y="2296080"/>
            <a:ext cx="6492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unction can print as much as it lik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6540480" y="5495760"/>
            <a:ext cx="3251160" cy="250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5965560" y="8022600"/>
            <a:ext cx="4399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</a:rPr>
              <a:t>https://memegenerator.net/instance/56355449/millionaire-regis-is-that-your-final-answer</a:t>
            </a: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0191600" y="6457320"/>
            <a:ext cx="148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bad_add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473120" y="609480"/>
            <a:ext cx="11099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Interactive Examples with PythonTutor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Course website schedule page entry for “</a:t>
            </a: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Creating Functions</a:t>
            </a: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540160" y="2666880"/>
            <a:ext cx="650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c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C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b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c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a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b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a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5778360" y="4425840"/>
            <a:ext cx="3695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Let’s trace this examp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3998520"/>
            <a:ext cx="11099880" cy="17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here do </a:t>
            </a:r>
            <a:r>
              <a:rPr b="0" i="1" lang="en-US" sz="4800" spc="-1" strike="noStrike">
                <a:solidFill>
                  <a:srgbClr val="000000"/>
                </a:solidFill>
                <a:latin typeface="Gill Sans SemiBold"/>
              </a:rPr>
              <a:t>modules</a:t>
            </a: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 come from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536480" y="982800"/>
            <a:ext cx="44485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-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math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qr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n(), co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97160" y="804960"/>
            <a:ext cx="194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uilt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n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21840" y="6977160"/>
            <a:ext cx="4024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jupyter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jupy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91360" y="7067520"/>
            <a:ext cx="2694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(lab-p3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8213760" y="2811240"/>
            <a:ext cx="1006560" cy="17427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8442360" y="5456160"/>
            <a:ext cx="784080" cy="156528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8"/>
          <p:cNvSpPr/>
          <p:nvPr/>
        </p:nvSpPr>
        <p:spPr>
          <a:xfrm flipH="1">
            <a:off x="4363560" y="5265720"/>
            <a:ext cx="1220760" cy="16779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9"/>
          <p:cNvSpPr/>
          <p:nvPr/>
        </p:nvSpPr>
        <p:spPr>
          <a:xfrm flipH="1" flipV="1">
            <a:off x="3860640" y="2387160"/>
            <a:ext cx="1571760" cy="216684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8800" y="830376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naconda did these installations for 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do we write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like move cod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7600" y="4395960"/>
            <a:ext cx="5640480" cy="48096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50040" y="2284560"/>
            <a:ext cx="3855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885000" y="418320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25600" y="7010280"/>
            <a:ext cx="295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name is “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869080" y="2284560"/>
            <a:ext cx="2937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481880" y="421164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39600" y="7010280"/>
            <a:ext cx="3924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 takes one parameter, “x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06T08:09:51Z</dcterms:modified>
  <cp:revision>47</cp:revision>
  <dc:subject/>
  <dc:title>[301] Creating Functions</dc:title>
</cp:coreProperties>
</file>