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B3A4-0BCE-4D7C-AD7D-2A1AE86D5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673D-3DD8-4643-BFDB-BF3A82AC8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9D61-E82B-461E-835F-FE1D3C291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019C-B08C-46C4-9F4D-48D4C9D97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D008-6902-48EA-B49F-93C022531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4777-006E-4BAF-80C7-FD81710C8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9B82-0DAA-43EC-B06B-4A77677E4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5EC-C031-4AB6-9CE4-D467656F6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7DAC-0D99-4FB2-B1D8-A838508A8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73E5-DCE3-48CB-8C8A-3DD76F29F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24A0-94DC-4801-A05E-74723354C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ACCE-5D09-421D-810F-4E1C35B45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A0D369-79FD-4874-AB8E-230A7F063A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6:36:14Z</dcterms:modified>
  <cp:revision>48</cp:revision>
  <dc:subject/>
  <dc:title>[301] Creating Functions</dc:title>
</cp:coreProperties>
</file>