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A342-A5F8-4363-A6CF-32FDFAAA9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1841-ABAE-4853-84A3-5D56D54D1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FE39-FA7F-45AC-A923-DE9F5C2E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6769-5E57-42E4-8977-C5C7CD7C9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0106-0FA8-4653-9374-FDFEA240A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6C6C-CD81-436A-B96E-F1C88A9D5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D609-CEEA-4AAB-9BD2-39EF1F3CD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5D8-E309-4444-96B0-565AFA05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E8B8-7917-4318-AA48-1FB41D645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B1CA-8EB6-4B44-B0D0-5EAA5A213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9EB3-D37E-4FA1-AD62-F1D29476E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1F04-2DE4-4ED7-B343-7D2E3FFBF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E1B74C-D284-4A42-A1A1-EEC956C99A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86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762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34b91a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49240" y="7331040"/>
            <a:ext cx="707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668196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237080" y="800496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2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hwin Maran</cp:lastModifiedBy>
  <dcterms:modified xsi:type="dcterms:W3CDTF">2024-01-28T17:31:30Z</dcterms:modified>
  <cp:revision>66</cp:revision>
  <dc:subject/>
  <dc:title>[220] Programming</dc:title>
</cp:coreProperties>
</file>