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0F81-ACE1-42E7-B93E-F4E6C3A78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AFF8-95CB-4426-96E2-04B72C40D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6883-6C20-4FCF-937B-6D64D889F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5CC0-8494-4F5B-92E4-D51345BCDA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42AD-33A8-43A6-9550-A1ABA18730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EC5A-C6FA-4A50-971E-76613E527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5129-A68D-4A39-B984-A4A552C42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3563-6172-4B44-AC4B-B050E8771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2BD9-E5E8-4705-8FE4-969E0B6CC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EE0E-05CA-4B4E-A31E-0403AFAC6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329D-E1C4-4F78-AD87-D7CF99D0F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8C36-BC82-403F-BCF8-2FFF33110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3171CC-09B7-4C62-9679-4946B636D2C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ECE111-8CD7-4570-A077-EFBF88AE816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6ED0DD-3297-48E4-A736-B55E1D1BAA1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A6DFC4-DC9D-464C-8757-3A8AEB90BE3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78C71A-CC72-4D1E-A6BC-D06E56038FE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89EB77-FD66-4D06-8BD9-C14F96BA23A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1BC8F4-E6B8-408C-BE91-1229932936A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D36AE7-FE3A-4539-A1CD-DEBEC4955DC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2DD029-BCD4-49EF-BD41-A9F626A8BED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A40FAD-204F-4379-B88E-4E46FF45B9D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54799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3639CE-94A0-493E-B4F3-E75C1CDAE79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D5E949-EC2F-4ECA-8253-42406D80D7F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2D96C3-C3E6-4062-A81F-8349C0923A3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ABE117-8871-4DF9-8ADC-4D30EDAF040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040B54-86C9-4DC5-B1A1-7A6894884D5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D17392-3725-4338-8B7A-4148392A380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751360" y="441972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0B9D90-92F5-4590-985B-7EFC3B81C4F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E4C361-B10E-4D1D-B20E-D7232A443CA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82B7F5-5BC4-40C6-9F08-267CFD27260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36669E-DDEC-481C-845E-5580E4B6126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C6E858-A153-41F9-9687-74518CF9F7C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2E7062-CB3B-4AC4-9FD9-D7075237159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2F404D-1E46-4440-876F-130BA87A0BC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CC4BF2-4603-4F36-A98F-51C0DC0DBE4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C0A8FC-64C6-432C-A4DE-B83946E29A4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00C8C4-8E60-460B-8FD9-6FB1F38F4BF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Ashwi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1210 West Dayton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ublic_tests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27E432-61B6-4FC7-A835-A3D556AE973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Ashwi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1210 West Dayton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ublic_tests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D4E67B-CDD0-45C2-A704-9C005CF81CB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Ashwi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1210 West Dayton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ublic_tests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8516160" y="53542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013724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57D8A1-BAC9-4123-B17F-9787EE2473C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6EEACC-AE04-4246-A03C-84B96B6CB36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3C5EF0-1A14-4814-B1A5-C0AD17E5EC8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A531DF-C6AC-4E7A-BDEF-47A79BF9EA7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2-04T18:14:17Z</dcterms:modified>
  <cp:revision>55</cp:revision>
  <dc:subject/>
  <dc:title>[220] Function Scope</dc:title>
</cp:coreProperties>
</file>