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7C7C3-5124-4514-A5B8-EE6AF96D2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545FA02-D099-4070-B4B8-4C14854F19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3247D710-44CE-4046-896F-22F965D776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9CCFA743-7D8D-4342-A939-830FEE918F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A5BF2FD-3240-4A53-A48E-AE7261241D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4BF7F81B-B8BE-466D-B154-D812473D0C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658A2054-F9F5-4D78-B9F0-69D06E0426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4057852F-2360-4680-88EC-7BBE8CF4E8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606AE8EB-947A-4700-BA39-BCCFC24D8B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B46A860-D599-4E3C-87B5-5C551C332F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691C0EC7-D4CA-4FB5-A8FF-6B5A3295B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EEB1715-E456-4D26-824D-BA16ED87F0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F370E57-E2F0-407F-A647-6F59FE8F536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F3E62D8-DEC1-4D9F-844A-BDFF344CA55A}"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725C5D5-417D-4D07-8CF4-2B06C687A0E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06E9F25-EE83-4230-A8C5-C1A7EDFE4F7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AD312F3-DDD1-409A-992D-DDCDF0F4A5A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E21F5DA-6267-4589-83CC-EAF136531C1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F66CB4C-2D51-4CF4-87D8-CE82D6692D1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737B12F-2905-4739-8E6D-38EA99A0BC8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004C80A-9D8B-4B3D-8512-51AE435B5F9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EDBFF57-817C-4E5F-8F8C-5654CB39149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40F8B44-4392-4727-97D7-A7AD2F75B22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BBBD449-23BA-4E56-AB6A-8F325DF2216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7BB5977-8537-46E4-B7FE-A06800C7034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51D566C-C043-4EA7-BCD5-C03C5127028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9176CA7-4848-4470-B38E-EAC3050D395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975F558-ECF2-4D10-AC38-06519F9E8EB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CAD4F58-8C8D-41F6-8ECD-15DA7004C07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Ashwin Maran</cp:lastModifiedBy>
  <dcterms:modified xsi:type="dcterms:W3CDTF">2024-02-11T20:30:48Z</dcterms:modified>
  <cp:revision>29</cp:revision>
  <dc:subject/>
  <dc:title>[301] Refactoring Conditionals</dc:title>
</cp:coreProperties>
</file>