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9C8B-03E5-42CE-B49D-DE4180773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445A-51A2-4342-964E-234EFD780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06CC-1052-405C-921B-92A6ACBB8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8C9F-EC02-4DC5-AD62-CDCDD44B42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67D7-215C-4421-AEEF-91AA8DFFB6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D9E6-E709-48D6-9324-2B0C2B1DB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4588-E6B8-4731-97AE-3A3F91C96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9F7D-A38D-4827-82C2-0FB9AC42A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F7CC-A56C-4DF8-9B43-FF3BF968F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1827-4BD0-4534-9D4D-9BAA680D8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167E-314C-4295-A4AB-6FE807458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1CFC-6D9D-4DD2-A497-F62B318D6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56D82D-05F1-403A-BE3F-2F713E28375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1-28T17:45:05Z</dcterms:modified>
  <cp:revision>32</cp:revision>
  <dc:subject/>
  <dc:title>[301] Using Functions</dc:title>
</cp:coreProperties>
</file>