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7BF2-00EA-4065-8A84-527E680FA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EF4C-C0BF-4DF2-A806-5B60C2D8D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5F13-41AC-4ADE-AAE3-B2294501A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E676-63A0-427E-9BA7-3BF009180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88A3-80D6-4652-83CD-F88276E14D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9E6C-351C-446C-9B99-94CC62EA8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94A5-DFEC-4658-9E92-E3811A1BC3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FF51-F42F-4473-BF38-CE8E7C64C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9BD6-DB90-4FA6-B2A8-5F44B4DA97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6C84-D1A2-41C4-9411-B86C00378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7E5C-9E0C-4A31-B742-D398C0872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1025-6BDB-4A9D-890A-BA9BF86E0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CA34-02F0-4758-B713-818EDE35C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D230-75C7-4BB7-9B1B-9B795439C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6F34-AB92-4F46-858E-C1A563E58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8BEA-5E0B-424F-9615-ACA217479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5A7F-12D7-4259-B3A7-F0502A0C2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5706-2B8B-4254-8B25-DD5E1C696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B859-A224-4B84-A496-1C5D36EF6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BF9D-399A-4E75-A9CC-2EEE78A62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002E-3F40-4BEC-9225-BF015AC34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4EE6-9A01-49D6-B7E6-CD4FA632C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7F4A-4C2C-44BF-88E6-1FE5E9129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6409-B0D2-4997-B6AA-F0D471484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D3C094-E483-47FA-A45C-99DF7C7E07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DADCDA-1F88-4EFC-B5EF-5840851C24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3E9145-CA69-4F81-B853-D9F3205105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0DC251-BDA5-40E5-A449-3BEB86B5A6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7C641A-BA11-4588-A0B7-81DF2EB57A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5B3647-DD7B-46B2-BD07-6BB1CBEC15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A4BEAC-CA9E-4398-B6AD-4991CB3DF8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184170-C624-4BC4-8457-25091601A6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11T20:32:30Z</dcterms:modified>
  <cp:revision>44</cp:revision>
  <dc:subject/>
  <dc:title>[220] Iteration</dc:title>
</cp:coreProperties>
</file>