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78F6-5A2B-46BA-8BD4-624CF9A4D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1E20-592D-427B-9C05-48BDF843D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084F-2F22-4E1B-9A25-7C8CB3A0C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D129-159F-4F0F-868D-9D27E03FB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D2CA-FCBB-433A-87E3-6DDADD3511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3897-2CD9-4222-AD1F-AC2378FFC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04D0-DFB5-4039-B705-536792DB2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7996-ED9D-48C9-B95E-E5186CBBE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E3B6-E6FC-442E-8E36-CC2FBBBE9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D0DA-F07B-4546-B0B4-8BC0E5BE3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CA2D-A1E8-45CE-AF48-E58906FEC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B827-D95A-4D51-857D-17CDCBD96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5562A2-07AD-4251-8AAC-2C4AFD10DD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838080" y="6070680"/>
            <a:ext cx="3052800" cy="622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680120" y="68133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0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3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1-28T17:43:54Z</dcterms:modified>
  <cp:revision>42</cp:revision>
  <dc:subject/>
  <dc:title>[301] Variables and Expressions</dc:title>
</cp:coreProperties>
</file>