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A78B-7CA9-4423-8471-73FE5FD30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1D75-8563-40FF-A5C6-A8865FA01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333-F633-4669-AC05-4A5E85D5E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C18A-4EBB-4873-8B07-1EE315402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C806-5F52-47AF-BAD5-141126C0B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9A8B-31CD-4FEF-85E8-3A5C6F0BE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5661-3F9D-4B91-9EF5-BD8F86FB5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713F-075E-4CCB-A4F5-7EEF41F53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B62E-E909-4111-A540-02EC07AD6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6259-BFA2-400D-8C00-478E9AD39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B91C-6F02-41C5-9A9C-711311119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F317-B4F4-45D7-AFC8-9945CF112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54E790-E04F-4B05-B329-57AABD32C957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68264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33638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739880" y="8375400"/>
            <a:ext cx="1019988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101998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6:21Z</dcterms:modified>
  <cp:revision>27</cp:revision>
  <dc:subject/>
  <dc:title>[220] Iteration 2</dc:title>
</cp:coreProperties>
</file>