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935B-2CCE-4D8C-B970-4BE7B9440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50A9-BA36-4EEF-8152-B56A14FE8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EC8A-32E5-4CBC-A845-97BC81CA0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F056-BE9A-4D43-B861-A95D6D7E73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525B-0E8F-423C-B4DB-18014259E3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1106-4BCF-42A1-91C2-B8BFC7090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0F22-BB8E-4B6D-B023-6BD28F1A1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8613-0654-4218-9661-7248F479D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6FA5-0B14-44AA-8726-932209B2E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6557-CDEF-45AD-841C-2A92FEFCF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2FD4-15F4-4D03-AEDD-313DD917F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777B-97EF-49AF-BA5F-0E86CEB6E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6F0CD3-9D5B-49F0-8B92-3EA03A2E973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10T09:05:24Z</dcterms:modified>
  <cp:revision>26</cp:revision>
  <dc:subject/>
  <dc:title>[220] Conditionals</dc:title>
</cp:coreProperties>
</file>