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4C490-91E4-4F5D-A41D-FB2EB7D04F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0FE0C-589B-4272-8038-5CA9F80D8E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2EDA7-6E34-4107-86D8-5AD9527823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21654-9DD6-4FEF-9DF7-79ADE778D4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CA951-CB9F-42B6-87E2-93C6E8D356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E5355-3250-447F-B267-CBA42FE6CA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53F8D-9DE5-43A1-B229-929BAAA647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8E3EF-FE0D-4D3D-AC84-6F2AD37427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85D8E-03C4-48D7-A1C7-F8DF1AFCA0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91DAA-888D-4C9F-B139-28A00E7E35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219CE-9949-4B8A-95D7-0617BA34FE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8CAAB-2C3A-4FEC-B5E6-028392194F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90F26D1-2CD3-46DF-99C5-9D7CB632DA1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6383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[220 / 319] Operator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549440" y="4940280"/>
            <a:ext cx="1046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84600" y="7865640"/>
            <a:ext cx="62607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1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2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8618400" y="7866000"/>
            <a:ext cx="4183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Additional 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omputer terminolog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710640" y="150264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373400" y="225504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787320" y="4569480"/>
            <a:ext cx="2822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2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scrip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143800" y="5501520"/>
            <a:ext cx="2752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 </a:t>
            </a:r>
            <a:r>
              <a:rPr b="0" lang="en-US" sz="1800" spc="-1" strike="noStrike">
                <a:solidFill>
                  <a:srgbClr val="1db100"/>
                </a:solidFill>
                <a:latin typeface="Menlo"/>
              </a:rPr>
              <a:t>test.py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716760" y="6347520"/>
            <a:ext cx="393228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notebook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"mode"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2109240" y="7279560"/>
            <a:ext cx="3064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jupyter notebook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1177920" y="354348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716840" y="400788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5504040" y="5864400"/>
            <a:ext cx="807840" cy="344160"/>
          </a:xfrm>
          <a:custGeom>
            <a:avLst/>
            <a:gdLst/>
            <a:ahLst/>
            <a:rect l="l" t="t" r="r" b="b"/>
            <a:pathLst>
              <a:path w="21600" h="19540">
                <a:moveTo>
                  <a:pt x="21600" y="18955"/>
                </a:moveTo>
                <a:cubicBezTo>
                  <a:pt x="12483" y="21600"/>
                  <a:pt x="5283" y="1528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6370560" y="5973840"/>
            <a:ext cx="60534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name of the file containing your code (called a "script"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is passed as an argument to the python program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AutoShape 14"/>
          <p:cNvSpPr/>
          <p:nvPr/>
        </p:nvSpPr>
        <p:spPr>
          <a:xfrm>
            <a:off x="4373640" y="7751880"/>
            <a:ext cx="668160" cy="426960"/>
          </a:xfrm>
          <a:custGeom>
            <a:avLst/>
            <a:gdLst/>
            <a:ahLst/>
            <a:rect l="l" t="t" r="r" b="b"/>
            <a:pathLst>
              <a:path w="21600" h="21574">
                <a:moveTo>
                  <a:pt x="21600" y="21574"/>
                </a:moveTo>
                <a:cubicBezTo>
                  <a:pt x="11232" y="21600"/>
                  <a:pt x="4032" y="14409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5136840" y="7963920"/>
            <a:ext cx="31777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open Jupyter in a web browser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2907720" y="8769240"/>
            <a:ext cx="7187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e'll do most work in notebooks this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3692520" y="5176800"/>
            <a:ext cx="1149480" cy="355680"/>
          </a:xfrm>
          <a:custGeom>
            <a:avLst/>
            <a:gdLst/>
            <a:ahLst/>
            <a:rect l="l" t="t" r="r" b="b"/>
            <a:pathLst>
              <a:path w="21600" h="20825">
                <a:moveTo>
                  <a:pt x="21600" y="68"/>
                </a:moveTo>
                <a:cubicBezTo>
                  <a:pt x="7978" y="-775"/>
                  <a:pt x="778" y="6144"/>
                  <a:pt x="0" y="20825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4566600" y="4992120"/>
            <a:ext cx="5146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interpreter program is named "python"; run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616120" y="320040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AutoShape 3"/>
          <p:cNvSpPr/>
          <p:nvPr/>
        </p:nvSpPr>
        <p:spPr>
          <a:xfrm>
            <a:off x="5326200" y="4056120"/>
            <a:ext cx="117612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0.5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Break ties left to right 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2 * 2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6200" y="3060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68560" y="757080"/>
            <a:ext cx="11099520" cy="806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un Python code using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7840" indent="-2318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mand lin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7840" indent="-2318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Jupyter Notebook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aluat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umeric expressions containing mathematical operators (e.g., “+” and “-“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ing expressions containing string operators and escape charac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ifferentiat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ehavior of the /, //, and % operato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ecognize examples of different Python data typ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, float, str, boo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valuate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pressions containing comparison operators (e.g., “==” and “&gt;”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oolean expressions containing the operators “and”, “or”, “not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ixed expressions using the correct order of operations (preceden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ff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13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3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3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perator Precendenc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160800" y="1600200"/>
          <a:ext cx="6886440" cy="6286680"/>
        </p:xfrm>
        <a:graphic>
          <a:graphicData uri="http://schemas.openxmlformats.org/drawingml/2006/table">
            <a:tbl>
              <a:tblPr/>
              <a:tblGrid>
                <a:gridCol w="3443040"/>
                <a:gridCol w="344340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boolean stuff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51" name="Text Box 68"/>
          <p:cNvSpPr/>
          <p:nvPr/>
        </p:nvSpPr>
        <p:spPr>
          <a:xfrm>
            <a:off x="855720" y="7727760"/>
            <a:ext cx="52182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se are the ones you should be learning at this point in the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here are a few more not covered now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69"/>
          <p:cNvSpPr/>
          <p:nvPr/>
        </p:nvSpPr>
        <p:spPr>
          <a:xfrm>
            <a:off x="10479240" y="238104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70"/>
          <p:cNvSpPr/>
          <p:nvPr/>
        </p:nvSpPr>
        <p:spPr>
          <a:xfrm>
            <a:off x="10431720" y="6571800"/>
            <a:ext cx="212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*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Text Box 71"/>
          <p:cNvSpPr/>
          <p:nvPr/>
        </p:nvSpPr>
        <p:spPr>
          <a:xfrm>
            <a:off x="8547840" y="8735760"/>
            <a:ext cx="41803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* one exception is an optimiza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nown as "short circuiting"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perator Precendenc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160800" y="1600200"/>
          <a:ext cx="6886440" cy="6286680"/>
        </p:xfrm>
        <a:graphic>
          <a:graphicData uri="http://schemas.openxmlformats.org/drawingml/2006/table">
            <a:tbl>
              <a:tblPr/>
              <a:tblGrid>
                <a:gridCol w="3443040"/>
                <a:gridCol w="344340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boolean stuff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57" name="Text Box 68"/>
          <p:cNvSpPr/>
          <p:nvPr/>
        </p:nvSpPr>
        <p:spPr>
          <a:xfrm>
            <a:off x="10479240" y="238104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Line 69"/>
          <p:cNvSpPr/>
          <p:nvPr/>
        </p:nvSpPr>
        <p:spPr>
          <a:xfrm>
            <a:off x="2027160" y="5783400"/>
            <a:ext cx="8559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Line 70"/>
          <p:cNvSpPr/>
          <p:nvPr/>
        </p:nvSpPr>
        <p:spPr>
          <a:xfrm>
            <a:off x="2027160" y="5073480"/>
            <a:ext cx="8559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Text Box 71"/>
          <p:cNvSpPr/>
          <p:nvPr/>
        </p:nvSpPr>
        <p:spPr>
          <a:xfrm rot="16200000">
            <a:off x="1613880" y="3222720"/>
            <a:ext cx="2229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Mathemati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72"/>
          <p:cNvSpPr/>
          <p:nvPr/>
        </p:nvSpPr>
        <p:spPr>
          <a:xfrm rot="16200000">
            <a:off x="2275560" y="660132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gic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Text Box 73"/>
          <p:cNvSpPr/>
          <p:nvPr/>
        </p:nvSpPr>
        <p:spPr>
          <a:xfrm>
            <a:off x="10431720" y="6571800"/>
            <a:ext cx="212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*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74"/>
          <p:cNvSpPr/>
          <p:nvPr/>
        </p:nvSpPr>
        <p:spPr>
          <a:xfrm>
            <a:off x="8547840" y="8735760"/>
            <a:ext cx="41803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* one exception is an optimiza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nown as "short circuiting"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75"/>
          <p:cNvSpPr/>
          <p:nvPr/>
        </p:nvSpPr>
        <p:spPr>
          <a:xfrm>
            <a:off x="855720" y="7727760"/>
            <a:ext cx="52182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se are the ones you should be learning at this point in the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here are a few more not covered now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AutoShape 3"/>
          <p:cNvSpPr/>
          <p:nvPr/>
        </p:nvSpPr>
        <p:spPr>
          <a:xfrm>
            <a:off x="2540160" y="52322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3835440" y="62485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3683160" y="18288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Boolean Logic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8966160" y="635040"/>
            <a:ext cx="2540160" cy="340344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34"/>
          <p:cNvSpPr/>
          <p:nvPr/>
        </p:nvSpPr>
        <p:spPr>
          <a:xfrm>
            <a:off x="952560" y="1587600"/>
            <a:ext cx="83073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logic of truth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amed after George Bool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values: True and Fals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ree operators: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Boolean Logic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8966160" y="635040"/>
            <a:ext cx="2540160" cy="340344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3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Line 4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Line 5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12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13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Line 15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Line 16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Text Box 19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Text Box 20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21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Text Box 23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Text Box 24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Line 26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Text Box 27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28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29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Text Box 30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Text Box 31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32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33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52560" y="1587600"/>
            <a:ext cx="8307360" cy="227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76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logic of truth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amed after George Boo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values: True and Fals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ree operators: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32"/>
          <p:cNvSpPr/>
          <p:nvPr/>
        </p:nvSpPr>
        <p:spPr>
          <a:xfrm>
            <a:off x="714960" y="2842560"/>
            <a:ext cx="4715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t’s a Saturday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e’re attending CS 220 lectu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Text Box 32"/>
          <p:cNvSpPr/>
          <p:nvPr/>
        </p:nvSpPr>
        <p:spPr>
          <a:xfrm>
            <a:off x="714960" y="2842560"/>
            <a:ext cx="4715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t’s a Saturday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e’re attending CS 220 lectu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33"/>
          <p:cNvSpPr/>
          <p:nvPr/>
        </p:nvSpPr>
        <p:spPr>
          <a:xfrm>
            <a:off x="681120" y="3270240"/>
            <a:ext cx="4836960" cy="3556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AutoShape 34"/>
          <p:cNvSpPr/>
          <p:nvPr/>
        </p:nvSpPr>
        <p:spPr>
          <a:xfrm>
            <a:off x="2895480" y="6032520"/>
            <a:ext cx="1047960" cy="53172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AutoShape 35"/>
          <p:cNvSpPr/>
          <p:nvPr/>
        </p:nvSpPr>
        <p:spPr>
          <a:xfrm>
            <a:off x="1473120" y="2838600"/>
            <a:ext cx="2297160" cy="37440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AutoShape 36"/>
          <p:cNvSpPr/>
          <p:nvPr/>
        </p:nvSpPr>
        <p:spPr>
          <a:xfrm>
            <a:off x="1235160" y="659448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AutoShape 32"/>
          <p:cNvSpPr/>
          <p:nvPr/>
        </p:nvSpPr>
        <p:spPr>
          <a:xfrm>
            <a:off x="3770280" y="3665520"/>
            <a:ext cx="1808280" cy="3316320"/>
          </a:xfrm>
          <a:custGeom>
            <a:avLst/>
            <a:gdLst/>
            <a:ahLst/>
            <a:rect l="l" t="t" r="r" b="b"/>
            <a:pathLst>
              <a:path w="16574" h="21600">
                <a:moveTo>
                  <a:pt x="0" y="21600"/>
                </a:moveTo>
                <a:cubicBezTo>
                  <a:pt x="18780" y="12372"/>
                  <a:pt x="21600" y="5172"/>
                  <a:pt x="8461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Text Box 34"/>
          <p:cNvSpPr/>
          <p:nvPr/>
        </p:nvSpPr>
        <p:spPr>
          <a:xfrm>
            <a:off x="2533680" y="1923840"/>
            <a:ext cx="1077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ALSE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Text Box 32"/>
          <p:cNvSpPr/>
          <p:nvPr/>
        </p:nvSpPr>
        <p:spPr>
          <a:xfrm>
            <a:off x="4591440" y="2988360"/>
            <a:ext cx="4709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oject 1 is due on Wednes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I’ll eat my 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AutoShape 33"/>
          <p:cNvSpPr/>
          <p:nvPr/>
        </p:nvSpPr>
        <p:spPr>
          <a:xfrm>
            <a:off x="9609120" y="2685960"/>
            <a:ext cx="1041480" cy="14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353" y="0"/>
                </a:moveTo>
                <a:cubicBezTo>
                  <a:pt x="17606" y="2897"/>
                  <a:pt x="11947" y="93"/>
                  <a:pt x="9200" y="2990"/>
                </a:cubicBezTo>
                <a:cubicBezTo>
                  <a:pt x="9201" y="2993"/>
                  <a:pt x="0" y="19789"/>
                  <a:pt x="0" y="19789"/>
                </a:cubicBezTo>
                <a:cubicBezTo>
                  <a:pt x="2726" y="20941"/>
                  <a:pt x="5865" y="21600"/>
                  <a:pt x="9209" y="21600"/>
                </a:cubicBezTo>
                <a:cubicBezTo>
                  <a:pt x="12553" y="21600"/>
                  <a:pt x="15692" y="20941"/>
                  <a:pt x="18418" y="19789"/>
                </a:cubicBezTo>
                <a:lnTo>
                  <a:pt x="9929" y="4298"/>
                </a:lnTo>
                <a:cubicBezTo>
                  <a:pt x="13681" y="2363"/>
                  <a:pt x="17863" y="6076"/>
                  <a:pt x="21600" y="3933"/>
                </a:cubicBezTo>
                <a:cubicBezTo>
                  <a:pt x="21569" y="3531"/>
                  <a:pt x="21538" y="3131"/>
                  <a:pt x="21507" y="2729"/>
                </a:cubicBezTo>
                <a:cubicBezTo>
                  <a:pt x="19104" y="4108"/>
                  <a:pt x="16518" y="3063"/>
                  <a:pt x="13980" y="2657"/>
                </a:cubicBezTo>
                <a:cubicBezTo>
                  <a:pt x="16500" y="2545"/>
                  <a:pt x="19256" y="2897"/>
                  <a:pt x="20931" y="1131"/>
                </a:cubicBezTo>
                <a:cubicBezTo>
                  <a:pt x="20738" y="754"/>
                  <a:pt x="20545" y="377"/>
                  <a:pt x="20353" y="0"/>
                </a:cubicBezTo>
                <a:close/>
                <a:moveTo>
                  <a:pt x="9063" y="7153"/>
                </a:moveTo>
                <a:cubicBezTo>
                  <a:pt x="9440" y="7153"/>
                  <a:pt x="9746" y="7375"/>
                  <a:pt x="9746" y="7648"/>
                </a:cubicBezTo>
                <a:cubicBezTo>
                  <a:pt x="9746" y="7922"/>
                  <a:pt x="9440" y="8145"/>
                  <a:pt x="9063" y="8145"/>
                </a:cubicBezTo>
                <a:cubicBezTo>
                  <a:pt x="8685" y="8145"/>
                  <a:pt x="8380" y="7922"/>
                  <a:pt x="8380" y="7648"/>
                </a:cubicBezTo>
                <a:cubicBezTo>
                  <a:pt x="8380" y="7375"/>
                  <a:pt x="8685" y="7153"/>
                  <a:pt x="9063" y="7153"/>
                </a:cubicBezTo>
                <a:close/>
                <a:moveTo>
                  <a:pt x="10138" y="9689"/>
                </a:moveTo>
                <a:cubicBezTo>
                  <a:pt x="10516" y="9689"/>
                  <a:pt x="10823" y="9910"/>
                  <a:pt x="10823" y="10184"/>
                </a:cubicBezTo>
                <a:cubicBezTo>
                  <a:pt x="10823" y="10458"/>
                  <a:pt x="10516" y="10681"/>
                  <a:pt x="10138" y="10681"/>
                </a:cubicBezTo>
                <a:cubicBezTo>
                  <a:pt x="9760" y="10681"/>
                  <a:pt x="9455" y="10458"/>
                  <a:pt x="9455" y="10184"/>
                </a:cubicBezTo>
                <a:cubicBezTo>
                  <a:pt x="9455" y="9911"/>
                  <a:pt x="9760" y="9689"/>
                  <a:pt x="10138" y="9689"/>
                </a:cubicBezTo>
                <a:close/>
                <a:moveTo>
                  <a:pt x="6977" y="11466"/>
                </a:moveTo>
                <a:cubicBezTo>
                  <a:pt x="7355" y="11466"/>
                  <a:pt x="7662" y="11688"/>
                  <a:pt x="7662" y="11961"/>
                </a:cubicBezTo>
                <a:cubicBezTo>
                  <a:pt x="7662" y="12235"/>
                  <a:pt x="7355" y="12458"/>
                  <a:pt x="6977" y="12458"/>
                </a:cubicBezTo>
                <a:cubicBezTo>
                  <a:pt x="6599" y="12458"/>
                  <a:pt x="6294" y="12235"/>
                  <a:pt x="6294" y="11961"/>
                </a:cubicBezTo>
                <a:cubicBezTo>
                  <a:pt x="6294" y="11688"/>
                  <a:pt x="6599" y="11466"/>
                  <a:pt x="6977" y="11466"/>
                </a:cubicBezTo>
                <a:close/>
                <a:moveTo>
                  <a:pt x="12379" y="11961"/>
                </a:moveTo>
                <a:cubicBezTo>
                  <a:pt x="12757" y="11961"/>
                  <a:pt x="13065" y="12184"/>
                  <a:pt x="13065" y="12458"/>
                </a:cubicBezTo>
                <a:cubicBezTo>
                  <a:pt x="13065" y="12731"/>
                  <a:pt x="12757" y="12952"/>
                  <a:pt x="12379" y="12952"/>
                </a:cubicBezTo>
                <a:cubicBezTo>
                  <a:pt x="12002" y="12952"/>
                  <a:pt x="11697" y="12731"/>
                  <a:pt x="11697" y="12458"/>
                </a:cubicBezTo>
                <a:cubicBezTo>
                  <a:pt x="11697" y="12184"/>
                  <a:pt x="12002" y="11961"/>
                  <a:pt x="12379" y="11961"/>
                </a:cubicBezTo>
                <a:close/>
                <a:moveTo>
                  <a:pt x="9634" y="13773"/>
                </a:moveTo>
                <a:cubicBezTo>
                  <a:pt x="10012" y="13773"/>
                  <a:pt x="10317" y="13995"/>
                  <a:pt x="10317" y="14268"/>
                </a:cubicBezTo>
                <a:cubicBezTo>
                  <a:pt x="10317" y="14542"/>
                  <a:pt x="10012" y="14765"/>
                  <a:pt x="9634" y="14765"/>
                </a:cubicBezTo>
                <a:cubicBezTo>
                  <a:pt x="9257" y="14765"/>
                  <a:pt x="8949" y="14542"/>
                  <a:pt x="8949" y="14268"/>
                </a:cubicBezTo>
                <a:cubicBezTo>
                  <a:pt x="8949" y="13995"/>
                  <a:pt x="9256" y="13773"/>
                  <a:pt x="9634" y="13773"/>
                </a:cubicBezTo>
                <a:close/>
                <a:moveTo>
                  <a:pt x="6294" y="15290"/>
                </a:moveTo>
                <a:cubicBezTo>
                  <a:pt x="6672" y="15290"/>
                  <a:pt x="6977" y="15511"/>
                  <a:pt x="6977" y="15784"/>
                </a:cubicBezTo>
                <a:cubicBezTo>
                  <a:pt x="6977" y="16058"/>
                  <a:pt x="6672" y="16281"/>
                  <a:pt x="6294" y="16281"/>
                </a:cubicBezTo>
                <a:cubicBezTo>
                  <a:pt x="5917" y="16281"/>
                  <a:pt x="5611" y="16058"/>
                  <a:pt x="5611" y="15784"/>
                </a:cubicBezTo>
                <a:cubicBezTo>
                  <a:pt x="5611" y="15511"/>
                  <a:pt x="5917" y="15290"/>
                  <a:pt x="6294" y="15290"/>
                </a:cubicBezTo>
                <a:close/>
                <a:moveTo>
                  <a:pt x="11697" y="15784"/>
                </a:moveTo>
                <a:cubicBezTo>
                  <a:pt x="12074" y="15784"/>
                  <a:pt x="12379" y="16007"/>
                  <a:pt x="12379" y="16281"/>
                </a:cubicBezTo>
                <a:cubicBezTo>
                  <a:pt x="12379" y="16554"/>
                  <a:pt x="12074" y="16776"/>
                  <a:pt x="11697" y="16776"/>
                </a:cubicBezTo>
                <a:cubicBezTo>
                  <a:pt x="11319" y="16776"/>
                  <a:pt x="11014" y="16554"/>
                  <a:pt x="11014" y="16281"/>
                </a:cubicBezTo>
                <a:cubicBezTo>
                  <a:pt x="11014" y="16007"/>
                  <a:pt x="11319" y="15784"/>
                  <a:pt x="11697" y="15784"/>
                </a:cubicBezTo>
                <a:close/>
                <a:moveTo>
                  <a:pt x="15085" y="17295"/>
                </a:moveTo>
                <a:cubicBezTo>
                  <a:pt x="15463" y="17297"/>
                  <a:pt x="15768" y="17522"/>
                  <a:pt x="15766" y="17795"/>
                </a:cubicBezTo>
                <a:cubicBezTo>
                  <a:pt x="15763" y="18069"/>
                  <a:pt x="15456" y="18288"/>
                  <a:pt x="15078" y="18287"/>
                </a:cubicBezTo>
                <a:cubicBezTo>
                  <a:pt x="14701" y="18285"/>
                  <a:pt x="14395" y="18062"/>
                  <a:pt x="14398" y="17789"/>
                </a:cubicBezTo>
                <a:cubicBezTo>
                  <a:pt x="14400" y="17515"/>
                  <a:pt x="14708" y="17294"/>
                  <a:pt x="15085" y="17295"/>
                </a:cubicBezTo>
                <a:close/>
                <a:moveTo>
                  <a:pt x="3147" y="17938"/>
                </a:moveTo>
                <a:cubicBezTo>
                  <a:pt x="3525" y="17938"/>
                  <a:pt x="3832" y="18159"/>
                  <a:pt x="3832" y="18433"/>
                </a:cubicBezTo>
                <a:cubicBezTo>
                  <a:pt x="3832" y="18707"/>
                  <a:pt x="3525" y="18928"/>
                  <a:pt x="3147" y="18928"/>
                </a:cubicBezTo>
                <a:cubicBezTo>
                  <a:pt x="2770" y="18928"/>
                  <a:pt x="2464" y="18707"/>
                  <a:pt x="2464" y="18433"/>
                </a:cubicBezTo>
                <a:cubicBezTo>
                  <a:pt x="2464" y="18159"/>
                  <a:pt x="2770" y="17938"/>
                  <a:pt x="3147" y="17938"/>
                </a:cubicBezTo>
                <a:close/>
                <a:moveTo>
                  <a:pt x="7904" y="17938"/>
                </a:moveTo>
                <a:cubicBezTo>
                  <a:pt x="8281" y="17938"/>
                  <a:pt x="8587" y="18159"/>
                  <a:pt x="8587" y="18433"/>
                </a:cubicBezTo>
                <a:cubicBezTo>
                  <a:pt x="8587" y="18707"/>
                  <a:pt x="8281" y="18928"/>
                  <a:pt x="7904" y="18928"/>
                </a:cubicBezTo>
                <a:cubicBezTo>
                  <a:pt x="7526" y="18928"/>
                  <a:pt x="7219" y="18707"/>
                  <a:pt x="7219" y="18433"/>
                </a:cubicBezTo>
                <a:cubicBezTo>
                  <a:pt x="7219" y="18159"/>
                  <a:pt x="7526" y="17938"/>
                  <a:pt x="7904" y="17938"/>
                </a:cubicBezTo>
                <a:close/>
                <a:moveTo>
                  <a:pt x="12379" y="19226"/>
                </a:moveTo>
                <a:cubicBezTo>
                  <a:pt x="12757" y="19226"/>
                  <a:pt x="13065" y="19447"/>
                  <a:pt x="13065" y="19720"/>
                </a:cubicBezTo>
                <a:cubicBezTo>
                  <a:pt x="13065" y="19994"/>
                  <a:pt x="12757" y="20215"/>
                  <a:pt x="12379" y="20215"/>
                </a:cubicBezTo>
                <a:cubicBezTo>
                  <a:pt x="12002" y="20215"/>
                  <a:pt x="11697" y="19994"/>
                  <a:pt x="11697" y="19720"/>
                </a:cubicBezTo>
                <a:cubicBezTo>
                  <a:pt x="11697" y="19447"/>
                  <a:pt x="12002" y="19226"/>
                  <a:pt x="12379" y="19226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Text Box 32"/>
          <p:cNvSpPr/>
          <p:nvPr/>
        </p:nvSpPr>
        <p:spPr>
          <a:xfrm>
            <a:off x="4591440" y="2988360"/>
            <a:ext cx="4709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oject 1 is due on Wednes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I’ll eat my 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AutoShape 33"/>
          <p:cNvSpPr/>
          <p:nvPr/>
        </p:nvSpPr>
        <p:spPr>
          <a:xfrm>
            <a:off x="6135840" y="3429000"/>
            <a:ext cx="2195280" cy="378000"/>
          </a:xfrm>
          <a:prstGeom prst="roundRect">
            <a:avLst>
              <a:gd name="adj" fmla="val 41486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AutoShape 34"/>
          <p:cNvSpPr/>
          <p:nvPr/>
        </p:nvSpPr>
        <p:spPr>
          <a:xfrm>
            <a:off x="5737320" y="6024600"/>
            <a:ext cx="1046160" cy="5302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AutoShape 35"/>
          <p:cNvSpPr/>
          <p:nvPr/>
        </p:nvSpPr>
        <p:spPr>
          <a:xfrm>
            <a:off x="4357800" y="3013200"/>
            <a:ext cx="5033880" cy="36324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AutoShape 36"/>
          <p:cNvSpPr/>
          <p:nvPr/>
        </p:nvSpPr>
        <p:spPr>
          <a:xfrm>
            <a:off x="5143680" y="776772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AutoShape 37"/>
          <p:cNvSpPr/>
          <p:nvPr/>
        </p:nvSpPr>
        <p:spPr>
          <a:xfrm>
            <a:off x="4357800" y="3633840"/>
            <a:ext cx="1496880" cy="4427640"/>
          </a:xfrm>
          <a:custGeom>
            <a:avLst/>
            <a:gdLst/>
            <a:ahLst/>
            <a:rect l="l" t="t" r="r" b="b"/>
            <a:pathLst>
              <a:path w="16596" h="21600">
                <a:moveTo>
                  <a:pt x="16596" y="21600"/>
                </a:moveTo>
                <a:cubicBezTo>
                  <a:pt x="-2113" y="11985"/>
                  <a:pt x="-5004" y="4785"/>
                  <a:pt x="7922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38"/>
          <p:cNvSpPr/>
          <p:nvPr/>
        </p:nvSpPr>
        <p:spPr>
          <a:xfrm>
            <a:off x="6268320" y="1873080"/>
            <a:ext cx="96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AutoShape 39"/>
          <p:cNvSpPr/>
          <p:nvPr/>
        </p:nvSpPr>
        <p:spPr>
          <a:xfrm>
            <a:off x="9609120" y="2685960"/>
            <a:ext cx="1041480" cy="14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353" y="0"/>
                </a:moveTo>
                <a:cubicBezTo>
                  <a:pt x="17606" y="2897"/>
                  <a:pt x="11947" y="93"/>
                  <a:pt x="9200" y="2990"/>
                </a:cubicBezTo>
                <a:cubicBezTo>
                  <a:pt x="9201" y="2993"/>
                  <a:pt x="0" y="19789"/>
                  <a:pt x="0" y="19789"/>
                </a:cubicBezTo>
                <a:cubicBezTo>
                  <a:pt x="2726" y="20941"/>
                  <a:pt x="5865" y="21600"/>
                  <a:pt x="9209" y="21600"/>
                </a:cubicBezTo>
                <a:cubicBezTo>
                  <a:pt x="12553" y="21600"/>
                  <a:pt x="15692" y="20941"/>
                  <a:pt x="18418" y="19789"/>
                </a:cubicBezTo>
                <a:lnTo>
                  <a:pt x="9929" y="4298"/>
                </a:lnTo>
                <a:cubicBezTo>
                  <a:pt x="13681" y="2363"/>
                  <a:pt x="17863" y="6076"/>
                  <a:pt x="21600" y="3933"/>
                </a:cubicBezTo>
                <a:cubicBezTo>
                  <a:pt x="21569" y="3531"/>
                  <a:pt x="21538" y="3131"/>
                  <a:pt x="21507" y="2729"/>
                </a:cubicBezTo>
                <a:cubicBezTo>
                  <a:pt x="19104" y="4108"/>
                  <a:pt x="16518" y="3063"/>
                  <a:pt x="13980" y="2657"/>
                </a:cubicBezTo>
                <a:cubicBezTo>
                  <a:pt x="16500" y="2545"/>
                  <a:pt x="19256" y="2897"/>
                  <a:pt x="20931" y="1131"/>
                </a:cubicBezTo>
                <a:cubicBezTo>
                  <a:pt x="20738" y="754"/>
                  <a:pt x="20545" y="377"/>
                  <a:pt x="20353" y="0"/>
                </a:cubicBezTo>
                <a:close/>
                <a:moveTo>
                  <a:pt x="9063" y="7153"/>
                </a:moveTo>
                <a:cubicBezTo>
                  <a:pt x="9440" y="7153"/>
                  <a:pt x="9746" y="7375"/>
                  <a:pt x="9746" y="7648"/>
                </a:cubicBezTo>
                <a:cubicBezTo>
                  <a:pt x="9746" y="7922"/>
                  <a:pt x="9440" y="8145"/>
                  <a:pt x="9063" y="8145"/>
                </a:cubicBezTo>
                <a:cubicBezTo>
                  <a:pt x="8685" y="8145"/>
                  <a:pt x="8380" y="7922"/>
                  <a:pt x="8380" y="7648"/>
                </a:cubicBezTo>
                <a:cubicBezTo>
                  <a:pt x="8380" y="7375"/>
                  <a:pt x="8685" y="7153"/>
                  <a:pt x="9063" y="7153"/>
                </a:cubicBezTo>
                <a:close/>
                <a:moveTo>
                  <a:pt x="10138" y="9689"/>
                </a:moveTo>
                <a:cubicBezTo>
                  <a:pt x="10516" y="9689"/>
                  <a:pt x="10823" y="9910"/>
                  <a:pt x="10823" y="10184"/>
                </a:cubicBezTo>
                <a:cubicBezTo>
                  <a:pt x="10823" y="10458"/>
                  <a:pt x="10516" y="10681"/>
                  <a:pt x="10138" y="10681"/>
                </a:cubicBezTo>
                <a:cubicBezTo>
                  <a:pt x="9760" y="10681"/>
                  <a:pt x="9455" y="10458"/>
                  <a:pt x="9455" y="10184"/>
                </a:cubicBezTo>
                <a:cubicBezTo>
                  <a:pt x="9455" y="9911"/>
                  <a:pt x="9760" y="9689"/>
                  <a:pt x="10138" y="9689"/>
                </a:cubicBezTo>
                <a:close/>
                <a:moveTo>
                  <a:pt x="6977" y="11466"/>
                </a:moveTo>
                <a:cubicBezTo>
                  <a:pt x="7355" y="11466"/>
                  <a:pt x="7662" y="11688"/>
                  <a:pt x="7662" y="11961"/>
                </a:cubicBezTo>
                <a:cubicBezTo>
                  <a:pt x="7662" y="12235"/>
                  <a:pt x="7355" y="12458"/>
                  <a:pt x="6977" y="12458"/>
                </a:cubicBezTo>
                <a:cubicBezTo>
                  <a:pt x="6599" y="12458"/>
                  <a:pt x="6294" y="12235"/>
                  <a:pt x="6294" y="11961"/>
                </a:cubicBezTo>
                <a:cubicBezTo>
                  <a:pt x="6294" y="11688"/>
                  <a:pt x="6599" y="11466"/>
                  <a:pt x="6977" y="11466"/>
                </a:cubicBezTo>
                <a:close/>
                <a:moveTo>
                  <a:pt x="12379" y="11961"/>
                </a:moveTo>
                <a:cubicBezTo>
                  <a:pt x="12757" y="11961"/>
                  <a:pt x="13065" y="12184"/>
                  <a:pt x="13065" y="12458"/>
                </a:cubicBezTo>
                <a:cubicBezTo>
                  <a:pt x="13065" y="12731"/>
                  <a:pt x="12757" y="12952"/>
                  <a:pt x="12379" y="12952"/>
                </a:cubicBezTo>
                <a:cubicBezTo>
                  <a:pt x="12002" y="12952"/>
                  <a:pt x="11697" y="12731"/>
                  <a:pt x="11697" y="12458"/>
                </a:cubicBezTo>
                <a:cubicBezTo>
                  <a:pt x="11697" y="12184"/>
                  <a:pt x="12002" y="11961"/>
                  <a:pt x="12379" y="11961"/>
                </a:cubicBezTo>
                <a:close/>
                <a:moveTo>
                  <a:pt x="9634" y="13773"/>
                </a:moveTo>
                <a:cubicBezTo>
                  <a:pt x="10012" y="13773"/>
                  <a:pt x="10317" y="13995"/>
                  <a:pt x="10317" y="14268"/>
                </a:cubicBezTo>
                <a:cubicBezTo>
                  <a:pt x="10317" y="14542"/>
                  <a:pt x="10012" y="14765"/>
                  <a:pt x="9634" y="14765"/>
                </a:cubicBezTo>
                <a:cubicBezTo>
                  <a:pt x="9257" y="14765"/>
                  <a:pt x="8949" y="14542"/>
                  <a:pt x="8949" y="14268"/>
                </a:cubicBezTo>
                <a:cubicBezTo>
                  <a:pt x="8949" y="13995"/>
                  <a:pt x="9256" y="13773"/>
                  <a:pt x="9634" y="13773"/>
                </a:cubicBezTo>
                <a:close/>
                <a:moveTo>
                  <a:pt x="6294" y="15290"/>
                </a:moveTo>
                <a:cubicBezTo>
                  <a:pt x="6672" y="15290"/>
                  <a:pt x="6977" y="15511"/>
                  <a:pt x="6977" y="15784"/>
                </a:cubicBezTo>
                <a:cubicBezTo>
                  <a:pt x="6977" y="16058"/>
                  <a:pt x="6672" y="16281"/>
                  <a:pt x="6294" y="16281"/>
                </a:cubicBezTo>
                <a:cubicBezTo>
                  <a:pt x="5917" y="16281"/>
                  <a:pt x="5611" y="16058"/>
                  <a:pt x="5611" y="15784"/>
                </a:cubicBezTo>
                <a:cubicBezTo>
                  <a:pt x="5611" y="15511"/>
                  <a:pt x="5917" y="15290"/>
                  <a:pt x="6294" y="15290"/>
                </a:cubicBezTo>
                <a:close/>
                <a:moveTo>
                  <a:pt x="11697" y="15784"/>
                </a:moveTo>
                <a:cubicBezTo>
                  <a:pt x="12074" y="15784"/>
                  <a:pt x="12379" y="16007"/>
                  <a:pt x="12379" y="16281"/>
                </a:cubicBezTo>
                <a:cubicBezTo>
                  <a:pt x="12379" y="16554"/>
                  <a:pt x="12074" y="16776"/>
                  <a:pt x="11697" y="16776"/>
                </a:cubicBezTo>
                <a:cubicBezTo>
                  <a:pt x="11319" y="16776"/>
                  <a:pt x="11014" y="16554"/>
                  <a:pt x="11014" y="16281"/>
                </a:cubicBezTo>
                <a:cubicBezTo>
                  <a:pt x="11014" y="16007"/>
                  <a:pt x="11319" y="15784"/>
                  <a:pt x="11697" y="15784"/>
                </a:cubicBezTo>
                <a:close/>
                <a:moveTo>
                  <a:pt x="15085" y="17295"/>
                </a:moveTo>
                <a:cubicBezTo>
                  <a:pt x="15463" y="17297"/>
                  <a:pt x="15768" y="17522"/>
                  <a:pt x="15766" y="17795"/>
                </a:cubicBezTo>
                <a:cubicBezTo>
                  <a:pt x="15763" y="18069"/>
                  <a:pt x="15456" y="18288"/>
                  <a:pt x="15078" y="18287"/>
                </a:cubicBezTo>
                <a:cubicBezTo>
                  <a:pt x="14701" y="18285"/>
                  <a:pt x="14395" y="18062"/>
                  <a:pt x="14398" y="17789"/>
                </a:cubicBezTo>
                <a:cubicBezTo>
                  <a:pt x="14400" y="17515"/>
                  <a:pt x="14708" y="17294"/>
                  <a:pt x="15085" y="17295"/>
                </a:cubicBezTo>
                <a:close/>
                <a:moveTo>
                  <a:pt x="3147" y="17938"/>
                </a:moveTo>
                <a:cubicBezTo>
                  <a:pt x="3525" y="17938"/>
                  <a:pt x="3832" y="18159"/>
                  <a:pt x="3832" y="18433"/>
                </a:cubicBezTo>
                <a:cubicBezTo>
                  <a:pt x="3832" y="18707"/>
                  <a:pt x="3525" y="18928"/>
                  <a:pt x="3147" y="18928"/>
                </a:cubicBezTo>
                <a:cubicBezTo>
                  <a:pt x="2770" y="18928"/>
                  <a:pt x="2464" y="18707"/>
                  <a:pt x="2464" y="18433"/>
                </a:cubicBezTo>
                <a:cubicBezTo>
                  <a:pt x="2464" y="18159"/>
                  <a:pt x="2770" y="17938"/>
                  <a:pt x="3147" y="17938"/>
                </a:cubicBezTo>
                <a:close/>
                <a:moveTo>
                  <a:pt x="7904" y="17938"/>
                </a:moveTo>
                <a:cubicBezTo>
                  <a:pt x="8281" y="17938"/>
                  <a:pt x="8587" y="18159"/>
                  <a:pt x="8587" y="18433"/>
                </a:cubicBezTo>
                <a:cubicBezTo>
                  <a:pt x="8587" y="18707"/>
                  <a:pt x="8281" y="18928"/>
                  <a:pt x="7904" y="18928"/>
                </a:cubicBezTo>
                <a:cubicBezTo>
                  <a:pt x="7526" y="18928"/>
                  <a:pt x="7219" y="18707"/>
                  <a:pt x="7219" y="18433"/>
                </a:cubicBezTo>
                <a:cubicBezTo>
                  <a:pt x="7219" y="18159"/>
                  <a:pt x="7526" y="17938"/>
                  <a:pt x="7904" y="17938"/>
                </a:cubicBezTo>
                <a:close/>
                <a:moveTo>
                  <a:pt x="12379" y="19226"/>
                </a:moveTo>
                <a:cubicBezTo>
                  <a:pt x="12757" y="19226"/>
                  <a:pt x="13065" y="19447"/>
                  <a:pt x="13065" y="19720"/>
                </a:cubicBezTo>
                <a:cubicBezTo>
                  <a:pt x="13065" y="19994"/>
                  <a:pt x="12757" y="20215"/>
                  <a:pt x="12379" y="20215"/>
                </a:cubicBezTo>
                <a:cubicBezTo>
                  <a:pt x="12002" y="20215"/>
                  <a:pt x="11697" y="19994"/>
                  <a:pt x="11697" y="19720"/>
                </a:cubicBezTo>
                <a:cubicBezTo>
                  <a:pt x="11697" y="19447"/>
                  <a:pt x="12002" y="19226"/>
                  <a:pt x="12379" y="19226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AutoShape 32"/>
          <p:cNvSpPr/>
          <p:nvPr/>
        </p:nvSpPr>
        <p:spPr>
          <a:xfrm>
            <a:off x="5737320" y="6024600"/>
            <a:ext cx="1046160" cy="5302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AutoShape 33"/>
          <p:cNvSpPr/>
          <p:nvPr/>
        </p:nvSpPr>
        <p:spPr>
          <a:xfrm>
            <a:off x="5143680" y="776772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Text Box 34"/>
          <p:cNvSpPr/>
          <p:nvPr/>
        </p:nvSpPr>
        <p:spPr>
          <a:xfrm>
            <a:off x="-148320" y="1134000"/>
            <a:ext cx="1330020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Control Flow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member that conditionals and loops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sometime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do something.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e'll use bool logic a LOT to control when we do/don't.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AutoShape 3"/>
          <p:cNvSpPr/>
          <p:nvPr/>
        </p:nvSpPr>
        <p:spPr>
          <a:xfrm>
            <a:off x="2616120" y="72388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52200" y="11664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What you need to write/run cod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52200" y="2500200"/>
            <a:ext cx="11099880" cy="7290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967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interprete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ython 3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not 2!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me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tra package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comes with anaconda installatio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uns Python cod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Jupyter Noteboo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es with anaconda install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cts like both interpreter and editor (type and save Python cod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Interpret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177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 program that runs a progra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ranslates something the human likes (nice Python code) to something the machine likes (ONEs and ZERO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Jupyter Noteboo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569960" y="2735280"/>
            <a:ext cx="9863280" cy="5424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6320160" y="197460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6320160" y="845172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8066520" y="764640"/>
            <a:ext cx="4439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ebooks breakup code int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"cells" containing Python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AutoShape 6"/>
          <p:cNvSpPr/>
          <p:nvPr/>
        </p:nvSpPr>
        <p:spPr>
          <a:xfrm>
            <a:off x="8264520" y="1550880"/>
            <a:ext cx="1417680" cy="178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559" y="18969"/>
                  <a:pt x="17759" y="11769"/>
                  <a:pt x="21600" y="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7481880" y="6555600"/>
            <a:ext cx="3500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isuals produced by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de are interleav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AutoShape 8"/>
          <p:cNvSpPr/>
          <p:nvPr/>
        </p:nvSpPr>
        <p:spPr>
          <a:xfrm>
            <a:off x="6029280" y="5850000"/>
            <a:ext cx="1649520" cy="658800"/>
          </a:xfrm>
          <a:custGeom>
            <a:avLst/>
            <a:gdLst/>
            <a:ahLst/>
            <a:rect l="l" t="t" r="r" b="b"/>
            <a:pathLst>
              <a:path w="21600" h="21115">
                <a:moveTo>
                  <a:pt x="0" y="26"/>
                </a:moveTo>
                <a:cubicBezTo>
                  <a:pt x="11391" y="-485"/>
                  <a:pt x="18591" y="6545"/>
                  <a:pt x="21600" y="21115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482760" y="4699080"/>
            <a:ext cx="11099520" cy="435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2476080" y="6911280"/>
            <a:ext cx="8051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Notebook is a file that contains code and other thing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e.g., documentation, images, tables, etc.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Jupyter Noteboo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569960" y="2735280"/>
            <a:ext cx="9863280" cy="54244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6320160" y="197460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8066520" y="764640"/>
            <a:ext cx="4439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ebooks breakup code int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"cells" containing Python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8264520" y="1550880"/>
            <a:ext cx="1417680" cy="178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559" y="18969"/>
                  <a:pt x="17759" y="11769"/>
                  <a:pt x="21600" y="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6549120" y="6555600"/>
            <a:ext cx="5366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isuals produced by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de are embedded in the Noteboo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AutoShape 7"/>
          <p:cNvSpPr/>
          <p:nvPr/>
        </p:nvSpPr>
        <p:spPr>
          <a:xfrm>
            <a:off x="6029280" y="5850000"/>
            <a:ext cx="1649520" cy="658800"/>
          </a:xfrm>
          <a:custGeom>
            <a:avLst/>
            <a:gdLst/>
            <a:ahLst/>
            <a:rect l="l" t="t" r="r" b="b"/>
            <a:pathLst>
              <a:path w="21600" h="21115">
                <a:moveTo>
                  <a:pt x="0" y="26"/>
                </a:moveTo>
                <a:cubicBezTo>
                  <a:pt x="11391" y="-485"/>
                  <a:pt x="18591" y="6545"/>
                  <a:pt x="21600" y="21115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327960" y="8807040"/>
            <a:ext cx="12347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.ipynb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Interactive Python Notebook) files are not easy to open in a regular text edi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653400" y="146592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316520" y="221832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1120680" y="350676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1659960" y="397116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4730400" y="1526400"/>
            <a:ext cx="3042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Quick syntax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691560" y="140400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354320" y="215640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787320" y="4569480"/>
            <a:ext cx="2822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2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scrip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143800" y="5501520"/>
            <a:ext cx="2752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 </a:t>
            </a:r>
            <a:r>
              <a:rPr b="0" lang="en-US" sz="1800" spc="-1" strike="noStrike">
                <a:solidFill>
                  <a:srgbClr val="1db100"/>
                </a:solidFill>
                <a:latin typeface="Menlo"/>
              </a:rPr>
              <a:t>test.py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1158840" y="344484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1697760" y="390924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AutoShape 8"/>
          <p:cNvSpPr/>
          <p:nvPr/>
        </p:nvSpPr>
        <p:spPr>
          <a:xfrm>
            <a:off x="3692520" y="5176800"/>
            <a:ext cx="1149480" cy="355680"/>
          </a:xfrm>
          <a:custGeom>
            <a:avLst/>
            <a:gdLst/>
            <a:ahLst/>
            <a:rect l="l" t="t" r="r" b="b"/>
            <a:pathLst>
              <a:path w="21600" h="20825">
                <a:moveTo>
                  <a:pt x="21600" y="68"/>
                </a:moveTo>
                <a:cubicBezTo>
                  <a:pt x="7978" y="-775"/>
                  <a:pt x="778" y="6144"/>
                  <a:pt x="0" y="20825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4566600" y="4992120"/>
            <a:ext cx="5146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interpreter program is named "python"; run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AutoShape 10"/>
          <p:cNvSpPr/>
          <p:nvPr/>
        </p:nvSpPr>
        <p:spPr>
          <a:xfrm>
            <a:off x="4842000" y="5994360"/>
            <a:ext cx="807840" cy="344520"/>
          </a:xfrm>
          <a:custGeom>
            <a:avLst/>
            <a:gdLst/>
            <a:ahLst/>
            <a:rect l="l" t="t" r="r" b="b"/>
            <a:pathLst>
              <a:path w="21600" h="19540">
                <a:moveTo>
                  <a:pt x="21600" y="18955"/>
                </a:moveTo>
                <a:cubicBezTo>
                  <a:pt x="12483" y="21600"/>
                  <a:pt x="5283" y="1528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5411880" y="6134400"/>
            <a:ext cx="60534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name of the file containing your code (called a "script"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is passed as an argument to the python program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4596840" y="4578480"/>
            <a:ext cx="3439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Run auto-grader tes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rmail Singh</cp:lastModifiedBy>
  <dcterms:modified xsi:type="dcterms:W3CDTF">2023-01-30T07:55:29Z</dcterms:modified>
  <cp:revision>61</cp:revision>
  <dc:subject/>
  <dc:title>[220] Programming</dc:title>
</cp:coreProperties>
</file>