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9AE1-B979-4966-AF7F-6D04EB0E9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525B-001E-4698-ADF9-D1C5B4C28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AED5-5433-4AC1-8F19-E64F40189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8C193-E3E4-499D-B1A7-183B798857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06AF-DF28-4E46-B5CC-C942602902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4937-B26C-410E-87C9-BEDB3C97E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EDDB-65BE-40D1-BF89-61BE48149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50834-3932-44DE-AED8-06030F291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4FAC-6102-443E-9C9D-733AC2642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EFF7-4416-477B-90DE-61E263CB1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2B356-3FD5-4FDF-B13E-DB5C0BCE6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0895-B031-4A16-AA09-E8620697C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C39472-67E3-4730-BFF1-FE96B5981E1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10T09:05:24Z</dcterms:modified>
  <cp:revision>26</cp:revision>
  <dc:subject/>
  <dc:title>[220] Conditionals</dc:title>
</cp:coreProperties>
</file>