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F0622-9DC8-44DB-92EB-9391C0A92D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8A75A-A5DC-44E5-B435-662A2AE6ED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8409E-625A-446A-84C2-7E5874AE9F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22DB7-232A-4333-ACC2-F293E1DFAC7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F0776-C7D3-4679-A99D-553194CA415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04F3E-80DC-4080-8053-36E7F6EE76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74E92-797B-41C8-BAFE-2E7E70EDCA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B6D41-F0AB-4CE6-8146-77E7682994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12D75-5308-4AC0-884A-A8726C6DDE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8BE27-943C-48CD-A2C1-7003C0CD62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B5340-F567-4CC9-A2D8-CACF55B034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5E1B4-4C02-4469-A696-978FC8A9CF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D2A2A1D-C578-4FDD-B281-7B87E0167DB2}" type="slidenum">
              <a:rPr b="0" lang="en-US" sz="1600" spc="-1" strike="noStrike">
                <a:solidFill>
                  <a:srgbClr val="000000"/>
                </a:solidFill>
                <a:latin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automatetheboringstuff.com/chapter2/" TargetMode="External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hyperlink" Target="https://www.python.org/dev/peps/pep-3136/" TargetMode="External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hyperlink" Target="https://www.python.org/dev/peps/pep-3136/" TargetMode="External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119376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Iteration 2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Text Box 3"/>
          <p:cNvSpPr/>
          <p:nvPr/>
        </p:nvSpPr>
        <p:spPr>
          <a:xfrm>
            <a:off x="342720" y="7806960"/>
            <a:ext cx="65808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Chapter 2 of Sweigart book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6.4 of Python for Everybod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11495160" y="8000280"/>
            <a:ext cx="20124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679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0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0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AutoShape 5"/>
          <p:cNvSpPr/>
          <p:nvPr/>
        </p:nvSpPr>
        <p:spPr>
          <a:xfrm>
            <a:off x="2222640" y="4889520"/>
            <a:ext cx="126972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10269000" y="1742400"/>
            <a:ext cx="12024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" name="Rectangle 9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Text Box 10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AutoShape 5"/>
          <p:cNvSpPr/>
          <p:nvPr/>
        </p:nvSpPr>
        <p:spPr>
          <a:xfrm>
            <a:off x="2197080" y="2679840"/>
            <a:ext cx="1270080" cy="1269720"/>
          </a:xfrm>
          <a:prstGeom prst="rightArrow">
            <a:avLst>
              <a:gd name="adj1" fmla="val 32000"/>
              <a:gd name="adj2" fmla="val 64018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10269000" y="1742400"/>
            <a:ext cx="12024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 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Rectangle 9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Text Box 10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AutoShape 5"/>
          <p:cNvSpPr/>
          <p:nvPr/>
        </p:nvSpPr>
        <p:spPr>
          <a:xfrm>
            <a:off x="2146320" y="3360600"/>
            <a:ext cx="127008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10269000" y="1742400"/>
            <a:ext cx="12024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 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Text Box 10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AutoShape 5"/>
          <p:cNvSpPr/>
          <p:nvPr/>
        </p:nvSpPr>
        <p:spPr>
          <a:xfrm>
            <a:off x="2311560" y="4149720"/>
            <a:ext cx="126972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10269000" y="1742400"/>
            <a:ext cx="12024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 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Rectangle 9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 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Text Box 10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AutoShape 5"/>
          <p:cNvSpPr/>
          <p:nvPr/>
        </p:nvSpPr>
        <p:spPr>
          <a:xfrm>
            <a:off x="2336760" y="4886280"/>
            <a:ext cx="127008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10269000" y="1743120"/>
            <a:ext cx="12024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 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Text Box 8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8" name="Rectangle 9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 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Text Box 10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10269000" y="1743120"/>
            <a:ext cx="12024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 3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Text Box 7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Rectangle 8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 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Text Box 9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AutoShape 10"/>
          <p:cNvSpPr/>
          <p:nvPr/>
        </p:nvSpPr>
        <p:spPr>
          <a:xfrm>
            <a:off x="2336760" y="2727360"/>
            <a:ext cx="127008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2322000" y="8225640"/>
            <a:ext cx="8359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2: knowing that certain code is written agai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nd again, look for common patterns to break it dow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5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while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&lt;= 30</a:t>
            </a: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2680920" y="8409600"/>
            <a:ext cx="76413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bservation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loop will run with values of i of: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1 to 3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7234920" y="351360"/>
            <a:ext cx="52898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xperienced coders will focus i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on everything about “i”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because that is in the loop condi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0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1089360" y="8409600"/>
            <a:ext cx="1082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bservation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ighlighted code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runs 30 times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with i values of 1 through 3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4000680" y="3619440"/>
            <a:ext cx="3768480" cy="1546200"/>
          </a:xfrm>
          <a:prstGeom prst="rect">
            <a:avLst/>
          </a:prstGeom>
          <a:noFill/>
          <a:ln w="507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</a:t>
            </a:r>
            <a:r>
              <a:rPr b="0" lang="en-US" sz="4800" spc="-1" strike="noStrike">
                <a:solidFill>
                  <a:srgbClr val="ee220c"/>
                </a:solidFill>
                <a:latin typeface="Courier New"/>
                <a:ea typeface="Gill Sans"/>
              </a:rPr>
              <a:t>i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1089360" y="8409600"/>
            <a:ext cx="1082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bservation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ighlighted code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runs 30 times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with i values of 1 through 3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4000680" y="3619440"/>
            <a:ext cx="3768480" cy="1546200"/>
          </a:xfrm>
          <a:prstGeom prst="rect">
            <a:avLst/>
          </a:prstGeom>
          <a:noFill/>
          <a:ln w="507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10363680" y="2007360"/>
            <a:ext cx="1748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10363680" y="3124800"/>
            <a:ext cx="1748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10363680" y="4241880"/>
            <a:ext cx="174816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" name="Text Box 9"/>
          <p:cNvSpPr/>
          <p:nvPr/>
        </p:nvSpPr>
        <p:spPr>
          <a:xfrm>
            <a:off x="10364400" y="6096600"/>
            <a:ext cx="19310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3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Line 10"/>
          <p:cNvSpPr/>
          <p:nvPr/>
        </p:nvSpPr>
        <p:spPr>
          <a:xfrm flipV="1">
            <a:off x="7835760" y="2511360"/>
            <a:ext cx="2343240" cy="146232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Line 11"/>
          <p:cNvSpPr/>
          <p:nvPr/>
        </p:nvSpPr>
        <p:spPr>
          <a:xfrm flipV="1">
            <a:off x="7835760" y="3535200"/>
            <a:ext cx="2398680" cy="78120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Line 12"/>
          <p:cNvSpPr/>
          <p:nvPr/>
        </p:nvSpPr>
        <p:spPr>
          <a:xfrm>
            <a:off x="7835760" y="4662360"/>
            <a:ext cx="2390760" cy="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Line 13"/>
          <p:cNvSpPr/>
          <p:nvPr/>
        </p:nvSpPr>
        <p:spPr>
          <a:xfrm>
            <a:off x="7835760" y="5057640"/>
            <a:ext cx="2213280" cy="132552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arning Objectives Toda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sted loops trac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Understanding </a:t>
            </a:r>
            <a:r>
              <a:rPr b="0" lang="en-US" sz="3200" spc="-1" strike="noStrike">
                <a:solidFill>
                  <a:srgbClr val="ff9300"/>
                </a:solidFill>
                <a:latin typeface="Menlo"/>
              </a:rPr>
              <a:t>break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ff9300"/>
                </a:solidFill>
                <a:latin typeface="Menlo"/>
              </a:rPr>
              <a:t>contin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ntrol flow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Use cas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sted loops trac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nteraction with break/continu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7721640" y="1682640"/>
            <a:ext cx="4475160" cy="763560"/>
          </a:xfrm>
          <a:prstGeom prst="rect">
            <a:avLst/>
          </a:prstGeom>
          <a:solidFill>
            <a:srgbClr val="ebebe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</a:rPr>
              <a:t>Chapter 7 of Think Pyth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7721640" y="2879640"/>
            <a:ext cx="4475160" cy="1128960"/>
          </a:xfrm>
          <a:prstGeom prst="rect">
            <a:avLst/>
          </a:prstGeom>
          <a:solidFill>
            <a:srgbClr val="ebebe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</a:rPr>
              <a:t>Chapter 2 of Sweigar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</a:rPr>
              <a:t>(great recap so far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7" name="Picture 5" descr=""/>
          <p:cNvPicPr/>
          <p:nvPr/>
        </p:nvPicPr>
        <p:blipFill>
          <a:blip r:embed="rId1"/>
          <a:stretch/>
        </p:blipFill>
        <p:spPr>
          <a:xfrm>
            <a:off x="8642520" y="4672080"/>
            <a:ext cx="2631960" cy="3475080"/>
          </a:xfrm>
          <a:prstGeom prst="rect">
            <a:avLst/>
          </a:prstGeom>
          <a:ln w="0">
            <a:noFill/>
          </a:ln>
        </p:spPr>
      </p:pic>
      <p:sp>
        <p:nvSpPr>
          <p:cNvPr id="48" name="Text Box 6">
            <a:hlinkClick r:id="rId2"/>
          </p:cNvPr>
          <p:cNvSpPr/>
          <p:nvPr/>
        </p:nvSpPr>
        <p:spPr>
          <a:xfrm>
            <a:off x="5121720" y="8435520"/>
            <a:ext cx="7184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a2ff"/>
                </a:solidFill>
                <a:uFillTx/>
                <a:latin typeface="Gill Sans"/>
              </a:rPr>
              <a:t>http://automatetheboringstuff.com/chapter2/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8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</a:t>
            </a:r>
            <a:r>
              <a:rPr b="0" lang="en-US" sz="4800" spc="-1" strike="noStrike">
                <a:solidFill>
                  <a:srgbClr val="ee220c"/>
                </a:solidFill>
                <a:latin typeface="Courier New"/>
                <a:ea typeface="Gill Sans"/>
              </a:rPr>
              <a:t>i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3284280" y="8409600"/>
            <a:ext cx="6434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nclusion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e code prints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2, 4, 6, …, 58, 6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4000680" y="3619440"/>
            <a:ext cx="3768480" cy="1546200"/>
          </a:xfrm>
          <a:prstGeom prst="rect">
            <a:avLst/>
          </a:prstGeom>
          <a:noFill/>
          <a:ln w="507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Text Box 6"/>
          <p:cNvSpPr/>
          <p:nvPr/>
        </p:nvSpPr>
        <p:spPr>
          <a:xfrm>
            <a:off x="10363680" y="2007360"/>
            <a:ext cx="1748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Text Box 7"/>
          <p:cNvSpPr/>
          <p:nvPr/>
        </p:nvSpPr>
        <p:spPr>
          <a:xfrm>
            <a:off x="10363680" y="3124800"/>
            <a:ext cx="1748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Text Box 8"/>
          <p:cNvSpPr/>
          <p:nvPr/>
        </p:nvSpPr>
        <p:spPr>
          <a:xfrm>
            <a:off x="10363680" y="4241880"/>
            <a:ext cx="174816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Text Box 9"/>
          <p:cNvSpPr/>
          <p:nvPr/>
        </p:nvSpPr>
        <p:spPr>
          <a:xfrm>
            <a:off x="10364400" y="6096600"/>
            <a:ext cx="19310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3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Line 10"/>
          <p:cNvSpPr/>
          <p:nvPr/>
        </p:nvSpPr>
        <p:spPr>
          <a:xfrm flipV="1">
            <a:off x="7835760" y="2511360"/>
            <a:ext cx="2343240" cy="146232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Line 11"/>
          <p:cNvSpPr/>
          <p:nvPr/>
        </p:nvSpPr>
        <p:spPr>
          <a:xfrm flipV="1">
            <a:off x="7835760" y="3535200"/>
            <a:ext cx="2398680" cy="78120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Line 12"/>
          <p:cNvSpPr/>
          <p:nvPr/>
        </p:nvSpPr>
        <p:spPr>
          <a:xfrm>
            <a:off x="7835760" y="4662360"/>
            <a:ext cx="2390760" cy="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Line 13"/>
          <p:cNvSpPr/>
          <p:nvPr/>
        </p:nvSpPr>
        <p:spPr>
          <a:xfrm>
            <a:off x="7835760" y="5057640"/>
            <a:ext cx="2213280" cy="132552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Text Box 14"/>
          <p:cNvSpPr/>
          <p:nvPr/>
        </p:nvSpPr>
        <p:spPr>
          <a:xfrm>
            <a:off x="744120" y="2001960"/>
            <a:ext cx="1202400" cy="37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8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56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58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6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62044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 1: do </a:t>
            </a:r>
            <a:r>
              <a:rPr b="0" lang="en-US" sz="48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 N tim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92" name="Text Box 2"/>
          <p:cNvSpPr/>
          <p:nvPr/>
        </p:nvSpPr>
        <p:spPr>
          <a:xfrm>
            <a:off x="3386880" y="1604880"/>
            <a:ext cx="3668400" cy="28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 =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i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&lt;=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N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3719520" y="2819520"/>
            <a:ext cx="6549840" cy="99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815040" y="2914200"/>
            <a:ext cx="1441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ption A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817920" y="7149960"/>
            <a:ext cx="1435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ption B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62044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 1: do </a:t>
            </a:r>
            <a:r>
              <a:rPr b="0" lang="en-US" sz="48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 N tim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97" name="Text Box 2"/>
          <p:cNvSpPr/>
          <p:nvPr/>
        </p:nvSpPr>
        <p:spPr>
          <a:xfrm>
            <a:off x="3386880" y="1604880"/>
            <a:ext cx="3668400" cy="28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 =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i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&lt;=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N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3719520" y="2819520"/>
            <a:ext cx="6549840" cy="99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3386880" y="5697360"/>
            <a:ext cx="3394080" cy="28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 =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0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i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&lt;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N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3719520" y="6943680"/>
            <a:ext cx="6549840" cy="878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1" name="Text Box 6"/>
          <p:cNvSpPr/>
          <p:nvPr/>
        </p:nvSpPr>
        <p:spPr>
          <a:xfrm>
            <a:off x="815040" y="2914200"/>
            <a:ext cx="1441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ption A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Text Box 7"/>
          <p:cNvSpPr/>
          <p:nvPr/>
        </p:nvSpPr>
        <p:spPr>
          <a:xfrm>
            <a:off x="817920" y="7149960"/>
            <a:ext cx="1435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ption B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62044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 1: do </a:t>
            </a:r>
            <a:r>
              <a:rPr b="0" lang="en-US" sz="48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 N tim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04" name="Text Box 2"/>
          <p:cNvSpPr/>
          <p:nvPr/>
        </p:nvSpPr>
        <p:spPr>
          <a:xfrm>
            <a:off x="3386880" y="1604880"/>
            <a:ext cx="3668400" cy="28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 =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i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&lt;=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N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Rectangle 3"/>
          <p:cNvSpPr/>
          <p:nvPr/>
        </p:nvSpPr>
        <p:spPr>
          <a:xfrm>
            <a:off x="3719520" y="2819520"/>
            <a:ext cx="6549840" cy="99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3386880" y="5697360"/>
            <a:ext cx="3394080" cy="28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 =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0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i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&lt;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N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Rectangle 5"/>
          <p:cNvSpPr/>
          <p:nvPr/>
        </p:nvSpPr>
        <p:spPr>
          <a:xfrm>
            <a:off x="3719520" y="6943680"/>
            <a:ext cx="6549840" cy="878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Text Box 6"/>
          <p:cNvSpPr/>
          <p:nvPr/>
        </p:nvSpPr>
        <p:spPr>
          <a:xfrm>
            <a:off x="815040" y="2914200"/>
            <a:ext cx="1441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ption A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Text Box 7"/>
          <p:cNvSpPr/>
          <p:nvPr/>
        </p:nvSpPr>
        <p:spPr>
          <a:xfrm>
            <a:off x="817920" y="7149960"/>
            <a:ext cx="1435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ption B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5630760" y="4641480"/>
            <a:ext cx="1742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1, 2, 3, …, 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Text Box 9"/>
          <p:cNvSpPr/>
          <p:nvPr/>
        </p:nvSpPr>
        <p:spPr>
          <a:xfrm>
            <a:off x="5495040" y="8592840"/>
            <a:ext cx="2013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0, 1, 2, …, N-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Design Pattern 2: do </a:t>
            </a:r>
            <a:r>
              <a:rPr b="0" lang="en-US" sz="44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 with all data</a:t>
            </a:r>
            <a:endParaRPr b="0" lang="en-US" sz="44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3" name="Text Box 2"/>
          <p:cNvSpPr/>
          <p:nvPr/>
        </p:nvSpPr>
        <p:spPr>
          <a:xfrm>
            <a:off x="3800880" y="1519200"/>
            <a:ext cx="449136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0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 N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Rectangle 3"/>
          <p:cNvSpPr/>
          <p:nvPr/>
        </p:nvSpPr>
        <p:spPr>
          <a:xfrm>
            <a:off x="4164120" y="3289320"/>
            <a:ext cx="6549840" cy="99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7264440" y="7061040"/>
          <a:ext cx="5334120" cy="2184480"/>
        </p:xfrm>
        <a:graphic>
          <a:graphicData uri="http://schemas.openxmlformats.org/drawingml/2006/table">
            <a:tbl>
              <a:tblPr/>
              <a:tblGrid>
                <a:gridCol w="1778040"/>
                <a:gridCol w="1778040"/>
                <a:gridCol w="1778040"/>
              </a:tblGrid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Stat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Populati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Are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WI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795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C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39.54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M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577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Design Pattern 2: do </a:t>
            </a:r>
            <a:r>
              <a:rPr b="0" lang="en-US" sz="44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 with all data</a:t>
            </a:r>
            <a:endParaRPr b="0" lang="en-US" sz="44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7" name="Text Box 2"/>
          <p:cNvSpPr/>
          <p:nvPr/>
        </p:nvSpPr>
        <p:spPr>
          <a:xfrm>
            <a:off x="3800880" y="1519200"/>
            <a:ext cx="449136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0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 N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Rectangle 3"/>
          <p:cNvSpPr/>
          <p:nvPr/>
        </p:nvSpPr>
        <p:spPr>
          <a:xfrm>
            <a:off x="4164120" y="3289320"/>
            <a:ext cx="6549840" cy="99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049920" y="6991560"/>
            <a:ext cx="32400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ount_row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et_population(inde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AutoShape 5"/>
          <p:cNvSpPr/>
          <p:nvPr/>
        </p:nvSpPr>
        <p:spPr>
          <a:xfrm>
            <a:off x="6448320" y="7688160"/>
            <a:ext cx="782640" cy="811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2053" y="7894"/>
                  <a:pt x="9253" y="694"/>
                  <a:pt x="21600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Text Box 6"/>
          <p:cNvSpPr/>
          <p:nvPr/>
        </p:nvSpPr>
        <p:spPr>
          <a:xfrm>
            <a:off x="5804640" y="8515080"/>
            <a:ext cx="1144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dex 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7264440" y="7061040"/>
          <a:ext cx="5334120" cy="2184480"/>
        </p:xfrm>
        <a:graphic>
          <a:graphicData uri="http://schemas.openxmlformats.org/drawingml/2006/table">
            <a:tbl>
              <a:tblPr/>
              <a:tblGrid>
                <a:gridCol w="1778040"/>
                <a:gridCol w="1778040"/>
                <a:gridCol w="1778040"/>
              </a:tblGrid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Stat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Populati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Are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WI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795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C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39.54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M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577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Design Pattern 2: do </a:t>
            </a:r>
            <a:r>
              <a:rPr b="0" lang="en-US" sz="44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 with all data</a:t>
            </a:r>
            <a:endParaRPr b="0" lang="en-US" sz="44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24" name="Text Box 2"/>
          <p:cNvSpPr/>
          <p:nvPr/>
        </p:nvSpPr>
        <p:spPr>
          <a:xfrm>
            <a:off x="3800880" y="1519200"/>
            <a:ext cx="449136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0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 N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Rectangle 3"/>
          <p:cNvSpPr/>
          <p:nvPr/>
        </p:nvSpPr>
        <p:spPr>
          <a:xfrm>
            <a:off x="4164120" y="3289320"/>
            <a:ext cx="6549840" cy="99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3049920" y="6991560"/>
            <a:ext cx="32400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ount_row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et_population(inde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AutoShape 5"/>
          <p:cNvSpPr/>
          <p:nvPr/>
        </p:nvSpPr>
        <p:spPr>
          <a:xfrm>
            <a:off x="6448320" y="8056440"/>
            <a:ext cx="782640" cy="811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2053" y="7894"/>
                  <a:pt x="9253" y="694"/>
                  <a:pt x="21600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Text Box 6"/>
          <p:cNvSpPr/>
          <p:nvPr/>
        </p:nvSpPr>
        <p:spPr>
          <a:xfrm>
            <a:off x="5804640" y="8883360"/>
            <a:ext cx="1144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dex 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7264440" y="7061040"/>
          <a:ext cx="5334120" cy="2184480"/>
        </p:xfrm>
        <a:graphic>
          <a:graphicData uri="http://schemas.openxmlformats.org/drawingml/2006/table">
            <a:tbl>
              <a:tblPr/>
              <a:tblGrid>
                <a:gridCol w="1778040"/>
                <a:gridCol w="1778040"/>
                <a:gridCol w="1778040"/>
              </a:tblGrid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Stat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Populati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Are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WI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795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C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39.54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M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577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Design Pattern 2: do </a:t>
            </a:r>
            <a:r>
              <a:rPr b="0" lang="en-US" sz="44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 with all data</a:t>
            </a:r>
            <a:endParaRPr b="0" lang="en-US" sz="44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31" name="Text Box 2"/>
          <p:cNvSpPr/>
          <p:nvPr/>
        </p:nvSpPr>
        <p:spPr>
          <a:xfrm>
            <a:off x="4030200" y="1519200"/>
            <a:ext cx="851472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0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 </a:t>
            </a:r>
            <a:r>
              <a:rPr b="0" lang="en-US" sz="4800" spc="-1" strike="noStrike">
                <a:solidFill>
                  <a:srgbClr val="ee220c"/>
                </a:solidFill>
                <a:latin typeface="Courier New"/>
              </a:rPr>
              <a:t>count_rows()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op = </a:t>
            </a:r>
            <a:r>
              <a:rPr b="0" lang="en-US" sz="4800" spc="-1" strike="noStrike">
                <a:solidFill>
                  <a:srgbClr val="0076ba"/>
                </a:solidFill>
                <a:latin typeface="Courier New"/>
                <a:ea typeface="Gill Sans"/>
              </a:rPr>
              <a:t>get_population(i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Rectangle 3"/>
          <p:cNvSpPr/>
          <p:nvPr/>
        </p:nvSpPr>
        <p:spPr>
          <a:xfrm>
            <a:off x="4164120" y="3852720"/>
            <a:ext cx="6549840" cy="1360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3049920" y="6991560"/>
            <a:ext cx="32400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ount_row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76ba"/>
                </a:solidFill>
                <a:latin typeface="Gill Sans"/>
              </a:rPr>
              <a:t>get_population(inde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7264440" y="7061040"/>
          <a:ext cx="5334120" cy="2184480"/>
        </p:xfrm>
        <a:graphic>
          <a:graphicData uri="http://schemas.openxmlformats.org/drawingml/2006/table">
            <a:tbl>
              <a:tblPr/>
              <a:tblGrid>
                <a:gridCol w="1778040"/>
                <a:gridCol w="1778040"/>
                <a:gridCol w="1778040"/>
              </a:tblGrid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Stat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Populati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Are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WI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795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C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39.54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M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577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Design Pattern 2: do </a:t>
            </a:r>
            <a:r>
              <a:rPr b="0" lang="en-US" sz="44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 with all data</a:t>
            </a:r>
            <a:endParaRPr b="0" lang="en-US" sz="44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36" name="Text Box 2"/>
          <p:cNvSpPr/>
          <p:nvPr/>
        </p:nvSpPr>
        <p:spPr>
          <a:xfrm>
            <a:off x="4030200" y="1519200"/>
            <a:ext cx="851472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0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 </a:t>
            </a:r>
            <a:r>
              <a:rPr b="0" lang="en-US" sz="4800" spc="-1" strike="noStrike">
                <a:solidFill>
                  <a:srgbClr val="ee220c"/>
                </a:solidFill>
                <a:latin typeface="Courier New"/>
              </a:rPr>
              <a:t>count_rows()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op = </a:t>
            </a:r>
            <a:r>
              <a:rPr b="0" lang="en-US" sz="4800" spc="-1" strike="noStrike">
                <a:solidFill>
                  <a:srgbClr val="0076ba"/>
                </a:solidFill>
                <a:latin typeface="Courier New"/>
                <a:ea typeface="Gill Sans"/>
              </a:rPr>
              <a:t>get_population(i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Rectangle 3"/>
          <p:cNvSpPr/>
          <p:nvPr/>
        </p:nvSpPr>
        <p:spPr>
          <a:xfrm>
            <a:off x="4164120" y="3852720"/>
            <a:ext cx="6549840" cy="1360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3049920" y="6991560"/>
            <a:ext cx="32400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ount_row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76ba"/>
                </a:solidFill>
                <a:latin typeface="Gill Sans"/>
              </a:rPr>
              <a:t>get_population(inde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357480" y="4460400"/>
            <a:ext cx="27889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ff9300"/>
                </a:solidFill>
                <a:latin typeface="Gill Sans"/>
              </a:rPr>
              <a:t>assumes w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ff9300"/>
                </a:solidFill>
                <a:latin typeface="Gill Sans"/>
              </a:rPr>
              <a:t>use 0 for first row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0" name="AutoShape 6"/>
          <p:cNvSpPr/>
          <p:nvPr/>
        </p:nvSpPr>
        <p:spPr>
          <a:xfrm>
            <a:off x="1630440" y="2022480"/>
            <a:ext cx="1877760" cy="2403360"/>
          </a:xfrm>
          <a:custGeom>
            <a:avLst/>
            <a:gdLst/>
            <a:ahLst/>
            <a:rect l="l" t="t" r="r" b="b"/>
            <a:pathLst>
              <a:path w="21598" h="21600">
                <a:moveTo>
                  <a:pt x="0" y="21600"/>
                </a:moveTo>
                <a:cubicBezTo>
                  <a:pt x="-2" y="7436"/>
                  <a:pt x="7197" y="236"/>
                  <a:pt x="21598" y="0"/>
                </a:cubicBezTo>
              </a:path>
            </a:pathLst>
          </a:custGeom>
          <a:noFill/>
          <a:ln w="507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AutoShape 7"/>
          <p:cNvSpPr/>
          <p:nvPr/>
        </p:nvSpPr>
        <p:spPr>
          <a:xfrm>
            <a:off x="2867040" y="5415120"/>
            <a:ext cx="4281480" cy="2166840"/>
          </a:xfrm>
          <a:custGeom>
            <a:avLst/>
            <a:gdLst/>
            <a:ahLst/>
            <a:rect l="l" t="t" r="r" b="b"/>
            <a:pathLst>
              <a:path w="21348" h="21600">
                <a:moveTo>
                  <a:pt x="7" y="0"/>
                </a:moveTo>
                <a:cubicBezTo>
                  <a:pt x="-252" y="5374"/>
                  <a:pt x="6862" y="12574"/>
                  <a:pt x="21348" y="21600"/>
                </a:cubicBezTo>
              </a:path>
            </a:pathLst>
          </a:custGeom>
          <a:noFill/>
          <a:ln w="507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7264440" y="7061040"/>
          <a:ext cx="5334120" cy="2184480"/>
        </p:xfrm>
        <a:graphic>
          <a:graphicData uri="http://schemas.openxmlformats.org/drawingml/2006/table">
            <a:tbl>
              <a:tblPr/>
              <a:tblGrid>
                <a:gridCol w="1778040"/>
                <a:gridCol w="1778040"/>
                <a:gridCol w="1778040"/>
              </a:tblGrid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Stat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Populati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Are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WI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795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C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39.54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M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577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36400"/>
                <a:tab algn="l" pos="1073160"/>
                <a:tab algn="l" pos="1609560"/>
                <a:tab algn="l" pos="2146320"/>
                <a:tab algn="l" pos="2682720"/>
                <a:tab algn="l" pos="3219480"/>
                <a:tab algn="l" pos="3755880"/>
                <a:tab algn="l" pos="4292640"/>
                <a:tab algn="l" pos="4829040"/>
                <a:tab algn="l" pos="5365800"/>
                <a:tab algn="l" pos="5902200"/>
                <a:tab algn="l" pos="6438960"/>
                <a:tab algn="l" pos="6975360"/>
                <a:tab algn="l" pos="7512120"/>
                <a:tab algn="l" pos="8048520"/>
                <a:tab algn="l" pos="8585280"/>
                <a:tab algn="l" pos="9121680"/>
                <a:tab algn="l" pos="9658440"/>
                <a:tab algn="l" pos="10194840"/>
                <a:tab algn="l" pos="10731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Design Pattern 3: do </a:t>
            </a:r>
            <a:r>
              <a:rPr b="0" lang="en-US" sz="44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 until the end</a:t>
            </a:r>
            <a:endParaRPr b="0" lang="en-US" sz="44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44" name="Text Box 2"/>
          <p:cNvSpPr/>
          <p:nvPr/>
        </p:nvSpPr>
        <p:spPr>
          <a:xfrm>
            <a:off x="4067640" y="2421000"/>
            <a:ext cx="6320160" cy="22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4800" spc="-1" strike="noStrike">
                <a:solidFill>
                  <a:srgbClr val="ee220c"/>
                </a:solidFill>
                <a:latin typeface="Courier New"/>
              </a:rPr>
              <a:t>has_more()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data = </a:t>
            </a:r>
            <a:r>
              <a:rPr b="0" lang="en-US" sz="4800" spc="-1" strike="noStrike">
                <a:solidFill>
                  <a:srgbClr val="ee220c"/>
                </a:solidFill>
                <a:latin typeface="Courier New"/>
                <a:ea typeface="Gill Sans"/>
              </a:rPr>
              <a:t>get_next(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Rectangle 3"/>
          <p:cNvSpPr/>
          <p:nvPr/>
        </p:nvSpPr>
        <p:spPr>
          <a:xfrm>
            <a:off x="4151160" y="4127400"/>
            <a:ext cx="6550200" cy="99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6" name="Text Box 4"/>
          <p:cNvSpPr/>
          <p:nvPr/>
        </p:nvSpPr>
        <p:spPr>
          <a:xfrm>
            <a:off x="2164320" y="6561720"/>
            <a:ext cx="867492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eople creating functions/modules for other programm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o use will often have functions for checking if there is mor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ata and for getting the data one piece at a ti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esign Patter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orkshee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reak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ontin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st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Design Patter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Workshee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Problem 1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Problem 2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reak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ontin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st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3" descr=""/>
          <p:cNvPicPr/>
          <p:nvPr/>
        </p:nvPicPr>
        <p:blipFill>
          <a:blip r:embed="rId1"/>
          <a:stretch/>
        </p:blipFill>
        <p:spPr>
          <a:xfrm>
            <a:off x="1092240" y="1295280"/>
            <a:ext cx="6164280" cy="30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3" descr=""/>
          <p:cNvPicPr/>
          <p:nvPr/>
        </p:nvPicPr>
        <p:blipFill>
          <a:blip r:embed="rId1"/>
          <a:stretch/>
        </p:blipFill>
        <p:spPr>
          <a:xfrm>
            <a:off x="1092240" y="1295280"/>
            <a:ext cx="6164280" cy="3038760"/>
          </a:xfrm>
          <a:prstGeom prst="rect">
            <a:avLst/>
          </a:prstGeom>
          <a:ln w="0">
            <a:noFill/>
          </a:ln>
        </p:spPr>
      </p:pic>
      <p:sp>
        <p:nvSpPr>
          <p:cNvPr id="251" name="TextBox 1"/>
          <p:cNvSpPr/>
          <p:nvPr/>
        </p:nvSpPr>
        <p:spPr>
          <a:xfrm>
            <a:off x="8977680" y="1905120"/>
            <a:ext cx="1901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untdow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3" descr=""/>
          <p:cNvPicPr/>
          <p:nvPr/>
        </p:nvPicPr>
        <p:blipFill>
          <a:blip r:embed="rId1"/>
          <a:stretch/>
        </p:blipFill>
        <p:spPr>
          <a:xfrm>
            <a:off x="1092240" y="1295280"/>
            <a:ext cx="6164280" cy="3038760"/>
          </a:xfrm>
          <a:prstGeom prst="rect">
            <a:avLst/>
          </a:prstGeom>
          <a:ln w="0">
            <a:noFill/>
          </a:ln>
        </p:spPr>
      </p:pic>
      <p:sp>
        <p:nvSpPr>
          <p:cNvPr id="253" name="TextBox 1"/>
          <p:cNvSpPr/>
          <p:nvPr/>
        </p:nvSpPr>
        <p:spPr>
          <a:xfrm>
            <a:off x="8977680" y="1905120"/>
            <a:ext cx="1901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untdow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TextBox 2"/>
          <p:cNvSpPr/>
          <p:nvPr/>
        </p:nvSpPr>
        <p:spPr>
          <a:xfrm>
            <a:off x="8973000" y="4940280"/>
            <a:ext cx="1227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3" descr=""/>
          <p:cNvPicPr/>
          <p:nvPr/>
        </p:nvPicPr>
        <p:blipFill>
          <a:blip r:embed="rId1"/>
          <a:stretch/>
        </p:blipFill>
        <p:spPr>
          <a:xfrm>
            <a:off x="635040" y="533520"/>
            <a:ext cx="9193320" cy="51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3" descr=""/>
          <p:cNvPicPr/>
          <p:nvPr/>
        </p:nvPicPr>
        <p:blipFill>
          <a:blip r:embed="rId1"/>
          <a:stretch/>
        </p:blipFill>
        <p:spPr>
          <a:xfrm>
            <a:off x="635040" y="533520"/>
            <a:ext cx="9193320" cy="5133960"/>
          </a:xfrm>
          <a:prstGeom prst="rect">
            <a:avLst/>
          </a:prstGeom>
          <a:ln w="0">
            <a:noFill/>
          </a:ln>
        </p:spPr>
      </p:pic>
      <p:sp>
        <p:nvSpPr>
          <p:cNvPr id="257" name="TextBox 1"/>
          <p:cNvSpPr/>
          <p:nvPr/>
        </p:nvSpPr>
        <p:spPr>
          <a:xfrm>
            <a:off x="7341120" y="2590920"/>
            <a:ext cx="354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3" descr=""/>
          <p:cNvPicPr/>
          <p:nvPr/>
        </p:nvPicPr>
        <p:blipFill>
          <a:blip r:embed="rId1"/>
          <a:stretch/>
        </p:blipFill>
        <p:spPr>
          <a:xfrm>
            <a:off x="635040" y="533520"/>
            <a:ext cx="9193320" cy="5133960"/>
          </a:xfrm>
          <a:prstGeom prst="rect">
            <a:avLst/>
          </a:prstGeom>
          <a:ln w="0">
            <a:noFill/>
          </a:ln>
        </p:spPr>
      </p:pic>
      <p:sp>
        <p:nvSpPr>
          <p:cNvPr id="259" name="TextBox 1"/>
          <p:cNvSpPr/>
          <p:nvPr/>
        </p:nvSpPr>
        <p:spPr>
          <a:xfrm>
            <a:off x="7366320" y="2590920"/>
            <a:ext cx="766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    j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   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   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  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Gill Sans"/>
              <a:buAutoNum type="arabicPlain" startAt="3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  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   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3" descr=""/>
          <p:cNvPicPr/>
          <p:nvPr/>
        </p:nvPicPr>
        <p:blipFill>
          <a:blip r:embed="rId1"/>
          <a:stretch/>
        </p:blipFill>
        <p:spPr>
          <a:xfrm>
            <a:off x="635040" y="533520"/>
            <a:ext cx="9193320" cy="5133960"/>
          </a:xfrm>
          <a:prstGeom prst="rect">
            <a:avLst/>
          </a:prstGeom>
          <a:ln w="0">
            <a:noFill/>
          </a:ln>
        </p:spPr>
      </p:pic>
      <p:sp>
        <p:nvSpPr>
          <p:cNvPr id="261" name="TextBox 1"/>
          <p:cNvSpPr/>
          <p:nvPr/>
        </p:nvSpPr>
        <p:spPr>
          <a:xfrm>
            <a:off x="7366320" y="2590920"/>
            <a:ext cx="766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    j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   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   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  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Gill Sans"/>
              <a:buAutoNum type="arabicPlain" startAt="3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  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   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2" name="TextBox 2"/>
          <p:cNvSpPr/>
          <p:nvPr/>
        </p:nvSpPr>
        <p:spPr>
          <a:xfrm>
            <a:off x="9783360" y="2406600"/>
            <a:ext cx="1280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E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E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E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Design Patter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Workshee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Break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ontin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st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AutoShape 3"/>
          <p:cNvSpPr/>
          <p:nvPr/>
        </p:nvSpPr>
        <p:spPr>
          <a:xfrm>
            <a:off x="800280" y="3530520"/>
            <a:ext cx="2809800" cy="701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88" y="0"/>
                </a:moveTo>
                <a:cubicBezTo>
                  <a:pt x="219" y="0"/>
                  <a:pt x="0" y="875"/>
                  <a:pt x="0" y="1955"/>
                </a:cubicBezTo>
                <a:lnTo>
                  <a:pt x="0" y="19645"/>
                </a:lnTo>
                <a:cubicBezTo>
                  <a:pt x="0" y="20725"/>
                  <a:pt x="219" y="21600"/>
                  <a:pt x="488" y="21600"/>
                </a:cubicBezTo>
                <a:lnTo>
                  <a:pt x="12638" y="21600"/>
                </a:lnTo>
                <a:cubicBezTo>
                  <a:pt x="12907" y="21600"/>
                  <a:pt x="13126" y="20725"/>
                  <a:pt x="13126" y="19645"/>
                </a:cubicBezTo>
                <a:lnTo>
                  <a:pt x="13126" y="15198"/>
                </a:lnTo>
                <a:lnTo>
                  <a:pt x="21600" y="11301"/>
                </a:lnTo>
                <a:lnTo>
                  <a:pt x="13126" y="7391"/>
                </a:lnTo>
                <a:lnTo>
                  <a:pt x="13126" y="1955"/>
                </a:lnTo>
                <a:cubicBezTo>
                  <a:pt x="13126" y="875"/>
                  <a:pt x="12907" y="0"/>
                  <a:pt x="12638" y="0"/>
                </a:cubicBezTo>
                <a:lnTo>
                  <a:pt x="488" y="0"/>
                </a:lnTo>
                <a:close/>
              </a:path>
            </a:pathLst>
          </a:custGeom>
          <a:noFill/>
          <a:ln w="255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Text Box 4"/>
          <p:cNvSpPr/>
          <p:nvPr/>
        </p:nvSpPr>
        <p:spPr>
          <a:xfrm>
            <a:off x="3357000" y="3668040"/>
            <a:ext cx="39016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Don’t get too excited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nly the loops get a break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asic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9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lock of code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aybe many lines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1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2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3" name="Text Box 7"/>
          <p:cNvSpPr/>
          <p:nvPr/>
        </p:nvSpPr>
        <p:spPr>
          <a:xfrm>
            <a:off x="8667720" y="57420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4" name="Text Box 8"/>
          <p:cNvSpPr/>
          <p:nvPr/>
        </p:nvSpPr>
        <p:spPr>
          <a:xfrm>
            <a:off x="1524600" y="307944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Text Box 9"/>
          <p:cNvSpPr/>
          <p:nvPr/>
        </p:nvSpPr>
        <p:spPr>
          <a:xfrm>
            <a:off x="59040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 (outside Programming)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2610000" y="2152800"/>
            <a:ext cx="7785000" cy="22986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3"/>
          <p:cNvSpPr/>
          <p:nvPr/>
        </p:nvSpPr>
        <p:spPr>
          <a:xfrm>
            <a:off x="5671800" y="4641480"/>
            <a:ext cx="1661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[wikipedia]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asic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 CONDITION: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ff9300"/>
                </a:solidFill>
                <a:latin typeface="Courier New"/>
              </a:rPr>
              <a:t>break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or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9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Text Box 7"/>
          <p:cNvSpPr/>
          <p:nvPr/>
        </p:nvSpPr>
        <p:spPr>
          <a:xfrm>
            <a:off x="8667720" y="57420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Text Box 8"/>
          <p:cNvSpPr/>
          <p:nvPr/>
        </p:nvSpPr>
        <p:spPr>
          <a:xfrm>
            <a:off x="1524600" y="307944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Text Box 9"/>
          <p:cNvSpPr/>
          <p:nvPr/>
        </p:nvSpPr>
        <p:spPr>
          <a:xfrm>
            <a:off x="59040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AutoShape 10"/>
          <p:cNvSpPr/>
          <p:nvPr/>
        </p:nvSpPr>
        <p:spPr>
          <a:xfrm>
            <a:off x="1087560" y="5481720"/>
            <a:ext cx="1431720" cy="1807920"/>
          </a:xfrm>
          <a:custGeom>
            <a:avLst/>
            <a:gdLst/>
            <a:ahLst/>
            <a:rect l="l" t="t" r="r" b="b"/>
            <a:pathLst>
              <a:path w="20509" h="21600">
                <a:moveTo>
                  <a:pt x="20509" y="0"/>
                </a:moveTo>
                <a:cubicBezTo>
                  <a:pt x="5698" y="11034"/>
                  <a:pt x="-1091" y="18234"/>
                  <a:pt x="142" y="21600"/>
                </a:cubicBezTo>
              </a:path>
            </a:pathLst>
          </a:custGeom>
          <a:noFill/>
          <a:ln w="255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Text Box 11"/>
          <p:cNvSpPr/>
          <p:nvPr/>
        </p:nvSpPr>
        <p:spPr>
          <a:xfrm>
            <a:off x="3208320" y="8294760"/>
            <a:ext cx="658692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Just like </a:t>
            </a:r>
            <a:r>
              <a:rPr b="0" lang="en-US" sz="2400" spc="-1" strike="noStrike">
                <a:solidFill>
                  <a:srgbClr val="ff9300"/>
                </a:solidFill>
                <a:latin typeface="Menlo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immediately exits a function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Menlo"/>
              </a:rPr>
              <a:t>break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immediately exits a loop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asic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 CONDITION: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ff9300"/>
                </a:solidFill>
                <a:latin typeface="Courier New"/>
              </a:rPr>
              <a:t>break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or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3" name="Text Box 7"/>
          <p:cNvSpPr/>
          <p:nvPr/>
        </p:nvSpPr>
        <p:spPr>
          <a:xfrm>
            <a:off x="8667720" y="57420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Text Box 8"/>
          <p:cNvSpPr/>
          <p:nvPr/>
        </p:nvSpPr>
        <p:spPr>
          <a:xfrm>
            <a:off x="1524600" y="307944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Text Box 9"/>
          <p:cNvSpPr/>
          <p:nvPr/>
        </p:nvSpPr>
        <p:spPr>
          <a:xfrm>
            <a:off x="59040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AutoShape 10"/>
          <p:cNvSpPr/>
          <p:nvPr/>
        </p:nvSpPr>
        <p:spPr>
          <a:xfrm>
            <a:off x="1087560" y="5481720"/>
            <a:ext cx="1431720" cy="1807920"/>
          </a:xfrm>
          <a:custGeom>
            <a:avLst/>
            <a:gdLst/>
            <a:ahLst/>
            <a:rect l="l" t="t" r="r" b="b"/>
            <a:pathLst>
              <a:path w="20509" h="21600">
                <a:moveTo>
                  <a:pt x="20509" y="0"/>
                </a:moveTo>
                <a:cubicBezTo>
                  <a:pt x="5698" y="11034"/>
                  <a:pt x="-1091" y="18234"/>
                  <a:pt x="142" y="21600"/>
                </a:cubicBezTo>
              </a:path>
            </a:pathLst>
          </a:custGeom>
          <a:noFill/>
          <a:ln w="255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Text Box 11"/>
          <p:cNvSpPr/>
          <p:nvPr/>
        </p:nvSpPr>
        <p:spPr>
          <a:xfrm>
            <a:off x="1975320" y="8375400"/>
            <a:ext cx="9052920" cy="772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</a:rPr>
              <a:t>Usage: </a:t>
            </a:r>
            <a:r>
              <a:rPr b="0" lang="en-US" sz="2200" spc="-1" strike="noStrike">
                <a:solidFill>
                  <a:srgbClr val="ffffff"/>
                </a:solidFill>
                <a:latin typeface="Gill Sans"/>
              </a:rPr>
              <a:t>Commonly used when we’re searching through many things.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</a:rPr>
              <a:t>Allows us to stop as soon as we find what we want.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mo: Prime Search Program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Goal: answer whether a range of numbers contains a pr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Inpu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446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art of rang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446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nd of rang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Outpu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446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Yes or no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4 to 16 =&gt; NO (because 14, 15, and 16 are all not prime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0 to 12 =&gt; YES (because 11 is prime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0" name="Line 3"/>
          <p:cNvSpPr/>
          <p:nvPr/>
        </p:nvSpPr>
        <p:spPr>
          <a:xfrm>
            <a:off x="5384880" y="4127400"/>
            <a:ext cx="56610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1" name="Text Box 4"/>
          <p:cNvSpPr/>
          <p:nvPr/>
        </p:nvSpPr>
        <p:spPr>
          <a:xfrm>
            <a:off x="567936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1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Text Box 5"/>
          <p:cNvSpPr/>
          <p:nvPr/>
        </p:nvSpPr>
        <p:spPr>
          <a:xfrm>
            <a:off x="631476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1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Text Box 6"/>
          <p:cNvSpPr/>
          <p:nvPr/>
        </p:nvSpPr>
        <p:spPr>
          <a:xfrm>
            <a:off x="694908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1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Text Box 7"/>
          <p:cNvSpPr/>
          <p:nvPr/>
        </p:nvSpPr>
        <p:spPr>
          <a:xfrm>
            <a:off x="758484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1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Text Box 8"/>
          <p:cNvSpPr/>
          <p:nvPr/>
        </p:nvSpPr>
        <p:spPr>
          <a:xfrm>
            <a:off x="821916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1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Text Box 9"/>
          <p:cNvSpPr/>
          <p:nvPr/>
        </p:nvSpPr>
        <p:spPr>
          <a:xfrm>
            <a:off x="885420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1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948924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16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1012500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17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3" descr=""/>
          <p:cNvPicPr/>
          <p:nvPr/>
        </p:nvPicPr>
        <p:blipFill>
          <a:blip r:embed="rId1"/>
          <a:stretch/>
        </p:blipFill>
        <p:spPr>
          <a:xfrm>
            <a:off x="528480" y="609480"/>
            <a:ext cx="11947680" cy="463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3" descr=""/>
          <p:cNvPicPr/>
          <p:nvPr/>
        </p:nvPicPr>
        <p:blipFill>
          <a:blip r:embed="rId1"/>
          <a:stretch/>
        </p:blipFill>
        <p:spPr>
          <a:xfrm>
            <a:off x="528480" y="609480"/>
            <a:ext cx="11947680" cy="4638960"/>
          </a:xfrm>
          <a:prstGeom prst="rect">
            <a:avLst/>
          </a:prstGeom>
          <a:ln w="0">
            <a:noFill/>
          </a:ln>
        </p:spPr>
      </p:pic>
      <p:sp>
        <p:nvSpPr>
          <p:cNvPr id="311" name="TextBox 1"/>
          <p:cNvSpPr/>
          <p:nvPr/>
        </p:nvSpPr>
        <p:spPr>
          <a:xfrm>
            <a:off x="8384760" y="2133720"/>
            <a:ext cx="8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nu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3" descr=""/>
          <p:cNvPicPr/>
          <p:nvPr/>
        </p:nvPicPr>
        <p:blipFill>
          <a:blip r:embed="rId1"/>
          <a:stretch/>
        </p:blipFill>
        <p:spPr>
          <a:xfrm>
            <a:off x="528480" y="609480"/>
            <a:ext cx="11947680" cy="4638960"/>
          </a:xfrm>
          <a:prstGeom prst="rect">
            <a:avLst/>
          </a:prstGeom>
          <a:ln w="0">
            <a:noFill/>
          </a:ln>
        </p:spPr>
      </p:pic>
      <p:sp>
        <p:nvSpPr>
          <p:cNvPr id="313" name="TextBox 1"/>
          <p:cNvSpPr/>
          <p:nvPr/>
        </p:nvSpPr>
        <p:spPr>
          <a:xfrm>
            <a:off x="8384760" y="2133720"/>
            <a:ext cx="8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nu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4" name="TextBox 2"/>
          <p:cNvSpPr/>
          <p:nvPr/>
        </p:nvSpPr>
        <p:spPr>
          <a:xfrm>
            <a:off x="9762480" y="1763640"/>
            <a:ext cx="1619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side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andwic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3" descr=""/>
          <p:cNvPicPr/>
          <p:nvPr/>
        </p:nvPicPr>
        <p:blipFill>
          <a:blip r:embed="rId1"/>
          <a:stretch/>
        </p:blipFill>
        <p:spPr>
          <a:xfrm>
            <a:off x="528480" y="609480"/>
            <a:ext cx="11947680" cy="4638960"/>
          </a:xfrm>
          <a:prstGeom prst="rect">
            <a:avLst/>
          </a:prstGeom>
          <a:ln w="0">
            <a:noFill/>
          </a:ln>
        </p:spPr>
      </p:pic>
      <p:sp>
        <p:nvSpPr>
          <p:cNvPr id="316" name="TextBox 1"/>
          <p:cNvSpPr/>
          <p:nvPr/>
        </p:nvSpPr>
        <p:spPr>
          <a:xfrm>
            <a:off x="8384760" y="2133720"/>
            <a:ext cx="8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nu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TextBox 2"/>
          <p:cNvSpPr/>
          <p:nvPr/>
        </p:nvSpPr>
        <p:spPr>
          <a:xfrm>
            <a:off x="9762480" y="1763640"/>
            <a:ext cx="1619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side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andwic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8" name="TextBox 5"/>
          <p:cNvSpPr/>
          <p:nvPr/>
        </p:nvSpPr>
        <p:spPr>
          <a:xfrm>
            <a:off x="8404920" y="4929120"/>
            <a:ext cx="122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Design Patter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Workshee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reak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Contin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st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asic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lock of code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aybe many lines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Text Box 7"/>
          <p:cNvSpPr/>
          <p:nvPr/>
        </p:nvSpPr>
        <p:spPr>
          <a:xfrm>
            <a:off x="8667720" y="57420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8" name="Text Box 8"/>
          <p:cNvSpPr/>
          <p:nvPr/>
        </p:nvSpPr>
        <p:spPr>
          <a:xfrm>
            <a:off x="1524600" y="307944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Text Box 9"/>
          <p:cNvSpPr/>
          <p:nvPr/>
        </p:nvSpPr>
        <p:spPr>
          <a:xfrm>
            <a:off x="59040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asic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 CONDITION: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ff9300"/>
                </a:solidFill>
                <a:latin typeface="Courier New"/>
              </a:rPr>
              <a:t>continu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or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Text Box 7"/>
          <p:cNvSpPr/>
          <p:nvPr/>
        </p:nvSpPr>
        <p:spPr>
          <a:xfrm>
            <a:off x="8667720" y="57420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Text Box 8"/>
          <p:cNvSpPr/>
          <p:nvPr/>
        </p:nvSpPr>
        <p:spPr>
          <a:xfrm>
            <a:off x="1524600" y="307944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Text Box 9"/>
          <p:cNvSpPr/>
          <p:nvPr/>
        </p:nvSpPr>
        <p:spPr>
          <a:xfrm>
            <a:off x="59040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9" name="AutoShape 10"/>
          <p:cNvSpPr/>
          <p:nvPr/>
        </p:nvSpPr>
        <p:spPr>
          <a:xfrm>
            <a:off x="4068720" y="2660760"/>
            <a:ext cx="1577880" cy="2763720"/>
          </a:xfrm>
          <a:custGeom>
            <a:avLst/>
            <a:gdLst/>
            <a:ahLst/>
            <a:rect l="l" t="t" r="r" b="b"/>
            <a:pathLst>
              <a:path w="16732" h="19226">
                <a:moveTo>
                  <a:pt x="0" y="19226"/>
                </a:moveTo>
                <a:cubicBezTo>
                  <a:pt x="18332" y="3761"/>
                  <a:pt x="21600" y="-2374"/>
                  <a:pt x="9805" y="821"/>
                </a:cubicBezTo>
              </a:path>
            </a:pathLst>
          </a:custGeom>
          <a:noFill/>
          <a:ln w="255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Text Box 11"/>
          <p:cNvSpPr/>
          <p:nvPr/>
        </p:nvSpPr>
        <p:spPr>
          <a:xfrm>
            <a:off x="1658520" y="8162640"/>
            <a:ext cx="968652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Menlo"/>
              </a:rPr>
              <a:t>continu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immediately stops current iteration an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oes back to the condition, without executing the "more code part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tentially to start another itera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 (outside Programming)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2610000" y="2152800"/>
            <a:ext cx="7785000" cy="22986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"/>
          <p:cNvSpPr/>
          <p:nvPr/>
        </p:nvSpPr>
        <p:spPr>
          <a:xfrm>
            <a:off x="5671800" y="4641480"/>
            <a:ext cx="1661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[wikipedia]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685800" y="4863600"/>
            <a:ext cx="4173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somebody familiar with this structure might skip arou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2354400" y="3205800"/>
            <a:ext cx="49680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"/>
              </a:rPr>
              <a:t>1s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327760" y="3615480"/>
            <a:ext cx="55044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"/>
              </a:rPr>
              <a:t>3rd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2299680" y="4034520"/>
            <a:ext cx="60660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"/>
              </a:rPr>
              <a:t>2nd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Text Box 8"/>
          <p:cNvSpPr/>
          <p:nvPr/>
        </p:nvSpPr>
        <p:spPr>
          <a:xfrm>
            <a:off x="3836880" y="7352640"/>
            <a:ext cx="5329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ere are many similarities between reading/writing code and essay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asic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 CONDITION: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ee220c"/>
                </a:solidFill>
                <a:latin typeface="Courier New"/>
              </a:rPr>
              <a:t>continu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or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4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6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7" name="Text Box 7"/>
          <p:cNvSpPr/>
          <p:nvPr/>
        </p:nvSpPr>
        <p:spPr>
          <a:xfrm>
            <a:off x="8667720" y="57420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Text Box 8"/>
          <p:cNvSpPr/>
          <p:nvPr/>
        </p:nvSpPr>
        <p:spPr>
          <a:xfrm>
            <a:off x="1524600" y="307944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9" name="Text Box 9"/>
          <p:cNvSpPr/>
          <p:nvPr/>
        </p:nvSpPr>
        <p:spPr>
          <a:xfrm>
            <a:off x="59040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0" name="AutoShape 10"/>
          <p:cNvSpPr/>
          <p:nvPr/>
        </p:nvSpPr>
        <p:spPr>
          <a:xfrm>
            <a:off x="4068720" y="2660760"/>
            <a:ext cx="1577880" cy="2763720"/>
          </a:xfrm>
          <a:custGeom>
            <a:avLst/>
            <a:gdLst/>
            <a:ahLst/>
            <a:rect l="l" t="t" r="r" b="b"/>
            <a:pathLst>
              <a:path w="16732" h="19226">
                <a:moveTo>
                  <a:pt x="0" y="19226"/>
                </a:moveTo>
                <a:cubicBezTo>
                  <a:pt x="18332" y="3761"/>
                  <a:pt x="21600" y="-2374"/>
                  <a:pt x="9805" y="821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1" name="Text Box 11"/>
          <p:cNvSpPr/>
          <p:nvPr/>
        </p:nvSpPr>
        <p:spPr>
          <a:xfrm>
            <a:off x="1739880" y="8544240"/>
            <a:ext cx="8329680" cy="437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</a:rPr>
              <a:t>Usage: </a:t>
            </a:r>
            <a:r>
              <a:rPr b="0" lang="en-US" sz="2200" spc="-1" strike="noStrike">
                <a:solidFill>
                  <a:srgbClr val="ffffff"/>
                </a:solidFill>
                <a:latin typeface="Gill Sans"/>
              </a:rPr>
              <a:t>commonly used to skip over values we want to igno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mo: Average Scor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Goal: keep a running average of user-provided scor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Inpu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446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q” for quit (keep running until this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446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 score in the 0 to 100 rang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Outpu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446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ecompute average and print after each new numbe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Exampl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</a:t>
            </a:r>
            <a:br>
              <a:rPr sz="3200"/>
            </a:b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enter a score (or q for exit): </a:t>
            </a:r>
            <a:r>
              <a:rPr b="1" lang="en-US" sz="2200" spc="-1" strike="noStrike">
                <a:solidFill>
                  <a:srgbClr val="000000"/>
                </a:solidFill>
                <a:latin typeface="Gill Sans"/>
              </a:rPr>
              <a:t>50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avg is 50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enter a score (or q for exit): </a:t>
            </a:r>
            <a:r>
              <a:rPr b="1" lang="en-US" sz="2200" spc="-1" strike="noStrike">
                <a:solidFill>
                  <a:srgbClr val="000000"/>
                </a:solidFill>
                <a:latin typeface="Gill Sans"/>
              </a:rPr>
              <a:t>110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bad input, skipping!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enter a score (or q for exit): </a:t>
            </a:r>
            <a:r>
              <a:rPr b="1" lang="en-US" sz="2200" spc="-1" strike="noStrike">
                <a:solidFill>
                  <a:srgbClr val="000000"/>
                </a:solidFill>
                <a:latin typeface="Gill Sans"/>
              </a:rPr>
              <a:t>q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exiting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4" name="Rectangle 3"/>
          <p:cNvSpPr/>
          <p:nvPr/>
        </p:nvSpPr>
        <p:spPr>
          <a:xfrm>
            <a:off x="6743880" y="6807240"/>
            <a:ext cx="4668480" cy="957240"/>
          </a:xfrm>
          <a:prstGeom prst="rect">
            <a:avLst/>
          </a:prstGeom>
          <a:solidFill>
            <a:srgbClr val="f8ba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</a:rPr>
              <a:t>Twist: use “continue” to skip over inputs not in the 0 to 100 rang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Design Patter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Workshee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reak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in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est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3" descr=""/>
          <p:cNvPicPr/>
          <p:nvPr/>
        </p:nvPicPr>
        <p:blipFill>
          <a:blip r:embed="rId1"/>
          <a:stretch/>
        </p:blipFill>
        <p:spPr>
          <a:xfrm>
            <a:off x="482760" y="457200"/>
            <a:ext cx="12191760" cy="41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Picture 3" descr=""/>
          <p:cNvPicPr/>
          <p:nvPr/>
        </p:nvPicPr>
        <p:blipFill>
          <a:blip r:embed="rId1"/>
          <a:stretch/>
        </p:blipFill>
        <p:spPr>
          <a:xfrm>
            <a:off x="482760" y="457200"/>
            <a:ext cx="12191760" cy="4152960"/>
          </a:xfrm>
          <a:prstGeom prst="rect">
            <a:avLst/>
          </a:prstGeom>
          <a:ln w="0">
            <a:noFill/>
          </a:ln>
        </p:spPr>
      </p:pic>
      <p:sp>
        <p:nvSpPr>
          <p:cNvPr id="359" name="TextBox 5"/>
          <p:cNvSpPr/>
          <p:nvPr/>
        </p:nvSpPr>
        <p:spPr>
          <a:xfrm>
            <a:off x="8384760" y="2133720"/>
            <a:ext cx="8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nu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Picture 3" descr=""/>
          <p:cNvPicPr/>
          <p:nvPr/>
        </p:nvPicPr>
        <p:blipFill>
          <a:blip r:embed="rId1"/>
          <a:stretch/>
        </p:blipFill>
        <p:spPr>
          <a:xfrm>
            <a:off x="482760" y="457200"/>
            <a:ext cx="12191760" cy="4152960"/>
          </a:xfrm>
          <a:prstGeom prst="rect">
            <a:avLst/>
          </a:prstGeom>
          <a:ln w="0">
            <a:noFill/>
          </a:ln>
        </p:spPr>
      </p:pic>
      <p:sp>
        <p:nvSpPr>
          <p:cNvPr id="361" name="TextBox 5"/>
          <p:cNvSpPr/>
          <p:nvPr/>
        </p:nvSpPr>
        <p:spPr>
          <a:xfrm>
            <a:off x="8384760" y="2133720"/>
            <a:ext cx="8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nu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2" name="TextBox 7"/>
          <p:cNvSpPr/>
          <p:nvPr/>
        </p:nvSpPr>
        <p:spPr>
          <a:xfrm>
            <a:off x="9762480" y="1763640"/>
            <a:ext cx="1619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side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andwic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1"/>
          <a:stretch/>
        </p:blipFill>
        <p:spPr>
          <a:xfrm>
            <a:off x="482760" y="457200"/>
            <a:ext cx="12191760" cy="4152960"/>
          </a:xfrm>
          <a:prstGeom prst="rect">
            <a:avLst/>
          </a:prstGeom>
          <a:ln w="0">
            <a:noFill/>
          </a:ln>
        </p:spPr>
      </p:pic>
      <p:sp>
        <p:nvSpPr>
          <p:cNvPr id="364" name="TextBox 5"/>
          <p:cNvSpPr/>
          <p:nvPr/>
        </p:nvSpPr>
        <p:spPr>
          <a:xfrm>
            <a:off x="8384760" y="2133720"/>
            <a:ext cx="8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nu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TextBox 7"/>
          <p:cNvSpPr/>
          <p:nvPr/>
        </p:nvSpPr>
        <p:spPr>
          <a:xfrm>
            <a:off x="9762480" y="1763640"/>
            <a:ext cx="1619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side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andwic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6" name="TextBox 9"/>
          <p:cNvSpPr/>
          <p:nvPr/>
        </p:nvSpPr>
        <p:spPr>
          <a:xfrm>
            <a:off x="8404920" y="4929120"/>
            <a:ext cx="1227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Nested loop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68" name="Text Box 2"/>
          <p:cNvSpPr/>
          <p:nvPr/>
        </p:nvSpPr>
        <p:spPr>
          <a:xfrm>
            <a:off x="1586160" y="2192400"/>
            <a:ext cx="6411600" cy="66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A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B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C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continu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code outside any loop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Text Box 3"/>
          <p:cNvSpPr/>
          <p:nvPr/>
        </p:nvSpPr>
        <p:spPr>
          <a:xfrm>
            <a:off x="8346240" y="3396960"/>
            <a:ext cx="3880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how many blocks are there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Nested loop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71" name="Rectangle 2"/>
          <p:cNvSpPr/>
          <p:nvPr/>
        </p:nvSpPr>
        <p:spPr>
          <a:xfrm>
            <a:off x="2095560" y="2819520"/>
            <a:ext cx="5403960" cy="50148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Rectangle 3"/>
          <p:cNvSpPr/>
          <p:nvPr/>
        </p:nvSpPr>
        <p:spPr>
          <a:xfrm>
            <a:off x="2679840" y="3892680"/>
            <a:ext cx="4470120" cy="275904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3" name="Rectangle 4"/>
          <p:cNvSpPr/>
          <p:nvPr/>
        </p:nvSpPr>
        <p:spPr>
          <a:xfrm>
            <a:off x="3230640" y="5541840"/>
            <a:ext cx="3654360" cy="57312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4" name="Text Box 5"/>
          <p:cNvSpPr/>
          <p:nvPr/>
        </p:nvSpPr>
        <p:spPr>
          <a:xfrm>
            <a:off x="1586160" y="2192400"/>
            <a:ext cx="6411600" cy="66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A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B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C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continu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code outside any loop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Nested loop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76" name="Rectangle 2"/>
          <p:cNvSpPr/>
          <p:nvPr/>
        </p:nvSpPr>
        <p:spPr>
          <a:xfrm>
            <a:off x="2095560" y="2819520"/>
            <a:ext cx="5403960" cy="50148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7" name="Rectangle 3"/>
          <p:cNvSpPr/>
          <p:nvPr/>
        </p:nvSpPr>
        <p:spPr>
          <a:xfrm>
            <a:off x="2679840" y="3892680"/>
            <a:ext cx="4470120" cy="275904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8" name="Rectangle 4"/>
          <p:cNvSpPr/>
          <p:nvPr/>
        </p:nvSpPr>
        <p:spPr>
          <a:xfrm>
            <a:off x="3230640" y="5541840"/>
            <a:ext cx="3654360" cy="57312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9" name="AutoShape 5"/>
          <p:cNvSpPr/>
          <p:nvPr/>
        </p:nvSpPr>
        <p:spPr>
          <a:xfrm>
            <a:off x="5643720" y="4816440"/>
            <a:ext cx="3162240" cy="1076400"/>
          </a:xfrm>
          <a:custGeom>
            <a:avLst/>
            <a:gdLst/>
            <a:ahLst/>
            <a:rect l="l" t="t" r="r" b="b"/>
            <a:pathLst>
              <a:path w="21600" h="20455">
                <a:moveTo>
                  <a:pt x="0" y="20298"/>
                </a:moveTo>
                <a:cubicBezTo>
                  <a:pt x="13941" y="21600"/>
                  <a:pt x="21141" y="14834"/>
                  <a:pt x="21600" y="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Text Box 6"/>
          <p:cNvSpPr/>
          <p:nvPr/>
        </p:nvSpPr>
        <p:spPr>
          <a:xfrm>
            <a:off x="8400600" y="3914280"/>
            <a:ext cx="23745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here does thi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jump back to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Text Box 7"/>
          <p:cNvSpPr/>
          <p:nvPr/>
        </p:nvSpPr>
        <p:spPr>
          <a:xfrm>
            <a:off x="1586160" y="2192400"/>
            <a:ext cx="6411600" cy="66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A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B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C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continu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code outside any loop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3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3048480" y="6733440"/>
            <a:ext cx="69084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AutoShape 5"/>
          <p:cNvSpPr/>
          <p:nvPr/>
        </p:nvSpPr>
        <p:spPr>
          <a:xfrm>
            <a:off x="2286000" y="1943280"/>
            <a:ext cx="1270080" cy="1269720"/>
          </a:xfrm>
          <a:prstGeom prst="rightArrow">
            <a:avLst>
              <a:gd name="adj1" fmla="val 32000"/>
              <a:gd name="adj2" fmla="val 64018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Nested loop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83" name="Rectangle 2"/>
          <p:cNvSpPr/>
          <p:nvPr/>
        </p:nvSpPr>
        <p:spPr>
          <a:xfrm>
            <a:off x="2095560" y="2819520"/>
            <a:ext cx="5403960" cy="50148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4" name="Rectangle 3"/>
          <p:cNvSpPr/>
          <p:nvPr/>
        </p:nvSpPr>
        <p:spPr>
          <a:xfrm>
            <a:off x="2679840" y="3892680"/>
            <a:ext cx="4470120" cy="2759040"/>
          </a:xfrm>
          <a:prstGeom prst="rect">
            <a:avLst/>
          </a:prstGeom>
          <a:noFill/>
          <a:ln w="8892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5" name="Rectangle 4"/>
          <p:cNvSpPr/>
          <p:nvPr/>
        </p:nvSpPr>
        <p:spPr>
          <a:xfrm>
            <a:off x="3230640" y="5541840"/>
            <a:ext cx="3654360" cy="57312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AutoShape 5"/>
          <p:cNvSpPr/>
          <p:nvPr/>
        </p:nvSpPr>
        <p:spPr>
          <a:xfrm>
            <a:off x="5605560" y="3638520"/>
            <a:ext cx="3255840" cy="224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lnTo>
                  <a:pt x="21600" y="21600"/>
                </a:lnTo>
                <a:lnTo>
                  <a:pt x="21600" y="0"/>
                </a:lnTo>
                <a:lnTo>
                  <a:pt x="10421" y="0"/>
                </a:lnTo>
              </a:path>
            </a:pathLst>
          </a:custGeom>
          <a:noFill/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7" name="Text Box 6"/>
          <p:cNvSpPr/>
          <p:nvPr/>
        </p:nvSpPr>
        <p:spPr>
          <a:xfrm>
            <a:off x="9148680" y="4120200"/>
            <a:ext cx="30114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ontinue and brea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lways apply to th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ner loop in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8" name="Text Box 7"/>
          <p:cNvSpPr/>
          <p:nvPr/>
        </p:nvSpPr>
        <p:spPr>
          <a:xfrm>
            <a:off x="1586160" y="2192400"/>
            <a:ext cx="6411600" cy="66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A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B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C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continu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code outside any loop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9" name="Text Box 8"/>
          <p:cNvSpPr/>
          <p:nvPr/>
        </p:nvSpPr>
        <p:spPr>
          <a:xfrm>
            <a:off x="6941520" y="8996400"/>
            <a:ext cx="628524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ts val="40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 u="sng">
                <a:solidFill>
                  <a:srgbClr val="0000ff"/>
                </a:solidFill>
                <a:uFillTx/>
                <a:latin typeface="Gill Sans"/>
                <a:hlinkClick r:id="rId1"/>
              </a:rPr>
              <a:t>https://www.python.org/dev/peps/pep-3136/</a:t>
            </a:r>
            <a:endParaRPr b="1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Nested loop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91" name="Rectangle 2"/>
          <p:cNvSpPr/>
          <p:nvPr/>
        </p:nvSpPr>
        <p:spPr>
          <a:xfrm>
            <a:off x="2095560" y="2819520"/>
            <a:ext cx="5403960" cy="50148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2" name="Rectangle 3"/>
          <p:cNvSpPr/>
          <p:nvPr/>
        </p:nvSpPr>
        <p:spPr>
          <a:xfrm>
            <a:off x="2679840" y="3892680"/>
            <a:ext cx="4470120" cy="2759040"/>
          </a:xfrm>
          <a:prstGeom prst="rect">
            <a:avLst/>
          </a:prstGeom>
          <a:noFill/>
          <a:ln w="8892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3230640" y="5541840"/>
            <a:ext cx="3654360" cy="57312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4" name="AutoShape 5"/>
          <p:cNvSpPr/>
          <p:nvPr/>
        </p:nvSpPr>
        <p:spPr>
          <a:xfrm>
            <a:off x="1212840" y="5819760"/>
            <a:ext cx="1943280" cy="1647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lnTo>
                  <a:pt x="0" y="0"/>
                </a:lnTo>
                <a:lnTo>
                  <a:pt x="0" y="21600"/>
                </a:lnTo>
                <a:lnTo>
                  <a:pt x="10292" y="21600"/>
                </a:lnTo>
              </a:path>
            </a:pathLst>
          </a:custGeom>
          <a:noFill/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5" name="Text Box 6"/>
          <p:cNvSpPr/>
          <p:nvPr/>
        </p:nvSpPr>
        <p:spPr>
          <a:xfrm>
            <a:off x="1586160" y="2192400"/>
            <a:ext cx="6411600" cy="66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A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B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C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break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code outside any loop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6" name="Text Box 7"/>
          <p:cNvSpPr/>
          <p:nvPr/>
        </p:nvSpPr>
        <p:spPr>
          <a:xfrm>
            <a:off x="6941520" y="8996400"/>
            <a:ext cx="628524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ts val="40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 u="sng">
                <a:solidFill>
                  <a:srgbClr val="0000ff"/>
                </a:solidFill>
                <a:uFillTx/>
                <a:latin typeface="Gill Sans"/>
                <a:hlinkClick r:id="rId1"/>
              </a:rPr>
              <a:t>https://www.python.org/dev/peps/pep-3136/</a:t>
            </a:r>
            <a:endParaRPr b="1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52200" y="4424040"/>
            <a:ext cx="11099880" cy="90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Worksheet Problem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8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AutoShape 5"/>
          <p:cNvSpPr/>
          <p:nvPr/>
        </p:nvSpPr>
        <p:spPr>
          <a:xfrm>
            <a:off x="2286000" y="2666880"/>
            <a:ext cx="127008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5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AutoShape 5"/>
          <p:cNvSpPr/>
          <p:nvPr/>
        </p:nvSpPr>
        <p:spPr>
          <a:xfrm>
            <a:off x="2349360" y="3454560"/>
            <a:ext cx="1270080" cy="1269720"/>
          </a:xfrm>
          <a:prstGeom prst="rightArrow">
            <a:avLst>
              <a:gd name="adj1" fmla="val 32000"/>
              <a:gd name="adj2" fmla="val 64018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2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AutoShape 5"/>
          <p:cNvSpPr/>
          <p:nvPr/>
        </p:nvSpPr>
        <p:spPr>
          <a:xfrm>
            <a:off x="2400480" y="4241880"/>
            <a:ext cx="126972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" name="Text Box 9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3-01-24T01:33:40Z</dcterms:modified>
  <cp:revision>26</cp:revision>
  <dc:subject/>
  <dc:title>[220] Iteration 2</dc:title>
</cp:coreProperties>
</file>