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7A6D2-79A2-417E-AA28-88FC632591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8076A-37B8-4B2F-98BE-5D403286B2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81DC8-2C3C-4073-88F4-63A4D65EC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3AB01-D485-409F-9CBB-40073EDF3F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6A3C3-AC1E-4D16-8A4A-5F5E965288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53433-5181-45D5-BBA6-201EFA2068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522CE-1AC0-4D42-91E1-682673130A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52C3E-2FF4-4417-BF26-534CE4770B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AE686-9146-4B67-B01C-27242753AB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D01DD-7AFD-4EEC-B80F-752D6C49BB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85A9C-C8F6-4E57-B03D-13B79073F2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A9128-FCC5-4DEE-A097-3C0FD74369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4F359-EC39-4BB0-B197-44FF6C62D1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9A7F5-EA5E-452A-A168-6ECDFE9427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2F0FB-0E51-49D6-B4AA-00021254D3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D30E9-279A-4B67-9C15-CD90257242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07EA6-36F6-4412-9C24-CE35A57E84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BE5BC-0244-4F97-8DA0-1AA85513ED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4957B-7169-4718-A82E-A0213B29FE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32E19-3BF6-455F-BC1C-3291C16DAA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09D3C-EA23-4B1C-B697-58D3715ACA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6F6E9-2720-4019-995C-1C8094036A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79B26-669C-47FB-8A3F-6B1B97B31B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D49BA-AAE2-42FB-B194-F191CB900D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42CD239-A487-44F8-AB75-BAB18FFA0CA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DBDC6C6-D9A8-4D79-982C-948E02C3B50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5D0A302-4844-408D-B3A8-A4290B2F303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73DEE32-74E2-4C61-9BCB-A9A9D5922A7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F517DCD-E77D-460E-B521-D440609ACC0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E7A604A-5560-4D26-B18F-7C6364EB9C4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869F222-A750-434A-B252-05AD599E0DB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C46D0C3-F430-4A9B-A19F-B65C0A08523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21:58Z</dcterms:modified>
  <cp:revision>43</cp:revision>
  <dc:subject/>
  <dc:title>[220] Iteration</dc:title>
</cp:coreProperties>
</file>