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6C26-AE91-4CD5-B05D-EEE22D410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F5C07-A189-49AE-B013-585B3665C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5B75C-22E4-4A05-95C8-9BCF24A9B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2CDE1-3143-4F26-8463-2BBC930ED2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4E386-C334-4A0F-86F0-E0F9A5E8D3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562C6-6B9B-4FD6-8852-26481B27D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7463-1904-46F0-9FE7-1A0CB5B78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9A4F5-3D70-4AD0-95AE-D3C9B05946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B1240-C669-4B6D-98CE-850B06B9C5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DF1CE-201D-452D-8989-51EF0FADE6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0977-2EF5-4A35-9F7D-06653D598A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F2C57-04F0-4423-BCE7-12123D6AB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D74974-781A-479B-8BE0-1A3EA1EE427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10T09:05:24Z</dcterms:modified>
  <cp:revision>26</cp:revision>
  <dc:subject/>
  <dc:title>[220] Conditionals</dc:title>
</cp:coreProperties>
</file>