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4C7A0-6724-47AB-9F46-6D1653A95F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A4B18-5D93-40A1-BEE1-72D8D2EC3A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AF1C1-2BC2-4536-A9A0-092C1B228B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E5B92-D636-4F6C-A819-22F71B0CE8F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2130A-9367-44D4-AA7A-4E93132312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7880A-7018-45EA-BEA9-CC989A7AFE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B1491-948D-4CBB-AA9A-ED06AC0B96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82D7C-89CF-4006-8BA3-4A73510FC6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04944-8673-4599-BCDE-89B29C19FE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F47D9-151D-4A09-B51D-1D81764513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B0D5E-1D92-4864-A0C0-DCB084EFF2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5BDA9-BFFC-4677-9045-A17C6B52E8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49B68D2-323C-4FA0-A7E6-F57AC53A971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Function Scope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737280" y="8016120"/>
            <a:ext cx="624384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22414B6-2864-49BB-8EBA-D47355252CA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8" name="Picture 7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28E95D5-9804-4D06-A7CB-BACDFEE14AF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2" name="Picture 14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35A247E-AC3C-44EC-AC79-CA432EB2098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9" name="Picture 15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312480" y="6385680"/>
            <a:ext cx="50886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you don’t generally see or intera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frames when programming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ut it’s an important mental mode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6928814-4D1D-4286-B9C5-EDBBA23AF13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6920280" y="5473080"/>
            <a:ext cx="5344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code 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line1, line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899480" y="2915280"/>
            <a:ext cx="5130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1, text2, combined_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5562000" y="1920960"/>
            <a:ext cx="5068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477240" y="7349040"/>
            <a:ext cx="60411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call the variables that can currently b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ccessed “in scope” and variables t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not be “out of scop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D8A6CFB-596E-49F8-A25E-686C5F183E1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04D1417-3BC8-475D-B717-3F14403EE56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5" name="Picture 11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106" name="Line 6"/>
          <p:cNvSpPr/>
          <p:nvPr/>
        </p:nvSpPr>
        <p:spPr>
          <a:xfrm flipV="1">
            <a:off x="648648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Line 7"/>
          <p:cNvSpPr/>
          <p:nvPr/>
        </p:nvSpPr>
        <p:spPr>
          <a:xfrm flipV="1">
            <a:off x="516420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6831720" y="4536360"/>
            <a:ext cx="548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rguments are copied to parameter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is called “pass by valu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2440" y="254160"/>
            <a:ext cx="1258560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 (PythonTutor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85B3919-6192-4690-BF0B-E3D4EBA37A0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1589040" y="1752480"/>
            <a:ext cx="9825120" cy="661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0A843BA-9135-4407-B7AB-9496C14CD5E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1F593BC-AB5C-463B-8A33-E151BDA9735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Box 12"/>
          <p:cNvSpPr/>
          <p:nvPr/>
        </p:nvSpPr>
        <p:spPr>
          <a:xfrm>
            <a:off x="2616120" y="1828800"/>
            <a:ext cx="650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print_twice(text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concatenate_str(text1, text2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mbined_text = text1 + text2 # concaten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_twice(combined_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220 = "Hello CS220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319 = " / CS319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ncatenate_str(cs220, cs319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687120" y="6954120"/>
            <a:ext cx="602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ry this example yourself using PythonTu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4838760" y="32670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7C595BE-73CC-4126-888B-B0588AE9B7B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512720" y="6544080"/>
            <a:ext cx="9970200" cy="74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ee220c"/>
                </a:solidFill>
                <a:latin typeface="Gill Sans"/>
              </a:rPr>
              <a:t>Let's do some examples in PythonTutor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05000" y="6254640"/>
            <a:ext cx="786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: functions don't execute unless they're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A8D7814-DBA5-4AED-955D-BFB1C99FDAD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et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286560" y="6254640"/>
            <a:ext cx="9526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2: variables created in a function die after function retur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E261827-EEDF-4A37-83D9-F9B4A23D93B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rules of scope of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local variables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 a func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creat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destroy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 (frame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used and modified within a function?(global keyword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re are they stored? (global fram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mis-represented as local variab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ss by value”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0FFE8EA-4024-4443-AF80-72ED07BB0C1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9016920" y="5205240"/>
            <a:ext cx="3784680" cy="1333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" name="AutoShape 5"/>
          <p:cNvSpPr/>
          <p:nvPr/>
        </p:nvSpPr>
        <p:spPr>
          <a:xfrm rot="10800000">
            <a:off x="11150640" y="5913000"/>
            <a:ext cx="745920" cy="7462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8592480" y="6960600"/>
            <a:ext cx="445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on't memorize the examples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learn the rules of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8464320" y="8078400"/>
            <a:ext cx="471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sample question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hy did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do this thing I didn't expe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t this specific line (ask us!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58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count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+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62080" y="6254640"/>
            <a:ext cx="9566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3: variables start fresh every time a function is called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689CD4F-72DF-4182-B5D3-5B67887C22A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display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main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ain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5944680"/>
            <a:ext cx="11490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4: you can't see the variables of other function invocations, even those that call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FB7645D-DF4F-49DF-B015-01B45648C06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507996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C3832F6-038B-4416-BE93-6E1646E19EE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4916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 # global, outside any fun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952560" y="7210440"/>
            <a:ext cx="10596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5: you can generally just </a:t>
            </a: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use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global variables inside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DA66BAF-0FB7-44CC-9F66-2A24B06D024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78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7210440"/>
            <a:ext cx="11787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6: if you do an assignment to a variable in a function, Python assumes you want it 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1C18602-FFD5-487B-BB96-D0D077CAE38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543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952560" y="7210440"/>
            <a:ext cx="114044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7: assignment to a variable should be before its use in a function, even if there'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a global variable with the sam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AA4B085-CE98-42F2-8D34-FCCEE0D8C86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lobal ms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8: use a global declaration to prevent Python from creating a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local variable when you want a global 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B113785-1BA0-4DDA-8469-7BAAC742986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6032520" y="54514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5734171-3745-4B48-BD7C-94FB517FEC2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val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9: in Python, arguments are "passed by value", meaning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reassignments to a parameter don't change the argument outsi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18FD3C6-4EFB-4F30-B517-F74B1C490DD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0: it's irrelevant whether the argument (outside) and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 parameter (inside) have the same variabl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69566A8-8B4C-4A63-8959-882708AE236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-889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3568680" y="151452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726FF03-448C-4727-9522-DBF0A590575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 Summ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888840" y="1393920"/>
            <a:ext cx="11641320" cy="78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1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functions don't execute unless they're called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2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created in a function die after function returns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3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start fresh every time a function is called again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4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you can't see the variables of other function invocations, even those that call you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5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you can generally just </a:t>
            </a: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use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global variables inside a function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6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if you do an assignment to a variable in a function, Python assumes you want it local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7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assignment to a variable should be before its use in a function, even if there's a a global variable with the same nam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8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use a global declaration to prevent Python from creating a local variable when you want a global variabl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9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n Python, arguments are "passed by value", meaning reassignments to a parameter don't change the argument outsid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10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t's irrelevant whether the argument (outside) and parameter (inside) have the same variable nam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2FBB60F-29D2-41F3-B586-469CFB85B40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4"/>
          <p:cNvSpPr/>
          <p:nvPr/>
        </p:nvSpPr>
        <p:spPr>
          <a:xfrm rot="16200000">
            <a:off x="-81720" y="2406600"/>
            <a:ext cx="897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Text Box 5"/>
          <p:cNvSpPr/>
          <p:nvPr/>
        </p:nvSpPr>
        <p:spPr>
          <a:xfrm rot="16200000">
            <a:off x="-170640" y="5175360"/>
            <a:ext cx="10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lob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Text Box 6"/>
          <p:cNvSpPr/>
          <p:nvPr/>
        </p:nvSpPr>
        <p:spPr>
          <a:xfrm rot="16200000">
            <a:off x="-573840" y="7969320"/>
            <a:ext cx="1882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284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FAA871F-CB7D-408D-A2DF-66A7446DF02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8E59765-EFA9-4F9D-B647-BF74EE9361A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7982640" y="5329080"/>
            <a:ext cx="4038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groups called “frames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9508680" y="5806440"/>
            <a:ext cx="2409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’ll learn so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les for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5FA371A-EABA-4C9A-8911-76F85884BA5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603520" y="23144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C8A7FD5-03D0-4517-AB97-A6F20C2BF5F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Fra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ery time a function is invoked (i.e., called), the invocation gets a new “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” for hold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parameters also exist in a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lobal fr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always one global frame that all functions can acces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hen a variable name is used, Python looks two plac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function invocation’s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global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Oval 3"/>
          <p:cNvSpPr/>
          <p:nvPr/>
        </p:nvSpPr>
        <p:spPr>
          <a:xfrm>
            <a:off x="1125360" y="5448240"/>
            <a:ext cx="75600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Oval 4"/>
          <p:cNvSpPr/>
          <p:nvPr/>
        </p:nvSpPr>
        <p:spPr>
          <a:xfrm>
            <a:off x="1125360" y="6342120"/>
            <a:ext cx="75600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97EDD17-C70D-4B10-8804-3281C0D5C31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0103EAC-27AF-4D5A-9C18-944357026A5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5:52Z</dcterms:modified>
  <cp:revision>53</cp:revision>
  <dc:subject/>
  <dc:title>[220] Function Scope</dc:title>
</cp:coreProperties>
</file>