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C883E-71F6-4BD0-86CF-116A30E9ED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F2D1A-A7B2-46BC-B7EE-A048566034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CDEF9-CC3D-4C6D-8137-F52E613512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CE203-A81C-4F7D-92C7-2D70F5B08C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E3033-046D-4B29-B4EC-AAE119BBD7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E10A6-18DA-41D8-A42D-008C65A5C9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2B9E5-2190-4BC1-9AED-80B2A07A68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0951F-4762-4E13-8F3E-280EA278D2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6E47D-C053-4A18-A1FF-F1AD1E888B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C4131-0609-422B-AACB-D2F57C2CB6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41FDC-6B4B-4AC8-9A5D-D5763EDE78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D5591-40A4-4B52-A808-A2A21C9949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88B4979-014C-4D3D-BDA6-90AB99992CB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Calibri"/>
                <a:ea typeface="Gill Sans"/>
              </a:rPr>
              <a:t>Creat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559280"/>
            <a:ext cx="7684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reating Fruitful Functions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5450040" y="2290680"/>
            <a:ext cx="1382400" cy="86544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5450040" y="4211640"/>
            <a:ext cx="31492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605600" y="6828840"/>
            <a:ext cx="9792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start a function definition with “def” (short for definition)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nd use a colon (“:”) instead of an equal sign (“=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Oval 9"/>
          <p:cNvSpPr/>
          <p:nvPr/>
        </p:nvSpPr>
        <p:spPr>
          <a:xfrm>
            <a:off x="12826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730920" y="2284560"/>
            <a:ext cx="71928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6415200" y="4935600"/>
            <a:ext cx="43894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337920" y="6828840"/>
            <a:ext cx="6327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put the “return” keyword bef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expression associated with the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Oval 9"/>
          <p:cNvSpPr/>
          <p:nvPr/>
        </p:nvSpPr>
        <p:spPr>
          <a:xfrm>
            <a:off x="282420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551560" y="4948200"/>
            <a:ext cx="100656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211560" y="6982200"/>
            <a:ext cx="765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ndent (tab space) before the statement(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293364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550480" y="4276800"/>
            <a:ext cx="693756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def g(r):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return 3.14 * r ** 2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59920" y="7010280"/>
            <a:ext cx="5283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mputing the area from the radi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3263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550480" y="4276800"/>
            <a:ext cx="6929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radius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109880" y="7010280"/>
            <a:ext cx="1078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t’s common to have longer names for functions an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Oval 7"/>
          <p:cNvSpPr/>
          <p:nvPr/>
        </p:nvSpPr>
        <p:spPr>
          <a:xfrm>
            <a:off x="10540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5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550480" y="4276800"/>
            <a:ext cx="692964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diameter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adius = diameter /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715400" y="7010280"/>
            <a:ext cx="957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’s also common to have more than one line of code (all indented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1409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6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t’s implement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5354640" y="3375000"/>
            <a:ext cx="229392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cube(side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129480" y="4689720"/>
            <a:ext cx="674388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is_between(lower, num, upper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575960" y="6473160"/>
            <a:ext cx="4273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jupyter / PythonTutor demos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99, 100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1212840" y="2851200"/>
            <a:ext cx="3962520" cy="113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46" y="0"/>
                </a:moveTo>
                <a:cubicBezTo>
                  <a:pt x="155" y="0"/>
                  <a:pt x="0" y="543"/>
                  <a:pt x="0" y="1213"/>
                </a:cubicBezTo>
                <a:lnTo>
                  <a:pt x="0" y="20387"/>
                </a:lnTo>
                <a:cubicBezTo>
                  <a:pt x="0" y="21057"/>
                  <a:pt x="155" y="21600"/>
                  <a:pt x="346" y="21600"/>
                </a:cubicBezTo>
                <a:lnTo>
                  <a:pt x="8313" y="21600"/>
                </a:lnTo>
                <a:cubicBezTo>
                  <a:pt x="8504" y="21600"/>
                  <a:pt x="8659" y="21057"/>
                  <a:pt x="8659" y="20387"/>
                </a:cubicBezTo>
                <a:lnTo>
                  <a:pt x="8659" y="13606"/>
                </a:lnTo>
                <a:lnTo>
                  <a:pt x="21600" y="11179"/>
                </a:lnTo>
                <a:lnTo>
                  <a:pt x="8659" y="8752"/>
                </a:lnTo>
                <a:lnTo>
                  <a:pt x="8659" y="1213"/>
                </a:lnTo>
                <a:cubicBezTo>
                  <a:pt x="8659" y="543"/>
                  <a:pt x="8504" y="0"/>
                  <a:pt x="8313" y="0"/>
                </a:cubicBezTo>
                <a:lnTo>
                  <a:pt x="346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274720" y="2817000"/>
            <a:ext cx="4739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actual code, but imag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arameters as variables that a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utomatically initialized for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5007240" y="1912680"/>
            <a:ext cx="298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decla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5071320" y="4895640"/>
            <a:ext cx="2860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invoc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4"/>
          <p:cNvSpPr/>
          <p:nvPr/>
        </p:nvSpPr>
        <p:spPr>
          <a:xfrm flipH="1">
            <a:off x="4130280" y="2195640"/>
            <a:ext cx="909720" cy="37620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3267000" y="5164200"/>
            <a:ext cx="1859040" cy="41436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Oval 1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Oval 19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3" name="Line 22"/>
          <p:cNvSpPr/>
          <p:nvPr/>
        </p:nvSpPr>
        <p:spPr>
          <a:xfrm>
            <a:off x="520560" y="7805880"/>
            <a:ext cx="80917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the syntax of a function header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f, ( ), :, tabbing, retur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 wi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header and inden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return value (fruitful function) or without (void func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rameters that have default valu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nowing difference in outcomes of print and return stateme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result of function calls with 3 types of argument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ositional, keyword, and defaul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race function invocations, to determine 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5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1639440" y="8316720"/>
            <a:ext cx="9724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common pitfall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confusing keyword arguments and 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5063760" y="8316720"/>
            <a:ext cx="28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orksheet practic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Generating grid for game like Battleship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2419920" y="7454160"/>
            <a:ext cx="8455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get_grid(width, height, symb = ‘#’, title = ‘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Grid:</a:t>
            </a: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’)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5078880" y="8257680"/>
            <a:ext cx="2846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PythonTutor demo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4140360" y="2687760"/>
            <a:ext cx="236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ri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7112160" y="4161960"/>
            <a:ext cx="1603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0 x 8 gri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3555720" y="8635680"/>
            <a:ext cx="5727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e could call print from multiple pl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Rectangle 15"/>
          <p:cNvSpPr/>
          <p:nvPr/>
        </p:nvSpPr>
        <p:spPr>
          <a:xfrm>
            <a:off x="7075440" y="2590920"/>
            <a:ext cx="1623960" cy="581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AutoShape 5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AutoShape 10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AutoShape 12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7318440" y="6726240"/>
            <a:ext cx="1519200" cy="138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AutoShape 11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AutoShape 13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15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17"/>
          <p:cNvSpPr/>
          <p:nvPr/>
        </p:nvSpPr>
        <p:spPr>
          <a:xfrm>
            <a:off x="7442280" y="6784920"/>
            <a:ext cx="1271520" cy="126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4" y="0"/>
                </a:moveTo>
                <a:cubicBezTo>
                  <a:pt x="87" y="0"/>
                  <a:pt x="0" y="87"/>
                  <a:pt x="0" y="194"/>
                </a:cubicBezTo>
                <a:lnTo>
                  <a:pt x="0" y="21404"/>
                </a:lnTo>
                <a:cubicBezTo>
                  <a:pt x="0" y="21511"/>
                  <a:pt x="87" y="21600"/>
                  <a:pt x="194" y="21600"/>
                </a:cubicBezTo>
                <a:lnTo>
                  <a:pt x="21406" y="21600"/>
                </a:lnTo>
                <a:cubicBezTo>
                  <a:pt x="21513" y="21600"/>
                  <a:pt x="21600" y="21511"/>
                  <a:pt x="21600" y="21404"/>
                </a:cubicBezTo>
                <a:lnTo>
                  <a:pt x="21600" y="20822"/>
                </a:lnTo>
                <a:cubicBezTo>
                  <a:pt x="21600" y="20715"/>
                  <a:pt x="21513" y="20628"/>
                  <a:pt x="21406" y="20628"/>
                </a:cubicBezTo>
                <a:lnTo>
                  <a:pt x="1163" y="20628"/>
                </a:lnTo>
                <a:cubicBezTo>
                  <a:pt x="1056" y="20628"/>
                  <a:pt x="970" y="20539"/>
                  <a:pt x="970" y="20432"/>
                </a:cubicBezTo>
                <a:lnTo>
                  <a:pt x="970" y="194"/>
                </a:lnTo>
                <a:cubicBezTo>
                  <a:pt x="970" y="87"/>
                  <a:pt x="883" y="0"/>
                  <a:pt x="776" y="0"/>
                </a:cubicBezTo>
                <a:lnTo>
                  <a:pt x="194" y="0"/>
                </a:lnTo>
                <a:close/>
                <a:moveTo>
                  <a:pt x="16860" y="3004"/>
                </a:moveTo>
                <a:lnTo>
                  <a:pt x="16860" y="19065"/>
                </a:lnTo>
                <a:lnTo>
                  <a:pt x="19553" y="19065"/>
                </a:lnTo>
                <a:lnTo>
                  <a:pt x="19553" y="3004"/>
                </a:lnTo>
                <a:lnTo>
                  <a:pt x="16860" y="3004"/>
                </a:lnTo>
                <a:close/>
                <a:moveTo>
                  <a:pt x="7272" y="6922"/>
                </a:moveTo>
                <a:lnTo>
                  <a:pt x="7272" y="19065"/>
                </a:lnTo>
                <a:lnTo>
                  <a:pt x="9965" y="19065"/>
                </a:lnTo>
                <a:lnTo>
                  <a:pt x="9965" y="6922"/>
                </a:lnTo>
                <a:lnTo>
                  <a:pt x="7272" y="6922"/>
                </a:lnTo>
                <a:close/>
                <a:moveTo>
                  <a:pt x="12066" y="10127"/>
                </a:moveTo>
                <a:lnTo>
                  <a:pt x="12066" y="19065"/>
                </a:lnTo>
                <a:lnTo>
                  <a:pt x="14759" y="19065"/>
                </a:lnTo>
                <a:lnTo>
                  <a:pt x="14759" y="10127"/>
                </a:lnTo>
                <a:lnTo>
                  <a:pt x="12066" y="10127"/>
                </a:lnTo>
                <a:close/>
                <a:moveTo>
                  <a:pt x="2478" y="15151"/>
                </a:moveTo>
                <a:lnTo>
                  <a:pt x="2478" y="19065"/>
                </a:lnTo>
                <a:lnTo>
                  <a:pt x="5171" y="19065"/>
                </a:lnTo>
                <a:lnTo>
                  <a:pt x="5171" y="15151"/>
                </a:lnTo>
                <a:lnTo>
                  <a:pt x="2478" y="15151"/>
                </a:ln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8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AutoShape 1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>
              <a:alpha val="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5041440" y="4815360"/>
            <a:ext cx="823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only get to answer once, then function stop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5791680" y="2296080"/>
            <a:ext cx="6492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function can print as much as it lik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41" name="Picture 14" descr=""/>
          <p:cNvPicPr/>
          <p:nvPr/>
        </p:nvPicPr>
        <p:blipFill>
          <a:blip r:embed="rId1"/>
          <a:stretch/>
        </p:blipFill>
        <p:spPr>
          <a:xfrm>
            <a:off x="6540480" y="5495760"/>
            <a:ext cx="3251160" cy="25020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5"/>
          <p:cNvSpPr/>
          <p:nvPr/>
        </p:nvSpPr>
        <p:spPr>
          <a:xfrm>
            <a:off x="5965560" y="8022600"/>
            <a:ext cx="43999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</a:rPr>
              <a:t>https://memegenerator.net/instance/56355449/millionaire-regis-is-that-your-final-answer</a:t>
            </a: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Text Box 16"/>
          <p:cNvSpPr/>
          <p:nvPr/>
        </p:nvSpPr>
        <p:spPr>
          <a:xfrm>
            <a:off x="10191600" y="6457320"/>
            <a:ext cx="148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bad_add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exampl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1473120" y="609480"/>
            <a:ext cx="11099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Interactive Examples with PythonTutor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Course website schedule page entry for “</a:t>
            </a: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Creating Functions</a:t>
            </a: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Box 7"/>
          <p:cNvSpPr/>
          <p:nvPr/>
        </p:nvSpPr>
        <p:spPr>
          <a:xfrm>
            <a:off x="2540160" y="2666880"/>
            <a:ext cx="6508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c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C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b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c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a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b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a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1"/>
          <p:cNvSpPr/>
          <p:nvPr/>
        </p:nvSpPr>
        <p:spPr>
          <a:xfrm>
            <a:off x="5778360" y="4425840"/>
            <a:ext cx="3695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Let’s trace this examp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3998520"/>
            <a:ext cx="11099880" cy="175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Where do </a:t>
            </a:r>
            <a:r>
              <a:rPr b="0" i="1" lang="en-US" sz="4800" spc="-1" strike="noStrike">
                <a:solidFill>
                  <a:srgbClr val="000000"/>
                </a:solidFill>
                <a:latin typeface="Gill Sans SemiBold"/>
              </a:rPr>
              <a:t>modules</a:t>
            </a: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 come from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1536480" y="982800"/>
            <a:ext cx="44485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e-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math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qr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n(), co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,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8597160" y="804960"/>
            <a:ext cx="19479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uilt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in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en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221840" y="6977160"/>
            <a:ext cx="40240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jupyter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jupy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8991360" y="7067520"/>
            <a:ext cx="26949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usto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ject (lab-p3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Line 6"/>
          <p:cNvSpPr/>
          <p:nvPr/>
        </p:nvSpPr>
        <p:spPr>
          <a:xfrm flipV="1">
            <a:off x="8213760" y="2811240"/>
            <a:ext cx="1006560" cy="17427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7"/>
          <p:cNvSpPr/>
          <p:nvPr/>
        </p:nvSpPr>
        <p:spPr>
          <a:xfrm>
            <a:off x="8442360" y="5456160"/>
            <a:ext cx="784080" cy="156528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Line 8"/>
          <p:cNvSpPr/>
          <p:nvPr/>
        </p:nvSpPr>
        <p:spPr>
          <a:xfrm flipH="1">
            <a:off x="4363560" y="5265720"/>
            <a:ext cx="1220760" cy="16779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9"/>
          <p:cNvSpPr/>
          <p:nvPr/>
        </p:nvSpPr>
        <p:spPr>
          <a:xfrm flipH="1" flipV="1">
            <a:off x="3860640" y="2387160"/>
            <a:ext cx="1571760" cy="216684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28800" y="830376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naconda did these installations for 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do we write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like move cod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047600" y="4395960"/>
            <a:ext cx="5640480" cy="48096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450040" y="2284560"/>
            <a:ext cx="3855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6885000" y="418320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5025600" y="7010280"/>
            <a:ext cx="295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name is “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5869080" y="2284560"/>
            <a:ext cx="2937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481880" y="421164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539600" y="7010280"/>
            <a:ext cx="3924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 takes one parameter, “x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2-06T08:09:51Z</dcterms:modified>
  <cp:revision>47</cp:revision>
  <dc:subject/>
  <dc:title>[301] Creating Functions</dc:title>
</cp:coreProperties>
</file>