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F1E88-2F91-4766-B5D3-F2E8500DD0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DD542-A453-4AA3-9F6B-6B3D81B968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E3C64-AAA2-4EE2-88A8-291F1B1787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C0E99-411A-4154-A459-4BEE776510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49B8D-993C-4215-887B-B9A4ED7AF6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287E3-761D-4A90-BDF1-F4A30C126B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9F7FD-B687-4987-B812-D82677EE34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12288-9741-4375-8BE8-6889CE5687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45E95-4A81-4B86-8FE8-25D4C1B82D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FC6FC-89B1-476C-936D-A0650E5439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B1165-811D-40FF-AEF1-ABFFA4DFC4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9F430-021B-4B49-AB52-6D677809C2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B1A0167-032D-4928-AB82-21D71F7CC86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Function Scope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737280" y="8016120"/>
            <a:ext cx="624384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816A6E1-AFFE-4F6C-AD0B-69A7B6F9FB0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8" name="Picture 7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14471A7-A7D8-4FBA-88F6-D9B6098571B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2" name="Picture 14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0ED239A-7B0C-47EC-AD1E-683558D92DC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9" name="Picture 15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312480" y="6385680"/>
            <a:ext cx="50886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you don’t generally see or intera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frames when programming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ut it’s an important mental mode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68F389A-DF33-4803-BE4C-D917484CDCA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6920280" y="5473080"/>
            <a:ext cx="5344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code 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line1, line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899480" y="2915280"/>
            <a:ext cx="5130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1, text2, combined_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5562000" y="1920960"/>
            <a:ext cx="5068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477240" y="7349040"/>
            <a:ext cx="60411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call the variables that can currently b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ccessed “in scope” and variables t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not be “out of scop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32EB37D-8C79-4559-932C-E729DA4518F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4EBB852-AD03-48E5-BBD3-7E107C10417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5" name="Picture 11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106" name="Line 6"/>
          <p:cNvSpPr/>
          <p:nvPr/>
        </p:nvSpPr>
        <p:spPr>
          <a:xfrm flipV="1">
            <a:off x="648648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Line 7"/>
          <p:cNvSpPr/>
          <p:nvPr/>
        </p:nvSpPr>
        <p:spPr>
          <a:xfrm flipV="1">
            <a:off x="516420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6831720" y="4536360"/>
            <a:ext cx="548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rguments are copied to parameter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is called “pass by valu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2440" y="254160"/>
            <a:ext cx="1258560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 (PythonTutor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D571E73-43FB-4467-8C78-7F35C460307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1589040" y="1752480"/>
            <a:ext cx="9825120" cy="661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E861300-D02B-4BAA-9FC2-1730EDAAF07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915E9AD-2948-4284-9901-F58E78EB80A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Box 12"/>
          <p:cNvSpPr/>
          <p:nvPr/>
        </p:nvSpPr>
        <p:spPr>
          <a:xfrm>
            <a:off x="2616120" y="1828800"/>
            <a:ext cx="650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print_twice(text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concatenate_str(text1, text2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mbined_text = text1 + text2 # concaten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_twice(combined_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220 = "Hello CS220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319 = " / CS319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ncatenate_str(cs220, cs319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687120" y="6954120"/>
            <a:ext cx="602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ry this example yourself using PythonTu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4838760" y="32670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D64FBC6-2623-4411-8305-BBF3C299773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512720" y="6544080"/>
            <a:ext cx="9970200" cy="74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ee220c"/>
                </a:solidFill>
                <a:latin typeface="Gill Sans"/>
              </a:rPr>
              <a:t>Let's do some examples in PythonTutor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05000" y="6254640"/>
            <a:ext cx="786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: functions don't execute unless they're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AEC46FA-918A-4379-8CC8-8E63299FE5E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et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286560" y="6254640"/>
            <a:ext cx="9526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2: variables created in a function die after function retur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1E9E889-E45C-4CB6-A028-01C72D2D5E3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rules of scope of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local variables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 a func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creat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destroy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 (frame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used and modified within a function?(global keyword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re are they stored? (global fram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mis-represented as local variab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ss by value”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4253DA4-019C-46E2-9C0F-0E52BD0E079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9016920" y="5205240"/>
            <a:ext cx="3784680" cy="1333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" name="AutoShape 5"/>
          <p:cNvSpPr/>
          <p:nvPr/>
        </p:nvSpPr>
        <p:spPr>
          <a:xfrm rot="10800000">
            <a:off x="11150640" y="5913000"/>
            <a:ext cx="745920" cy="7462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8592480" y="6960600"/>
            <a:ext cx="445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on't memorize the examples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learn the rules of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8464320" y="8078400"/>
            <a:ext cx="471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sample question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hy did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do this thing I didn't expe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t this specific line (ask us!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58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count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+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62080" y="6254640"/>
            <a:ext cx="9566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3: variables start fresh every time a function is called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5AA8AEF-EAFB-4335-BFA2-07B9D6D2AE2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display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main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ain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5944680"/>
            <a:ext cx="11490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4: you can't see the variables of other function invocations, even those that call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DF5B31F-335C-409A-99E7-FD3D2C80D27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507996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3AFB3BA-99E8-4B7D-A9A8-C7DB1CFDAB9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4916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 # global, outside any fun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952560" y="7210440"/>
            <a:ext cx="10596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5: you can generally just </a:t>
            </a: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use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global variables inside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02FF3DC-BB59-4429-8DF7-0628375544A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78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7210440"/>
            <a:ext cx="11787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6: if you do an assignment to a variable in a function, Python assumes you want it 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D855213-AF67-42B2-A426-BB362207FBE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543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952560" y="7210440"/>
            <a:ext cx="114044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7: assignment to a variable should be before its use in a function, even if there'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a global variable with the sam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524603E-BDD7-4970-B1B2-3B14543426F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lobal ms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8: use a global declaration to prevent Python from creating a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local variable when you want a global 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DE9057A-3F24-4461-9DCB-5C5AAB9F600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6032520" y="54514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1832106-83FF-449B-98C7-D675E061FB7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val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9: in Python, arguments are "passed by value", meaning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reassignments to a parameter don't change the argument outsi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83C999F-F78E-45BB-9B49-2BAE47B493C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0: it's irrelevant whether the argument (outside) and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 parameter (inside) have the same variabl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F5BAB40-0E1D-44D2-912D-98F63DCFECC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-889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3568680" y="151452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1A637A3-3F94-488E-B9DC-885D10D8CD6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 Summ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888840" y="1393920"/>
            <a:ext cx="11641320" cy="78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1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functions don't execute unless they're called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2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created in a function die after function returns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3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start fresh every time a function is called again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4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you can't see the variables of other function invocations, even those that call you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5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you can generally just </a:t>
            </a: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use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global variables inside a function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6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if you do an assignment to a variable in a function, Python assumes you want it local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7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assignment to a variable should be before its use in a function, even if there's a a global variable with the same nam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8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use a global declaration to prevent Python from creating a local variable when you want a global variabl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9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n Python, arguments are "passed by value", meaning reassignments to a parameter don't change the argument outsid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10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t's irrelevant whether the argument (outside) and parameter (inside) have the same variable nam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C2BFC26-0CB5-42D9-8D71-63CDD4EB7F3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4"/>
          <p:cNvSpPr/>
          <p:nvPr/>
        </p:nvSpPr>
        <p:spPr>
          <a:xfrm rot="16200000">
            <a:off x="-81720" y="2406600"/>
            <a:ext cx="897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Text Box 5"/>
          <p:cNvSpPr/>
          <p:nvPr/>
        </p:nvSpPr>
        <p:spPr>
          <a:xfrm rot="16200000">
            <a:off x="-170640" y="5175360"/>
            <a:ext cx="10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lob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Text Box 6"/>
          <p:cNvSpPr/>
          <p:nvPr/>
        </p:nvSpPr>
        <p:spPr>
          <a:xfrm rot="16200000">
            <a:off x="-573840" y="7969320"/>
            <a:ext cx="1882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284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2CE6B6B-2C19-41B3-B195-8A11B8427FD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26611BB-D9A8-4F6C-A549-DD226F4D287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7982640" y="5329080"/>
            <a:ext cx="4038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groups called “frames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9508680" y="5806440"/>
            <a:ext cx="2409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’ll learn so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les for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62451CC-75A8-41E6-9124-27137D299E8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603520" y="23144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AC86D01-EEBC-496D-9F28-6F98E291DF8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Fra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ery time a function is invoked (i.e., called), the invocation gets a new “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” for hold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parameters also exist in a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lobal fr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always one global frame that all functions can acces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hen a variable name is used, Python looks two plac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function invocation’s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global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Oval 3"/>
          <p:cNvSpPr/>
          <p:nvPr/>
        </p:nvSpPr>
        <p:spPr>
          <a:xfrm>
            <a:off x="1125360" y="5448240"/>
            <a:ext cx="75600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Oval 4"/>
          <p:cNvSpPr/>
          <p:nvPr/>
        </p:nvSpPr>
        <p:spPr>
          <a:xfrm>
            <a:off x="1125360" y="6342120"/>
            <a:ext cx="75600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B538777-3D3B-4933-BB51-1AEB33C31CC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D8462FB-4C7A-40AD-880B-92533FDF7FB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5:52Z</dcterms:modified>
  <cp:revision>53</cp:revision>
  <dc:subject/>
  <dc:title>[220] Function Scope</dc:title>
</cp:coreProperties>
</file>