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D9CAC-8470-40E8-A1F2-8214C3C318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E5351-C7DF-49CF-AB85-10D9219A40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E91DE-0CD5-4080-8AF6-F962CA4A99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3068D-23EB-41AB-9339-D2DC7816058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BB2A1-FB02-4B73-A093-3BE2C74701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FF280-313E-42BF-B889-608652FCB3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06D42-107B-458D-8572-49063114A2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6932D-6217-421C-9E5C-099ACCD42D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93DD7-1B35-4042-A2CA-0602F1271A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62268-BB21-48BD-A99B-5DE4559CF6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0BE61-D132-4D56-9986-FD344006F7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1C1A9-678D-4AAC-A281-1FA4914448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8BA45A9-DF32-46B5-817B-410D24B7E66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s://www.python.org/dev/peps/pep-3131" TargetMode="External"/><Relationship Id="rId2" Type="http://schemas.openxmlformats.org/officeDocument/2006/relationships/hyperlink" Target="https://www.python.org/dev/peps/pep-0008/" TargetMode="External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27340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Variables</a:t>
            </a:r>
            <a:br>
              <a:rPr sz="8000"/>
            </a:b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and Expression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-84600" y="7865640"/>
            <a:ext cx="62607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hapter 2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3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0880640" y="8244720"/>
            <a:ext cx="148176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Due: </a:t>
            </a: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1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86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0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2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6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8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02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04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08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Oval 137"/>
          <p:cNvSpPr/>
          <p:nvPr/>
        </p:nvSpPr>
        <p:spPr>
          <a:xfrm>
            <a:off x="9524880" y="3143160"/>
            <a:ext cx="435240" cy="43524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Oval 138"/>
          <p:cNvSpPr/>
          <p:nvPr/>
        </p:nvSpPr>
        <p:spPr>
          <a:xfrm>
            <a:off x="9334440" y="3816360"/>
            <a:ext cx="434880" cy="43488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Oval 139"/>
          <p:cNvSpPr/>
          <p:nvPr/>
        </p:nvSpPr>
        <p:spPr>
          <a:xfrm>
            <a:off x="9516960" y="4586400"/>
            <a:ext cx="298440" cy="29988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Text Box 140"/>
          <p:cNvSpPr/>
          <p:nvPr/>
        </p:nvSpPr>
        <p:spPr>
          <a:xfrm>
            <a:off x="11048040" y="3769920"/>
            <a:ext cx="17787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10 - -2 // 3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14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18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137"/>
          <p:cNvSpPr/>
          <p:nvPr/>
        </p:nvSpPr>
        <p:spPr>
          <a:xfrm>
            <a:off x="1018440" y="8421120"/>
            <a:ext cx="70545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1+1==2 or 3 ** 10000000 &gt; 2 ** 2000000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Oval 138"/>
          <p:cNvSpPr/>
          <p:nvPr/>
        </p:nvSpPr>
        <p:spPr>
          <a:xfrm>
            <a:off x="6108840" y="5632560"/>
            <a:ext cx="1628640" cy="240984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139"/>
          <p:cNvSpPr/>
          <p:nvPr/>
        </p:nvSpPr>
        <p:spPr>
          <a:xfrm>
            <a:off x="8644320" y="8111520"/>
            <a:ext cx="2648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logical operato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"short circuit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7810560" y="23144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5 + 5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8/2) ** 2 * 3.1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&gt; 4 + 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% 2 == 0 or 3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5 + 5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8/2) ** 2 * 3.1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&gt; 4 + 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% 2 == 0 or 3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2024280" y="7728480"/>
            <a:ext cx="8955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ach of these operands is an example of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literal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a fixed val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6200" y="30600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68560" y="1198440"/>
            <a:ext cx="11099520" cy="806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3463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aluate expressions by identifying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perators and operand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iteral values and variab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rrect order of opera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correct Boolean expressio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ntaining Boolean operators “or” and “and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assignment state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ith variables following proper naming ru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efine, give examples of, and identify 3 kinds of error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yntax, runtime, and semantic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code to perform computations with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t, float, string, and bool typ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AutoShape 5"/>
          <p:cNvSpPr/>
          <p:nvPr/>
        </p:nvSpPr>
        <p:spPr>
          <a:xfrm>
            <a:off x="5473800" y="472428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AutoShape 5"/>
          <p:cNvSpPr/>
          <p:nvPr/>
        </p:nvSpPr>
        <p:spPr>
          <a:xfrm>
            <a:off x="5473800" y="472428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AutoShape 6"/>
          <p:cNvSpPr/>
          <p:nvPr/>
        </p:nvSpPr>
        <p:spPr>
          <a:xfrm>
            <a:off x="5473800" y="568944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AutoShape 5"/>
          <p:cNvSpPr/>
          <p:nvPr/>
        </p:nvSpPr>
        <p:spPr>
          <a:xfrm>
            <a:off x="5473800" y="472428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AutoShape 6"/>
          <p:cNvSpPr/>
          <p:nvPr/>
        </p:nvSpPr>
        <p:spPr>
          <a:xfrm>
            <a:off x="5473800" y="568944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3849120" y="8692920"/>
            <a:ext cx="5305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ow do we put a value in a variable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bigger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bigger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4114800" y="6070680"/>
            <a:ext cx="5899320" cy="6206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6190920" y="68133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Line 3"/>
          <p:cNvSpPr/>
          <p:nvPr/>
        </p:nvSpPr>
        <p:spPr>
          <a:xfrm flipV="1">
            <a:off x="3944880" y="6616800"/>
            <a:ext cx="0" cy="658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2250360" y="7524360"/>
            <a:ext cx="338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signment Opera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4114800" y="6070680"/>
            <a:ext cx="5899320" cy="6206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6190920" y="68133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-6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Operator Precedenc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AutoShape 3"/>
          <p:cNvSpPr/>
          <p:nvPr/>
        </p:nvSpPr>
        <p:spPr>
          <a:xfrm>
            <a:off x="5168880" y="169236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AutoShape 4"/>
          <p:cNvSpPr/>
          <p:nvPr/>
        </p:nvSpPr>
        <p:spPr>
          <a:xfrm>
            <a:off x="2255760" y="5126040"/>
            <a:ext cx="1176480" cy="48564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723960" y="5975280"/>
            <a:ext cx="3052800" cy="6224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1487160" y="6838560"/>
            <a:ext cx="1367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Variabl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Line 5"/>
          <p:cNvSpPr/>
          <p:nvPr/>
        </p:nvSpPr>
        <p:spPr>
          <a:xfrm flipV="1">
            <a:off x="3944880" y="6616800"/>
            <a:ext cx="0" cy="658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2250360" y="7524360"/>
            <a:ext cx="338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signment Opera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4114800" y="6070680"/>
            <a:ext cx="5899320" cy="6206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6190920" y="68133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AutoShape 3"/>
          <p:cNvSpPr/>
          <p:nvPr/>
        </p:nvSpPr>
        <p:spPr>
          <a:xfrm>
            <a:off x="2279520" y="330516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7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AutoShape 3"/>
          <p:cNvSpPr/>
          <p:nvPr/>
        </p:nvSpPr>
        <p:spPr>
          <a:xfrm>
            <a:off x="504180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2" name="Oval 2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Oval 3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Oval 4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1464840" y="1760040"/>
            <a:ext cx="655632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ff9300"/>
                </a:solidFill>
                <a:latin typeface="Gill Sans"/>
              </a:rPr>
              <a:t>dog cat the of chase any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[word soup, not grammatically sensible]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1309320" y="4008240"/>
            <a:ext cx="885600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ff9300"/>
                </a:solidFill>
                <a:latin typeface="Gill Sans"/>
              </a:rPr>
              <a:t>this sentence is false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[grammatical, but my head explodes if I think about it]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1501920" y="6129000"/>
            <a:ext cx="62438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ff9300"/>
                </a:solidFill>
                <a:latin typeface="Gill Sans"/>
              </a:rPr>
              <a:t>one week is 10 days long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[grammatical, coherent, but incorrect]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61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mantic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runs with no error, but you get the wrong answ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square_area = square_side * 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61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mantic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runs with no error, but you get the wrong answ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square_area = square_side * 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5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1803240" y="1041480"/>
            <a:ext cx="11074680" cy="7277040"/>
          </a:xfrm>
          <a:prstGeom prst="rect">
            <a:avLst/>
          </a:prstGeom>
          <a:solidFill>
            <a:srgbClr val="ffffff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2492640" y="4003200"/>
            <a:ext cx="9694440" cy="83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800" spc="-1" strike="noStrike">
                <a:solidFill>
                  <a:srgbClr val="ee220c"/>
                </a:solidFill>
                <a:latin typeface="Gill Sans"/>
              </a:rPr>
              <a:t>what kind of error is the worst?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0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3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AutoShape 3"/>
          <p:cNvSpPr/>
          <p:nvPr/>
        </p:nvSpPr>
        <p:spPr>
          <a:xfrm>
            <a:off x="2400480" y="52862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7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int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6" name="Text Box 2"/>
          <p:cNvSpPr/>
          <p:nvPr/>
        </p:nvSpPr>
        <p:spPr>
          <a:xfrm>
            <a:off x="2080800" y="3200400"/>
            <a:ext cx="2845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conds = 1234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1138320" y="5855760"/>
            <a:ext cx="595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 out hours, minutes, and seconds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8720280" y="633600"/>
            <a:ext cx="3132000" cy="77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50000" spc="-1" strike="noStrike">
                <a:solidFill>
                  <a:srgbClr val="d6d5d5"/>
                </a:solidFill>
                <a:latin typeface="Gill Sans"/>
              </a:rPr>
              <a:t>?</a:t>
            </a:r>
            <a:endParaRPr b="1" lang="en-US" sz="50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float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0" name="Text Box 2"/>
          <p:cNvSpPr/>
          <p:nvPr/>
        </p:nvSpPr>
        <p:spPr>
          <a:xfrm>
            <a:off x="822960" y="2457360"/>
            <a:ext cx="555660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457200" indent="-30492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mpound growth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ou start with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$10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very year it grows by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7%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ou wait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30 yea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ow much do you have at the end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8720280" y="633600"/>
            <a:ext cx="3132000" cy="77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50000" spc="-1" strike="noStrike">
                <a:solidFill>
                  <a:srgbClr val="d6d5d5"/>
                </a:solidFill>
                <a:latin typeface="Gill Sans"/>
              </a:rPr>
              <a:t>?</a:t>
            </a:r>
            <a:endParaRPr b="1" lang="en-US" sz="50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2611440" y="5501880"/>
            <a:ext cx="20667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ar 0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$10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ar 1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$107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ar 2: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string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4" name="Text Box 2"/>
          <p:cNvSpPr/>
          <p:nvPr/>
        </p:nvSpPr>
        <p:spPr>
          <a:xfrm>
            <a:off x="2508480" y="2156400"/>
            <a:ext cx="51368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380880" indent="-25380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Visually compare two score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lice has 10 poi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ob has 8 poi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2776320" y="4173120"/>
            <a:ext cx="247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Desired output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2842560" y="4879080"/>
            <a:ext cx="3211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alice: ||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bob: 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7389000" y="6758640"/>
            <a:ext cx="3211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lice: ||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b:   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AutoShape 6"/>
          <p:cNvSpPr/>
          <p:nvPr/>
        </p:nvSpPr>
        <p:spPr>
          <a:xfrm>
            <a:off x="4641840" y="5818320"/>
            <a:ext cx="2468520" cy="1425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7251" y="20894"/>
                  <a:pt x="51" y="13694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3678120" y="6941880"/>
            <a:ext cx="1748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ven bet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bool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1" name="Text Box 2"/>
          <p:cNvSpPr/>
          <p:nvPr/>
        </p:nvSpPr>
        <p:spPr>
          <a:xfrm>
            <a:off x="2831040" y="2262600"/>
            <a:ext cx="6922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ounds check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s the value between 0 and 1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838440" y="4847400"/>
            <a:ext cx="4125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 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you may continue: 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7605000" y="4847400"/>
            <a:ext cx="4308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 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you may continue: 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Line 5"/>
          <p:cNvSpPr/>
          <p:nvPr/>
        </p:nvSpPr>
        <p:spPr>
          <a:xfrm>
            <a:off x="7391520" y="2900520"/>
            <a:ext cx="1749240" cy="2006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Line 6"/>
          <p:cNvSpPr/>
          <p:nvPr/>
        </p:nvSpPr>
        <p:spPr>
          <a:xfrm flipH="1">
            <a:off x="3708360" y="2900520"/>
            <a:ext cx="1749600" cy="2006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3760200" y="3552480"/>
            <a:ext cx="631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1db1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Text Box 8"/>
          <p:cNvSpPr/>
          <p:nvPr/>
        </p:nvSpPr>
        <p:spPr>
          <a:xfrm>
            <a:off x="8478360" y="3552480"/>
            <a:ext cx="592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N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AutoShape 3"/>
          <p:cNvSpPr/>
          <p:nvPr/>
        </p:nvSpPr>
        <p:spPr>
          <a:xfrm>
            <a:off x="4051440" y="626436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hat Variable Names are Allowed?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91800" y="1628640"/>
            <a:ext cx="11099880" cy="450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6000"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1st_score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[bad variable]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core_1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1db100"/>
                </a:solidFill>
                <a:latin typeface="Gill Sans"/>
              </a:rPr>
              <a:t>[good variable]              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irstScor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[not a recommended variable]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irst_scor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1db100"/>
                </a:solidFill>
                <a:latin typeface="Gill Sans"/>
              </a:rPr>
              <a:t>[recommended variable]              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urrent rules are quite complex:</a:t>
            </a:r>
            <a:br>
              <a:rPr sz="3200"/>
            </a:br>
            <a:r>
              <a:rPr b="0" lang="en-US" sz="3200" spc="-1" strike="noStrike" u="sng">
                <a:solidFill>
                  <a:srgbClr val="0000ff"/>
                </a:solidFill>
                <a:uFillTx/>
                <a:latin typeface="Gill Sans"/>
                <a:hlinkClick r:id="rId1"/>
              </a:rPr>
              <a:t>https://www.python.org/dev/peps/pep-313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lease don’t use camel case:</a:t>
            </a:r>
            <a:br>
              <a:rPr sz="3200"/>
            </a:br>
            <a:r>
              <a:rPr b="0" lang="en-US" sz="3200" spc="-1" strike="noStrike" u="sng">
                <a:solidFill>
                  <a:srgbClr val="0000ff"/>
                </a:solidFill>
                <a:uFillTx/>
                <a:latin typeface="Gill Sans"/>
                <a:hlinkClick r:id="rId2"/>
              </a:rPr>
              <a:t>https://www.python.org/dev/peps/pep-0008/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9300"/>
                </a:solidFill>
                <a:latin typeface="Gill Sans"/>
              </a:rPr>
              <a:t>Python 3 has become friendlier to non-English programmer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2840040" y="8583480"/>
            <a:ext cx="2680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600"/>
                <a:tab algn="l" pos="25560"/>
                <a:tab algn="l" pos="38160"/>
                <a:tab algn="l" pos="50760"/>
                <a:tab algn="l" pos="63360"/>
                <a:tab algn="l" pos="76320"/>
                <a:tab algn="l" pos="88920"/>
                <a:tab algn="l" pos="101520"/>
                <a:tab algn="l" pos="114480"/>
                <a:tab algn="l" pos="127080"/>
                <a:tab algn="l" pos="139680"/>
                <a:tab algn="l" pos="152280"/>
                <a:tab algn="l" pos="165240"/>
                <a:tab algn="l" pos="177840"/>
                <a:tab algn="l" pos="190440"/>
                <a:tab algn="l" pos="203040"/>
                <a:tab algn="l" pos="216000"/>
                <a:tab algn="l" pos="228600"/>
                <a:tab algn="l" pos="241200"/>
                <a:tab algn="l" pos="254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quero_café = 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7038360" y="8400240"/>
            <a:ext cx="2831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this is allowed, 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different than "e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cxnSp>
        <p:nvCxnSpPr>
          <p:cNvPr id="277" name="Straight Arrow Connector 2"/>
          <p:cNvCxnSpPr>
            <a:stCxn id="276" idx="1"/>
            <a:endCxn id="275" idx="3"/>
          </p:cNvCxnSpPr>
          <p:nvPr/>
        </p:nvCxnSpPr>
        <p:spPr>
          <a:xfrm flipH="1">
            <a:off x="5797080" y="8816760"/>
            <a:ext cx="141048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79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1058760" y="7779600"/>
            <a:ext cx="1088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r 220, you may use only variables containing English alphabe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7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10"/>
          <p:cNvSpPr/>
          <p:nvPr/>
        </p:nvSpPr>
        <p:spPr>
          <a:xfrm>
            <a:off x="6775560" y="8750160"/>
            <a:ext cx="3328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rules are violated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97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6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9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07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Oval 11"/>
          <p:cNvSpPr/>
          <p:nvPr/>
        </p:nvSpPr>
        <p:spPr>
          <a:xfrm>
            <a:off x="8847000" y="7365960"/>
            <a:ext cx="408240" cy="37800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18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Oval 11"/>
          <p:cNvSpPr/>
          <p:nvPr/>
        </p:nvSpPr>
        <p:spPr>
          <a:xfrm>
            <a:off x="8847000" y="7365960"/>
            <a:ext cx="408240" cy="37800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Oval 12"/>
          <p:cNvSpPr/>
          <p:nvPr/>
        </p:nvSpPr>
        <p:spPr>
          <a:xfrm>
            <a:off x="9177480" y="7764480"/>
            <a:ext cx="407880" cy="37620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Oval 13"/>
          <p:cNvSpPr/>
          <p:nvPr/>
        </p:nvSpPr>
        <p:spPr>
          <a:xfrm>
            <a:off x="8758080" y="8128080"/>
            <a:ext cx="408240" cy="377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1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Oval 11"/>
          <p:cNvSpPr/>
          <p:nvPr/>
        </p:nvSpPr>
        <p:spPr>
          <a:xfrm>
            <a:off x="8847000" y="7365960"/>
            <a:ext cx="408240" cy="37800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Oval 12"/>
          <p:cNvSpPr/>
          <p:nvPr/>
        </p:nvSpPr>
        <p:spPr>
          <a:xfrm>
            <a:off x="9177480" y="7764480"/>
            <a:ext cx="407880" cy="37620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Oval 13"/>
          <p:cNvSpPr/>
          <p:nvPr/>
        </p:nvSpPr>
        <p:spPr>
          <a:xfrm>
            <a:off x="8758080" y="8128080"/>
            <a:ext cx="408240" cy="377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keyword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44" name="Oval 4"/>
          <p:cNvSpPr/>
          <p:nvPr/>
        </p:nvSpPr>
        <p:spPr>
          <a:xfrm>
            <a:off x="291960" y="1746360"/>
            <a:ext cx="127008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Text Box 7"/>
          <p:cNvSpPr/>
          <p:nvPr/>
        </p:nvSpPr>
        <p:spPr>
          <a:xfrm>
            <a:off x="1405080" y="211680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Text Box 8"/>
          <p:cNvSpPr/>
          <p:nvPr/>
        </p:nvSpPr>
        <p:spPr>
          <a:xfrm>
            <a:off x="3351960" y="5811120"/>
            <a:ext cx="11203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Text Box 9"/>
          <p:cNvSpPr/>
          <p:nvPr/>
        </p:nvSpPr>
        <p:spPr>
          <a:xfrm>
            <a:off x="8972280" y="58089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Text Box 7"/>
          <p:cNvSpPr/>
          <p:nvPr/>
        </p:nvSpPr>
        <p:spPr>
          <a:xfrm>
            <a:off x="1333440" y="3463200"/>
            <a:ext cx="8296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"/>
              </a:rPr>
              <a:t>How to figure out if something is a Python keyword?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Text Box 7"/>
          <p:cNvSpPr/>
          <p:nvPr/>
        </p:nvSpPr>
        <p:spPr>
          <a:xfrm>
            <a:off x="1184760" y="4199040"/>
            <a:ext cx="1168452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ython keywords turn green in color in jupyter notebook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f used as a variable, that keyword will no longer work as intended!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50" name="Picture 1" descr=""/>
          <p:cNvPicPr/>
          <p:nvPr/>
        </p:nvPicPr>
        <p:blipFill>
          <a:blip r:embed="rId1"/>
          <a:stretch/>
        </p:blipFill>
        <p:spPr>
          <a:xfrm>
            <a:off x="7074000" y="6227640"/>
            <a:ext cx="3346200" cy="182736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7"/>
          <p:cNvSpPr/>
          <p:nvPr/>
        </p:nvSpPr>
        <p:spPr>
          <a:xfrm>
            <a:off x="1221840" y="8841600"/>
            <a:ext cx="93895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"/>
              </a:rPr>
              <a:t>Pay attention to green colorization within jupyter notebook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2"/>
          <a:stretch/>
        </p:blipFill>
        <p:spPr>
          <a:xfrm>
            <a:off x="1206360" y="6327720"/>
            <a:ext cx="4727880" cy="174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AutoShape 3"/>
          <p:cNvSpPr/>
          <p:nvPr/>
        </p:nvSpPr>
        <p:spPr>
          <a:xfrm>
            <a:off x="2279520" y="72676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7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Practice: Sphere Volum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9" name="Text Box 2"/>
          <p:cNvSpPr/>
          <p:nvPr/>
        </p:nvSpPr>
        <p:spPr>
          <a:xfrm>
            <a:off x="809640" y="8804880"/>
            <a:ext cx="113842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https://www.google.com/search?q=sphere%20calc%3A%20find%20V&amp;oq=area+of+a+sphere&amp;aqs=chrome.0.0l6.2671j0j7&amp;sourceid=chrome&amp;ie=UTF-8&amp;skip=s</a:t>
            </a:r>
            <a:endParaRPr b="1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60" name="Picture 3" descr=""/>
          <p:cNvPicPr/>
          <p:nvPr/>
        </p:nvPicPr>
        <p:blipFill>
          <a:blip r:embed="rId1"/>
          <a:stretch/>
        </p:blipFill>
        <p:spPr>
          <a:xfrm>
            <a:off x="425520" y="1625760"/>
            <a:ext cx="6769080" cy="62611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4" descr=""/>
          <p:cNvPicPr/>
          <p:nvPr/>
        </p:nvPicPr>
        <p:blipFill>
          <a:blip r:embed="rId2"/>
          <a:stretch/>
        </p:blipFill>
        <p:spPr>
          <a:xfrm>
            <a:off x="8242200" y="2781360"/>
            <a:ext cx="3479760" cy="222228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5"/>
          <p:cNvSpPr/>
          <p:nvPr/>
        </p:nvSpPr>
        <p:spPr>
          <a:xfrm>
            <a:off x="7199280" y="6337440"/>
            <a:ext cx="5564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extension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ind radius given a volu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Practice: Character Art - Block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64" name="Text Box 2"/>
          <p:cNvSpPr/>
          <p:nvPr/>
        </p:nvSpPr>
        <p:spPr>
          <a:xfrm>
            <a:off x="1192680" y="186660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Practice: Quadratic Formula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1" name="Text Box 2"/>
          <p:cNvSpPr/>
          <p:nvPr/>
        </p:nvSpPr>
        <p:spPr>
          <a:xfrm>
            <a:off x="4722480" y="8804880"/>
            <a:ext cx="35586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https://en.wikipedia.org/wiki/Quadratic_formula</a:t>
            </a:r>
            <a:endParaRPr b="1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72" name="Picture 3" descr=""/>
          <p:cNvPicPr/>
          <p:nvPr/>
        </p:nvPicPr>
        <p:blipFill>
          <a:blip r:embed="rId1"/>
          <a:stretch/>
        </p:blipFill>
        <p:spPr>
          <a:xfrm>
            <a:off x="2317680" y="5181480"/>
            <a:ext cx="8369280" cy="30355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4" descr=""/>
          <p:cNvPicPr/>
          <p:nvPr/>
        </p:nvPicPr>
        <p:blipFill>
          <a:blip r:embed="rId2"/>
          <a:stretch/>
        </p:blipFill>
        <p:spPr>
          <a:xfrm>
            <a:off x="3137040" y="1708200"/>
            <a:ext cx="6730920" cy="144792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5"/>
          <p:cNvSpPr/>
          <p:nvPr/>
        </p:nvSpPr>
        <p:spPr>
          <a:xfrm>
            <a:off x="3639600" y="4086000"/>
            <a:ext cx="572436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900" spc="-1" strike="noStrike">
                <a:solidFill>
                  <a:srgbClr val="ee220c"/>
                </a:solidFill>
                <a:latin typeface="Gill Sans"/>
              </a:rPr>
              <a:t>what values of x satisfy the above?</a:t>
            </a:r>
            <a:endParaRPr b="1" lang="en-US" sz="2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hallenge*: Checke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6" name="Text Box 2"/>
          <p:cNvSpPr/>
          <p:nvPr/>
        </p:nvSpPr>
        <p:spPr>
          <a:xfrm>
            <a:off x="1192680" y="186660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Text Box 2"/>
          <p:cNvSpPr/>
          <p:nvPr/>
        </p:nvSpPr>
        <p:spPr>
          <a:xfrm>
            <a:off x="509400" y="9029880"/>
            <a:ext cx="10060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* Challenge =  beyond what you would be asked to do on an exa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hallenge: Border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4" name="Text Box 2"/>
          <p:cNvSpPr/>
          <p:nvPr/>
        </p:nvSpPr>
        <p:spPr>
          <a:xfrm>
            <a:off x="1192680" y="186624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62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65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hallenge: Snak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91" name="Text Box 2"/>
          <p:cNvSpPr/>
          <p:nvPr/>
        </p:nvSpPr>
        <p:spPr>
          <a:xfrm>
            <a:off x="1192680" y="186660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Text Box 3"/>
          <p:cNvSpPr/>
          <p:nvPr/>
        </p:nvSpPr>
        <p:spPr>
          <a:xfrm>
            <a:off x="4621680" y="2837880"/>
            <a:ext cx="3759840" cy="59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Line 4"/>
          <p:cNvSpPr/>
          <p:nvPr/>
        </p:nvSpPr>
        <p:spPr>
          <a:xfrm>
            <a:off x="4127400" y="876924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Line 5"/>
          <p:cNvSpPr/>
          <p:nvPr/>
        </p:nvSpPr>
        <p:spPr>
          <a:xfrm>
            <a:off x="8480520" y="2771640"/>
            <a:ext cx="0" cy="570708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Text Box 6"/>
          <p:cNvSpPr/>
          <p:nvPr/>
        </p:nvSpPr>
        <p:spPr>
          <a:xfrm>
            <a:off x="5742720" y="89438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Text Box 7"/>
          <p:cNvSpPr/>
          <p:nvPr/>
        </p:nvSpPr>
        <p:spPr>
          <a:xfrm rot="16200000">
            <a:off x="8297640" y="609624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68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71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74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77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80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84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3:51Z</dcterms:modified>
  <cp:revision>41</cp:revision>
  <dc:subject/>
  <dc:title>[301] Variables and Expressions</dc:title>
</cp:coreProperties>
</file>