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3446C-0AF6-44DE-866E-49578E747F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4670C-902C-421F-B08C-9D41667B4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734D-7737-47B9-996A-EC9CB6E16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C2E3C-FD0A-4A0D-B2DC-18802E6E45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D71B7-1899-4819-9A94-859CBF0348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6F839-DA76-4E1F-85A9-91F8ACCD6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841F0-7AFD-47E0-92D5-EF10FFDD1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6E921-07FD-44D5-949E-9C1F6350B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38876-60B5-4882-A4A5-7F9F1CEFE4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07622-C622-446D-8FE7-A29CAFBF45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B1301-586C-4E10-A1A0-BB91B6ADB2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8437-DADF-43E4-B1E5-C0F0DD629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07F20A-A36A-4A4B-80DA-E9EE3F19F4D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10T09:05:24Z</dcterms:modified>
  <cp:revision>26</cp:revision>
  <dc:subject/>
  <dc:title>[220] Conditionals</dc:title>
</cp:coreProperties>
</file>