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1D10-6229-4172-987A-CFE1BC921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5CA8-CE37-4962-A3EE-1BA38248A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BC3B-D76E-457D-AAEE-491D9F905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5F16-FC4E-4A0D-ADBA-95BCEFAE45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143D-0621-4D24-A30B-FDD4DD0332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8C5A-8387-489C-86B4-76AC7338E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0AE5-733E-4E25-9CA2-D09C29ABB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8B0BC-5190-4B0D-B2D3-17CD212D1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B290-4C3A-4D14-B0B8-E6F9D26F9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FFBD-1B0E-4E20-9F6A-972E948CF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1B6E-0FD2-4CA7-B3D0-866A71790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96C3-2CFB-43D7-9D03-0C3C60E5E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DE8E25-3675-452D-82CC-6C070FFE372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10T09:05:24Z</dcterms:modified>
  <cp:revision>26</cp:revision>
  <dc:subject/>
  <dc:title>[220] Conditionals</dc:title>
</cp:coreProperties>
</file>