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E6799-3AE7-453A-BD97-7273913A5E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FFDFA-64EE-407B-8122-9123876292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D5BAB-2181-48EA-86D6-22C8D4F674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BF6BD-10AE-45D8-9D37-C96C7FCBE8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513E1-CFCE-4B6C-9AE2-3086F9E41A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5EA56-2E74-4274-ABCB-A20C09F845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7B29F-F015-40CD-BF79-A31E53EB88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ED152-01F4-4CC5-A8A1-12A795D3B50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A11EF-2BAA-4DD9-8116-B6D9B9BE4C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F43B7-4DDE-4379-8E32-F4AF388DC8B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BAEED-587A-4BDC-8606-87636FF0F8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12B21-EFEC-4388-A12B-11657FAAD0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001DF-597C-4D1A-A23D-99D4CA29A9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E79C2-C7FF-4A64-9BF3-BF170BD299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D6BCF-2A76-4262-BA00-775AD73C3C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DCD6F-34C4-485B-81E0-4D72059297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AB936-21C4-4777-8448-1C1498FEC6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1BC5A-DFBE-40B3-83C3-5DD9FE6FA5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EA948-B072-49C7-B5F9-B1861F8468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B034E-ED9A-478A-84DA-1FFBD98D85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ED8E1-1BE3-4017-ACBA-02781DE663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965D0-60C6-4067-B84A-8AF3318FA9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E0F79-4FF6-45FB-B14B-A71C32398B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83D88-765C-49DE-88B1-4892C34E84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6AE11ED-783D-4B4E-BC01-A0EE29D5282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169026D-8832-4878-AE2F-B133A6AD07F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9520" y="1746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Iteration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-179640" y="801504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"/>
              </a:rPr>
              <a:t>Chapter 7 of Think Python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1 to 6.3 of Python for Everybody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8923320" y="8564400"/>
            <a:ext cx="48974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8171640" y="7231680"/>
            <a:ext cx="40770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ouldn’t it be nice if w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uld go back and giv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e user a second chance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6904080" y="3632040"/>
            <a:ext cx="3132000" cy="282600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8528040" y="2813400"/>
            <a:ext cx="392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e call this cycle a “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Line 15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088320" y="7455240"/>
            <a:ext cx="638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ach time through is called an “iteration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4935600" y="4003560"/>
            <a:ext cx="313200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7418160" y="74887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2764800" y="395784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8867880" y="1809000"/>
            <a:ext cx="39495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We keep executing the loop body </a:t>
            </a: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ile</a:t>
            </a: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 the condition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is true, so this is called a “while” loop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Line 18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Oval 14"/>
          <p:cNvSpPr/>
          <p:nvPr/>
        </p:nvSpPr>
        <p:spPr>
          <a:xfrm>
            <a:off x="7373880" y="5952960"/>
            <a:ext cx="446256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5898960" y="7232400"/>
            <a:ext cx="714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at does this loop do? (note crossed out line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8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9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675480" y="7455240"/>
            <a:ext cx="579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runs forever!  called an “infinit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3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8370720" y="1775520"/>
            <a:ext cx="46468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o avoid infinite loops, make sure something will/ca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ventually happen in the body to change the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6053040" y="4498920"/>
            <a:ext cx="8971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Oval 13"/>
          <p:cNvSpPr/>
          <p:nvPr/>
        </p:nvSpPr>
        <p:spPr>
          <a:xfrm>
            <a:off x="7869240" y="6630840"/>
            <a:ext cx="3589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AutoShape 15"/>
          <p:cNvSpPr/>
          <p:nvPr/>
        </p:nvSpPr>
        <p:spPr>
          <a:xfrm>
            <a:off x="6113520" y="4973760"/>
            <a:ext cx="1728720" cy="1911240"/>
          </a:xfrm>
          <a:custGeom>
            <a:avLst/>
            <a:gdLst/>
            <a:ahLst/>
            <a:rect l="l" t="t" r="r" b="b"/>
            <a:pathLst>
              <a:path w="17899" h="21600">
                <a:moveTo>
                  <a:pt x="2638" y="0"/>
                </a:moveTo>
                <a:cubicBezTo>
                  <a:pt x="-3701" y="11408"/>
                  <a:pt x="1386" y="18608"/>
                  <a:pt x="17899" y="2160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5549760" y="22766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390640" y="5715360"/>
            <a:ext cx="2222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if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137240" y="5715360"/>
            <a:ext cx="107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while loop” is just like for “if”, just replace “if” with “while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32200" y="6610320"/>
            <a:ext cx="8095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is example gives user an arbitrary number of tries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until they get it r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mplement an iterative algorithm using a while loop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/counting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validating user in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erforming iterative calculatio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grids / character ar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Trace iterative algorithms and determine their out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Recognize common while loop errors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nfinite loops (when unintention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off-by-one mistakes in the loop control variable increment / decremen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CDF6BB5-A84B-4526-B743-74C9E2F5088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erminology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5198400" y="264348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Rectangle 1"/>
          <p:cNvSpPr/>
          <p:nvPr/>
        </p:nvSpPr>
        <p:spPr>
          <a:xfrm>
            <a:off x="2228760" y="2573280"/>
            <a:ext cx="152424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Connection Line"/>
          <p:cNvSpPr/>
          <p:nvPr/>
        </p:nvSpPr>
        <p:spPr>
          <a:xfrm flipV="1">
            <a:off x="4037040" y="2895480"/>
            <a:ext cx="1066680" cy="46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5840280" y="48103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1932120" y="3132000"/>
            <a:ext cx="891360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Connection Line"/>
          <p:cNvSpPr/>
          <p:nvPr/>
        </p:nvSpPr>
        <p:spPr>
          <a:xfrm>
            <a:off x="6283440" y="3781440"/>
            <a:ext cx="2109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Oval 7"/>
          <p:cNvSpPr/>
          <p:nvPr/>
        </p:nvSpPr>
        <p:spPr>
          <a:xfrm>
            <a:off x="2387520" y="2646360"/>
            <a:ext cx="457200" cy="461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1380960" y="4065120"/>
            <a:ext cx="3264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trol variabl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Connection Line"/>
          <p:cNvSpPr/>
          <p:nvPr/>
        </p:nvSpPr>
        <p:spPr>
          <a:xfrm>
            <a:off x="2657520" y="3036960"/>
            <a:ext cx="2127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# your cod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8667000" y="57312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1524600" y="30801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589320" y="60901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52200" y="92088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teps to fol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74880" y="2895120"/>
            <a:ext cx="11593440" cy="593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24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Wh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enever you write a while loop, keep these in mind: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ff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Initializ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00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a)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Updat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 in loop body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501480" indent="0">
              <a:spcBef>
                <a:spcPts val="3501"/>
              </a:spcBef>
              <a:buNone/>
              <a:tabLst>
                <a:tab algn="l" pos="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  <a:tab algn="l" pos="10301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b) Make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progres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toward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eventually turning your loop condition to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 indent="0">
              <a:spcBef>
                <a:spcPts val="3501"/>
              </a:spcBef>
              <a:buNone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grats!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11593440" cy="593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You now understand the 4 key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Flow of Execution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ideas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in the context of Python.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1.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generally, proceed forward, one step at a tim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2. sometimes go run a “mini program” somewhere else before continuing to the next lin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This is a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function call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3. sometimes skip forward over some lines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Conditional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 or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, when the condition is false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4. sometimes go back to a previous line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.  When at the end of body, always go back to condition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AutoShape 3"/>
          <p:cNvSpPr/>
          <p:nvPr/>
        </p:nvSpPr>
        <p:spPr>
          <a:xfrm>
            <a:off x="666720" y="3659040"/>
            <a:ext cx="11669760" cy="478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75" y="0"/>
                </a:moveTo>
                <a:cubicBezTo>
                  <a:pt x="168" y="0"/>
                  <a:pt x="0" y="410"/>
                  <a:pt x="0" y="916"/>
                </a:cubicBezTo>
                <a:lnTo>
                  <a:pt x="0" y="17377"/>
                </a:lnTo>
                <a:cubicBezTo>
                  <a:pt x="0" y="17883"/>
                  <a:pt x="168" y="18293"/>
                  <a:pt x="375" y="18293"/>
                </a:cubicBezTo>
                <a:lnTo>
                  <a:pt x="10366" y="18293"/>
                </a:lnTo>
                <a:lnTo>
                  <a:pt x="11039" y="21600"/>
                </a:lnTo>
                <a:lnTo>
                  <a:pt x="11712" y="18293"/>
                </a:lnTo>
                <a:lnTo>
                  <a:pt x="21225" y="18293"/>
                </a:lnTo>
                <a:cubicBezTo>
                  <a:pt x="21432" y="18293"/>
                  <a:pt x="21600" y="17883"/>
                  <a:pt x="21600" y="17377"/>
                </a:cubicBezTo>
                <a:lnTo>
                  <a:pt x="21600" y="916"/>
                </a:lnTo>
                <a:cubicBezTo>
                  <a:pt x="21600" y="410"/>
                  <a:pt x="21432" y="0"/>
                  <a:pt x="21225" y="0"/>
                </a:cubicBezTo>
                <a:lnTo>
                  <a:pt x="375" y="0"/>
                </a:lnTo>
                <a:close/>
              </a:path>
            </a:pathLst>
          </a:cu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3269160" y="8534880"/>
            <a:ext cx="6960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hree primary exceptions to the general case (1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2844720" y="3352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42DA763-2EBF-401A-A6C8-7FFF8B82361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4086000" y="2247840"/>
            <a:ext cx="467424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r item in range(5):…"/>
          <p:cNvSpPr/>
          <p:nvPr/>
        </p:nvSpPr>
        <p:spPr>
          <a:xfrm>
            <a:off x="990720" y="1720800"/>
            <a:ext cx="7493040" cy="73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for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in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range(5)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nt(item * 3)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for with rang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8" name="Output:…"/>
          <p:cNvSpPr/>
          <p:nvPr/>
        </p:nvSpPr>
        <p:spPr>
          <a:xfrm>
            <a:off x="9335160" y="1738440"/>
            <a:ext cx="128952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Output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Connection Line"/>
          <p:cNvSpPr/>
          <p:nvPr/>
        </p:nvSpPr>
        <p:spPr>
          <a:xfrm>
            <a:off x="5745240" y="3262320"/>
            <a:ext cx="1965240" cy="2492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using range(N) with a for loop will…"/>
          <p:cNvSpPr/>
          <p:nvPr/>
        </p:nvSpPr>
        <p:spPr>
          <a:xfrm>
            <a:off x="5581080" y="5851800"/>
            <a:ext cx="49456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using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range(N)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with a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for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loop will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iterate with these values for item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0, 1, 2, …, N-2, N-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Maximum (Finding the Peak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1A7490B-4268-49F7-AEA9-D233E98B04F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2374920" y="1860480"/>
            <a:ext cx="8255160" cy="673092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4"/>
          <p:cNvSpPr/>
          <p:nvPr/>
        </p:nvSpPr>
        <p:spPr>
          <a:xfrm>
            <a:off x="4561560" y="658548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Helvetica Neue"/>
              </a:rPr>
              <a:t>where does this curve peak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Integration (Riemann Sum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CF4A6E9-BB67-43E5-A342-15FD11B380B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7" name="Picture 2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790560" y="1155600"/>
            <a:ext cx="11074320" cy="797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47880" y="649440"/>
            <a:ext cx="1109952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Prime Fin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92A96E5-B62E-40F2-890B-1E34A69590F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2808360" y="2934720"/>
            <a:ext cx="3174480" cy="49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me numbers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2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3 is prime 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4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5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6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7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8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9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Checker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Bor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Snak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halleng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7E5D4F0-BABB-4E11-8C07-11AC39D9676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4164480" y="2247840"/>
            <a:ext cx="467424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ood bye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8960400" y="7238160"/>
            <a:ext cx="1661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exit program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Line 7"/>
          <p:cNvSpPr/>
          <p:nvPr/>
        </p:nvSpPr>
        <p:spPr>
          <a:xfrm flipH="1" flipV="1">
            <a:off x="7808400" y="7008840"/>
            <a:ext cx="11480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3831480" y="8495280"/>
            <a:ext cx="5340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Helvetica Neue"/>
              </a:rPr>
              <a:t>this program should involve a nested loop!!!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171880" y="70167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283840" y="8034480"/>
            <a:ext cx="8435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mbination of conditionally skipping forward (2) with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going back is (5) is called a “whil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Text Box 10"/>
          <p:cNvSpPr/>
          <p:nvPr/>
        </p:nvSpPr>
        <p:spPr>
          <a:xfrm rot="20711400">
            <a:off x="6030000" y="4732200"/>
            <a:ext cx="2880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skip past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Text Box 11"/>
          <p:cNvSpPr/>
          <p:nvPr/>
        </p:nvSpPr>
        <p:spPr>
          <a:xfrm rot="20711400">
            <a:off x="8872560" y="4657320"/>
            <a:ext cx="3243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continue to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5423040" y="13111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21:58Z</dcterms:modified>
  <cp:revision>43</cp:revision>
  <dc:subject/>
  <dc:title>[220] Iteration</dc:title>
</cp:coreProperties>
</file>