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14831-1539-43B5-BF77-76E6CED1B2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7D89A-4D70-441B-AA21-254B0E1069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01C89-97A6-4453-8170-5B2DDEB0E4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0331B-3BD0-4C41-A2DF-3504526E00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93846-C0D1-48B7-9116-27EF515B2A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D1312-E12C-41AD-B4D4-4F6F6D5146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68228-9E7C-4825-959E-2112731A82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20C5C-B1A4-4864-AE0B-18869A53D3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9BDFF-8268-4AFC-829C-17E9610889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5A4C5-F2A3-491A-931D-2FAB988B90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0913A-D851-4244-9E7E-352A5E735F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098DD-73CF-464C-B01F-36E14F7095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2AFA6F1-A99A-4DAE-9080-F6131BE5877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0192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</a:t>
            </a:r>
            <a:r>
              <a:rPr b="0" lang="en-US" sz="8000" spc="-1" strike="noStrike">
                <a:solidFill>
                  <a:srgbClr val="000000"/>
                </a:solidFill>
                <a:latin typeface="Calibri"/>
                <a:ea typeface="Gill Sans"/>
              </a:rPr>
              <a:t>Creating Function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17280" y="7559280"/>
            <a:ext cx="7684200" cy="19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5.5 to 5.8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reating Fruitful Functions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6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5450040" y="2290680"/>
            <a:ext cx="1382400" cy="86544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5450040" y="4211640"/>
            <a:ext cx="314928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1605600" y="6828840"/>
            <a:ext cx="9792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start a function definition with “def” (short for definition)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nd use a colon (“:”) instead of an equal sign (“=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Oval 9"/>
          <p:cNvSpPr/>
          <p:nvPr/>
        </p:nvSpPr>
        <p:spPr>
          <a:xfrm>
            <a:off x="128268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6730920" y="2284560"/>
            <a:ext cx="719280" cy="863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6415200" y="4935600"/>
            <a:ext cx="438948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337920" y="6828840"/>
            <a:ext cx="6327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put the “return” keyword befo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expression associated with the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Oval 9"/>
          <p:cNvSpPr/>
          <p:nvPr/>
        </p:nvSpPr>
        <p:spPr>
          <a:xfrm>
            <a:off x="282420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5551560" y="4948200"/>
            <a:ext cx="100656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3211560" y="6982200"/>
            <a:ext cx="765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indent (tab space) before the statement(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Oval 8"/>
          <p:cNvSpPr/>
          <p:nvPr/>
        </p:nvSpPr>
        <p:spPr>
          <a:xfrm>
            <a:off x="293364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5547600" y="2292120"/>
            <a:ext cx="230292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(r) = πr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5550480" y="4276800"/>
            <a:ext cx="6937560" cy="12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ourier New"/>
              </a:rPr>
              <a:t>def g(r):</a:t>
            </a:r>
            <a:endParaRPr b="1" lang="en-US" sz="39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900" spc="-1" strike="noStrike">
                <a:solidFill>
                  <a:srgbClr val="000000"/>
                </a:solidFill>
                <a:latin typeface="Courier New"/>
              </a:rPr>
              <a:t>return 3.14 * r ** 2</a:t>
            </a:r>
            <a:endParaRPr b="1" lang="en-US" sz="3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3859920" y="7010280"/>
            <a:ext cx="5283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mputing the area from the radiu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Oval 7"/>
          <p:cNvSpPr/>
          <p:nvPr/>
        </p:nvSpPr>
        <p:spPr>
          <a:xfrm>
            <a:off x="326376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5547600" y="2292120"/>
            <a:ext cx="230292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(r) = πr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5550480" y="4276800"/>
            <a:ext cx="69296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et_area(radius):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eturn 3.14 * radius ** 2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1109880" y="7010280"/>
            <a:ext cx="1078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it’s common to have longer names for functions an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Oval 7"/>
          <p:cNvSpPr/>
          <p:nvPr/>
        </p:nvSpPr>
        <p:spPr>
          <a:xfrm>
            <a:off x="105408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5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6" name="Text Box 2"/>
          <p:cNvSpPr/>
          <p:nvPr/>
        </p:nvSpPr>
        <p:spPr>
          <a:xfrm>
            <a:off x="5547600" y="2292120"/>
            <a:ext cx="230292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(r) = πr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5550480" y="4276800"/>
            <a:ext cx="6929640" cy="15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et_area(diameter):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adius = diameter / 2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eturn 3.14 * radius ** 2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1715400" y="7010280"/>
            <a:ext cx="957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t’s also common to have more than one line of code (all indented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Oval 7"/>
          <p:cNvSpPr/>
          <p:nvPr/>
        </p:nvSpPr>
        <p:spPr>
          <a:xfrm>
            <a:off x="140976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6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1753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Let’s implement funct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3" name="Text Box 2"/>
          <p:cNvSpPr/>
          <p:nvPr/>
        </p:nvSpPr>
        <p:spPr>
          <a:xfrm>
            <a:off x="5354640" y="3375000"/>
            <a:ext cx="229392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enlo"/>
              </a:rPr>
              <a:t>cube(side)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3129480" y="4689720"/>
            <a:ext cx="674388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enlo"/>
              </a:rPr>
              <a:t>is_between(lower, num, upper)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4575960" y="6473160"/>
            <a:ext cx="4273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jupyter / PythonTutor demos 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99, 100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???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???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Oval 8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5" name="AutoShape 10"/>
          <p:cNvSpPr/>
          <p:nvPr/>
        </p:nvSpPr>
        <p:spPr>
          <a:xfrm>
            <a:off x="1212840" y="2851200"/>
            <a:ext cx="3962520" cy="1130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46" y="0"/>
                </a:moveTo>
                <a:cubicBezTo>
                  <a:pt x="155" y="0"/>
                  <a:pt x="0" y="543"/>
                  <a:pt x="0" y="1213"/>
                </a:cubicBezTo>
                <a:lnTo>
                  <a:pt x="0" y="20387"/>
                </a:lnTo>
                <a:cubicBezTo>
                  <a:pt x="0" y="21057"/>
                  <a:pt x="155" y="21600"/>
                  <a:pt x="346" y="21600"/>
                </a:cubicBezTo>
                <a:lnTo>
                  <a:pt x="8313" y="21600"/>
                </a:lnTo>
                <a:cubicBezTo>
                  <a:pt x="8504" y="21600"/>
                  <a:pt x="8659" y="21057"/>
                  <a:pt x="8659" y="20387"/>
                </a:cubicBezTo>
                <a:lnTo>
                  <a:pt x="8659" y="13606"/>
                </a:lnTo>
                <a:lnTo>
                  <a:pt x="21600" y="11179"/>
                </a:lnTo>
                <a:lnTo>
                  <a:pt x="8659" y="8752"/>
                </a:lnTo>
                <a:lnTo>
                  <a:pt x="8659" y="1213"/>
                </a:lnTo>
                <a:cubicBezTo>
                  <a:pt x="8659" y="543"/>
                  <a:pt x="8504" y="0"/>
                  <a:pt x="8313" y="0"/>
                </a:cubicBezTo>
                <a:lnTo>
                  <a:pt x="346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5274720" y="2817000"/>
            <a:ext cx="47397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not actual code, but imagin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arameters as variables that a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utomatically initialized for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5007240" y="1912680"/>
            <a:ext cx="2988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 declar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5071320" y="4895640"/>
            <a:ext cx="2860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 invoc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Line 14"/>
          <p:cNvSpPr/>
          <p:nvPr/>
        </p:nvSpPr>
        <p:spPr>
          <a:xfrm flipH="1">
            <a:off x="4130280" y="2195640"/>
            <a:ext cx="909720" cy="376200"/>
          </a:xfrm>
          <a:prstGeom prst="line">
            <a:avLst/>
          </a:prstGeom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Line 15"/>
          <p:cNvSpPr/>
          <p:nvPr/>
        </p:nvSpPr>
        <p:spPr>
          <a:xfrm flipH="1">
            <a:off x="3267000" y="5164200"/>
            <a:ext cx="1859040" cy="414360"/>
          </a:xfrm>
          <a:prstGeom prst="line">
            <a:avLst/>
          </a:prstGeom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Oval 10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469908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Text Box 10"/>
          <p:cNvSpPr/>
          <p:nvPr/>
        </p:nvSpPr>
        <p:spPr>
          <a:xfrm>
            <a:off x="500544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11"/>
          <p:cNvSpPr/>
          <p:nvPr/>
        </p:nvSpPr>
        <p:spPr>
          <a:xfrm>
            <a:off x="5004720" y="5301720"/>
            <a:ext cx="3028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x=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547416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607068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Rectangle 14"/>
          <p:cNvSpPr/>
          <p:nvPr/>
        </p:nvSpPr>
        <p:spPr>
          <a:xfrm>
            <a:off x="607068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AutoShape 15"/>
          <p:cNvSpPr/>
          <p:nvPr/>
        </p:nvSpPr>
        <p:spPr>
          <a:xfrm>
            <a:off x="5932440" y="3800520"/>
            <a:ext cx="318960" cy="1582560"/>
          </a:xfrm>
          <a:custGeom>
            <a:avLst/>
            <a:gdLst/>
            <a:ahLst/>
            <a:rect l="l" t="t" r="r" b="b"/>
            <a:pathLst>
              <a:path w="16378" h="21600">
                <a:moveTo>
                  <a:pt x="16378" y="21600"/>
                </a:moveTo>
                <a:cubicBezTo>
                  <a:pt x="-3185" y="13998"/>
                  <a:pt x="-5222" y="6798"/>
                  <a:pt x="10266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AutoShape 16"/>
          <p:cNvSpPr/>
          <p:nvPr/>
        </p:nvSpPr>
        <p:spPr>
          <a:xfrm>
            <a:off x="6664320" y="3216240"/>
            <a:ext cx="890640" cy="2151000"/>
          </a:xfrm>
          <a:custGeom>
            <a:avLst/>
            <a:gdLst/>
            <a:ahLst/>
            <a:rect l="l" t="t" r="r" b="b"/>
            <a:pathLst>
              <a:path w="21084" h="21600">
                <a:moveTo>
                  <a:pt x="21055" y="21600"/>
                </a:moveTo>
                <a:cubicBezTo>
                  <a:pt x="21600" y="10974"/>
                  <a:pt x="14582" y="3774"/>
                  <a:pt x="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Text Box 17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Oval 18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Oval 19"/>
          <p:cNvSpPr/>
          <p:nvPr/>
        </p:nvSpPr>
        <p:spPr>
          <a:xfrm>
            <a:off x="4630680" y="6532560"/>
            <a:ext cx="75564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Text Box 20"/>
          <p:cNvSpPr/>
          <p:nvPr/>
        </p:nvSpPr>
        <p:spPr>
          <a:xfrm>
            <a:off x="5395680" y="6684840"/>
            <a:ext cx="2985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keywor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83" name="Line 22"/>
          <p:cNvSpPr/>
          <p:nvPr/>
        </p:nvSpPr>
        <p:spPr>
          <a:xfrm>
            <a:off x="520560" y="7805880"/>
            <a:ext cx="8091720" cy="0"/>
          </a:xfrm>
          <a:prstGeom prst="line">
            <a:avLst/>
          </a:prstGeom>
          <a:ln w="101520">
            <a:solidFill>
              <a:srgbClr val="d6d5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the syntax of a function header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ef, ( ), :, tabbing, retur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a function with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rrect header and indent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return value (fruitful function) or without (void function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rameters that have default valu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a function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knowing difference in outcomes of print and return statement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etermine result of function calls with 3 types of argument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ositional, keyword, and defaul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race function invocations, to determine control flo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469908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500544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5004720" y="5301720"/>
            <a:ext cx="3028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x=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547416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Rectangle 13"/>
          <p:cNvSpPr/>
          <p:nvPr/>
        </p:nvSpPr>
        <p:spPr>
          <a:xfrm>
            <a:off x="607068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Rectangle 14"/>
          <p:cNvSpPr/>
          <p:nvPr/>
        </p:nvSpPr>
        <p:spPr>
          <a:xfrm>
            <a:off x="607068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AutoShape 15"/>
          <p:cNvSpPr/>
          <p:nvPr/>
        </p:nvSpPr>
        <p:spPr>
          <a:xfrm>
            <a:off x="5932440" y="3800520"/>
            <a:ext cx="318960" cy="1582560"/>
          </a:xfrm>
          <a:custGeom>
            <a:avLst/>
            <a:gdLst/>
            <a:ahLst/>
            <a:rect l="l" t="t" r="r" b="b"/>
            <a:pathLst>
              <a:path w="16378" h="21600">
                <a:moveTo>
                  <a:pt x="16378" y="21600"/>
                </a:moveTo>
                <a:cubicBezTo>
                  <a:pt x="-3185" y="13998"/>
                  <a:pt x="-5222" y="6798"/>
                  <a:pt x="10266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AutoShape 16"/>
          <p:cNvSpPr/>
          <p:nvPr/>
        </p:nvSpPr>
        <p:spPr>
          <a:xfrm>
            <a:off x="6664320" y="3216240"/>
            <a:ext cx="890640" cy="2151000"/>
          </a:xfrm>
          <a:custGeom>
            <a:avLst/>
            <a:gdLst/>
            <a:ahLst/>
            <a:rect l="l" t="t" r="r" b="b"/>
            <a:pathLst>
              <a:path w="21084" h="21600">
                <a:moveTo>
                  <a:pt x="21055" y="21600"/>
                </a:moveTo>
                <a:cubicBezTo>
                  <a:pt x="21600" y="10974"/>
                  <a:pt x="14582" y="3774"/>
                  <a:pt x="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Rectangle 17"/>
          <p:cNvSpPr/>
          <p:nvPr/>
        </p:nvSpPr>
        <p:spPr>
          <a:xfrm>
            <a:off x="876312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Text Box 18"/>
          <p:cNvSpPr/>
          <p:nvPr/>
        </p:nvSpPr>
        <p:spPr>
          <a:xfrm>
            <a:off x="906948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Text Box 19"/>
          <p:cNvSpPr/>
          <p:nvPr/>
        </p:nvSpPr>
        <p:spPr>
          <a:xfrm>
            <a:off x="9069480" y="5301720"/>
            <a:ext cx="138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Text Box 20"/>
          <p:cNvSpPr/>
          <p:nvPr/>
        </p:nvSpPr>
        <p:spPr>
          <a:xfrm>
            <a:off x="953820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Rectangle 21"/>
          <p:cNvSpPr/>
          <p:nvPr/>
        </p:nvSpPr>
        <p:spPr>
          <a:xfrm>
            <a:off x="1013472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Rectangle 22"/>
          <p:cNvSpPr/>
          <p:nvPr/>
        </p:nvSpPr>
        <p:spPr>
          <a:xfrm>
            <a:off x="1013472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-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AutoShape 23"/>
          <p:cNvSpPr/>
          <p:nvPr/>
        </p:nvSpPr>
        <p:spPr>
          <a:xfrm>
            <a:off x="9769320" y="3198960"/>
            <a:ext cx="47808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AutoShape 24"/>
          <p:cNvSpPr/>
          <p:nvPr/>
        </p:nvSpPr>
        <p:spPr>
          <a:xfrm>
            <a:off x="10787040" y="2793960"/>
            <a:ext cx="914400" cy="884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772" y="13806"/>
                  <a:pt x="9572" y="21006"/>
                  <a:pt x="0" y="2160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Text Box 25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Oval 26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Oval 27"/>
          <p:cNvSpPr/>
          <p:nvPr/>
        </p:nvSpPr>
        <p:spPr>
          <a:xfrm>
            <a:off x="4630680" y="6532560"/>
            <a:ext cx="75564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Oval 28"/>
          <p:cNvSpPr/>
          <p:nvPr/>
        </p:nvSpPr>
        <p:spPr>
          <a:xfrm>
            <a:off x="8756640" y="6540480"/>
            <a:ext cx="754200" cy="75564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Text Box 29"/>
          <p:cNvSpPr/>
          <p:nvPr/>
        </p:nvSpPr>
        <p:spPr>
          <a:xfrm>
            <a:off x="5395680" y="6684840"/>
            <a:ext cx="2985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keywor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Text Box 30"/>
          <p:cNvSpPr/>
          <p:nvPr/>
        </p:nvSpPr>
        <p:spPr>
          <a:xfrm>
            <a:off x="9567360" y="6684840"/>
            <a:ext cx="2770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fault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5" name="Line 32"/>
          <p:cNvSpPr/>
          <p:nvPr/>
        </p:nvSpPr>
        <p:spPr>
          <a:xfrm>
            <a:off x="520560" y="7805880"/>
            <a:ext cx="11560320" cy="0"/>
          </a:xfrm>
          <a:prstGeom prst="line">
            <a:avLst/>
          </a:prstGeom>
          <a:ln w="101520">
            <a:solidFill>
              <a:srgbClr val="d6d5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Text Box 33"/>
          <p:cNvSpPr/>
          <p:nvPr/>
        </p:nvSpPr>
        <p:spPr>
          <a:xfrm>
            <a:off x="1639440" y="8316720"/>
            <a:ext cx="9724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common pitfall: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confusing keyword arguments and default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469908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Text Box 10"/>
          <p:cNvSpPr/>
          <p:nvPr/>
        </p:nvSpPr>
        <p:spPr>
          <a:xfrm>
            <a:off x="500544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Text Box 11"/>
          <p:cNvSpPr/>
          <p:nvPr/>
        </p:nvSpPr>
        <p:spPr>
          <a:xfrm>
            <a:off x="5004720" y="5301720"/>
            <a:ext cx="3028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x=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Text Box 12"/>
          <p:cNvSpPr/>
          <p:nvPr/>
        </p:nvSpPr>
        <p:spPr>
          <a:xfrm>
            <a:off x="547416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Rectangle 13"/>
          <p:cNvSpPr/>
          <p:nvPr/>
        </p:nvSpPr>
        <p:spPr>
          <a:xfrm>
            <a:off x="607068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Rectangle 14"/>
          <p:cNvSpPr/>
          <p:nvPr/>
        </p:nvSpPr>
        <p:spPr>
          <a:xfrm>
            <a:off x="607068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AutoShape 15"/>
          <p:cNvSpPr/>
          <p:nvPr/>
        </p:nvSpPr>
        <p:spPr>
          <a:xfrm>
            <a:off x="5932440" y="3800520"/>
            <a:ext cx="318960" cy="1582560"/>
          </a:xfrm>
          <a:custGeom>
            <a:avLst/>
            <a:gdLst/>
            <a:ahLst/>
            <a:rect l="l" t="t" r="r" b="b"/>
            <a:pathLst>
              <a:path w="16378" h="21600">
                <a:moveTo>
                  <a:pt x="16378" y="21600"/>
                </a:moveTo>
                <a:cubicBezTo>
                  <a:pt x="-3185" y="13998"/>
                  <a:pt x="-5222" y="6798"/>
                  <a:pt x="10266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AutoShape 16"/>
          <p:cNvSpPr/>
          <p:nvPr/>
        </p:nvSpPr>
        <p:spPr>
          <a:xfrm>
            <a:off x="6664320" y="3216240"/>
            <a:ext cx="890640" cy="2151000"/>
          </a:xfrm>
          <a:custGeom>
            <a:avLst/>
            <a:gdLst/>
            <a:ahLst/>
            <a:rect l="l" t="t" r="r" b="b"/>
            <a:pathLst>
              <a:path w="21084" h="21600">
                <a:moveTo>
                  <a:pt x="21055" y="21600"/>
                </a:moveTo>
                <a:cubicBezTo>
                  <a:pt x="21600" y="10974"/>
                  <a:pt x="14582" y="3774"/>
                  <a:pt x="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Rectangle 17"/>
          <p:cNvSpPr/>
          <p:nvPr/>
        </p:nvSpPr>
        <p:spPr>
          <a:xfrm>
            <a:off x="876312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Text Box 18"/>
          <p:cNvSpPr/>
          <p:nvPr/>
        </p:nvSpPr>
        <p:spPr>
          <a:xfrm>
            <a:off x="906948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Text Box 19"/>
          <p:cNvSpPr/>
          <p:nvPr/>
        </p:nvSpPr>
        <p:spPr>
          <a:xfrm>
            <a:off x="9069480" y="5301720"/>
            <a:ext cx="138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Text Box 20"/>
          <p:cNvSpPr/>
          <p:nvPr/>
        </p:nvSpPr>
        <p:spPr>
          <a:xfrm>
            <a:off x="953820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Rectangle 21"/>
          <p:cNvSpPr/>
          <p:nvPr/>
        </p:nvSpPr>
        <p:spPr>
          <a:xfrm>
            <a:off x="1013472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Rectangle 22"/>
          <p:cNvSpPr/>
          <p:nvPr/>
        </p:nvSpPr>
        <p:spPr>
          <a:xfrm>
            <a:off x="1013472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-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AutoShape 23"/>
          <p:cNvSpPr/>
          <p:nvPr/>
        </p:nvSpPr>
        <p:spPr>
          <a:xfrm>
            <a:off x="9769320" y="3198960"/>
            <a:ext cx="47808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AutoShape 24"/>
          <p:cNvSpPr/>
          <p:nvPr/>
        </p:nvSpPr>
        <p:spPr>
          <a:xfrm>
            <a:off x="10787040" y="2793960"/>
            <a:ext cx="914400" cy="884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772" y="13806"/>
                  <a:pt x="9572" y="21006"/>
                  <a:pt x="0" y="2160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Text Box 25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Oval 26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Oval 27"/>
          <p:cNvSpPr/>
          <p:nvPr/>
        </p:nvSpPr>
        <p:spPr>
          <a:xfrm>
            <a:off x="4630680" y="6532560"/>
            <a:ext cx="75564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Oval 28"/>
          <p:cNvSpPr/>
          <p:nvPr/>
        </p:nvSpPr>
        <p:spPr>
          <a:xfrm>
            <a:off x="8756640" y="6540480"/>
            <a:ext cx="754200" cy="75564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Text Box 29"/>
          <p:cNvSpPr/>
          <p:nvPr/>
        </p:nvSpPr>
        <p:spPr>
          <a:xfrm>
            <a:off x="5395680" y="6684840"/>
            <a:ext cx="2985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keywor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Text Box 30"/>
          <p:cNvSpPr/>
          <p:nvPr/>
        </p:nvSpPr>
        <p:spPr>
          <a:xfrm>
            <a:off x="9567360" y="6684840"/>
            <a:ext cx="2770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fault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8" name="Line 32"/>
          <p:cNvSpPr/>
          <p:nvPr/>
        </p:nvSpPr>
        <p:spPr>
          <a:xfrm>
            <a:off x="520560" y="7805880"/>
            <a:ext cx="11560320" cy="0"/>
          </a:xfrm>
          <a:prstGeom prst="line">
            <a:avLst/>
          </a:prstGeom>
          <a:ln w="101520">
            <a:solidFill>
              <a:srgbClr val="d6d5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Text Box 33"/>
          <p:cNvSpPr/>
          <p:nvPr/>
        </p:nvSpPr>
        <p:spPr>
          <a:xfrm>
            <a:off x="5063760" y="8316720"/>
            <a:ext cx="2876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worksheet practice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1753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Generating grid for game like Battleship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2419920" y="7454160"/>
            <a:ext cx="84553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Menlo"/>
              </a:rPr>
              <a:t>get_grid(width, height, symb = ‘#’, title = ‘</a:t>
            </a: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Grid:</a:t>
            </a:r>
            <a:r>
              <a:rPr b="0" lang="en-US" sz="3000" spc="-1" strike="noStrike">
                <a:solidFill>
                  <a:srgbClr val="000000"/>
                </a:solidFill>
                <a:latin typeface="Menlo"/>
              </a:rPr>
              <a:t>’)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5078880" y="8257680"/>
            <a:ext cx="2846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PythonTutor demo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TextBox 9"/>
          <p:cNvSpPr/>
          <p:nvPr/>
        </p:nvSpPr>
        <p:spPr>
          <a:xfrm>
            <a:off x="4140360" y="2687760"/>
            <a:ext cx="2361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ri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7112160" y="4161960"/>
            <a:ext cx="16034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10 x 8 gri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1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AutoShape 2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AutoShape 3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AutoShape 4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AutoShape 8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1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AutoShape 2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AutoShape 3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AutoShape 4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AutoShape 5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Text Box 8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9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AutoShape 11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Text Box 12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AutoShape 13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Text Box 14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Text Box 15"/>
          <p:cNvSpPr/>
          <p:nvPr/>
        </p:nvSpPr>
        <p:spPr>
          <a:xfrm>
            <a:off x="3555720" y="8635680"/>
            <a:ext cx="5727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e could call print from multiple plac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1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AutoShape 2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AutoShape 3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AutoShape 4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AutoShape 5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AutoShape 9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Text Box 10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AutoShape 11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Text Box 12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AutoShape 13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Text Box 14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Rectangle 15"/>
          <p:cNvSpPr/>
          <p:nvPr/>
        </p:nvSpPr>
        <p:spPr>
          <a:xfrm>
            <a:off x="7075440" y="2590920"/>
            <a:ext cx="1623960" cy="5810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1, 3, 2,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AutoShape 1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2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AutoShape 3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AutoShape 4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AutoShape 5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AutoShape 6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Text Box 7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Text Box 8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9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AutoShape 10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11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AutoShape 12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Text Box 13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Text Box 14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Rectangle 15"/>
          <p:cNvSpPr/>
          <p:nvPr/>
        </p:nvSpPr>
        <p:spPr>
          <a:xfrm>
            <a:off x="5248440" y="5600880"/>
            <a:ext cx="1623960" cy="58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1, 3, 2,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Text Box 16"/>
          <p:cNvSpPr/>
          <p:nvPr/>
        </p:nvSpPr>
        <p:spPr>
          <a:xfrm>
            <a:off x="182880" y="8634960"/>
            <a:ext cx="12472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return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instead of </a:t>
            </a: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print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gives callers different options for how to use the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AutoShape 1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Rectangle 2"/>
          <p:cNvSpPr/>
          <p:nvPr/>
        </p:nvSpPr>
        <p:spPr>
          <a:xfrm>
            <a:off x="7318440" y="6726240"/>
            <a:ext cx="1519200" cy="13874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AutoShape 4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AutoShape 5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AutoShape 6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AutoShape 7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Text Box 8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Text Box 9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Text Box 10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AutoShape 11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Text Box 12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AutoShape 13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Text Box 14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Text Box 15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Rectangle 16"/>
          <p:cNvSpPr/>
          <p:nvPr/>
        </p:nvSpPr>
        <p:spPr>
          <a:xfrm>
            <a:off x="5248440" y="5600880"/>
            <a:ext cx="1623960" cy="58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1, 3, 2,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AutoShape 17"/>
          <p:cNvSpPr/>
          <p:nvPr/>
        </p:nvSpPr>
        <p:spPr>
          <a:xfrm>
            <a:off x="7442280" y="6784920"/>
            <a:ext cx="1271520" cy="1268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4" y="0"/>
                </a:moveTo>
                <a:cubicBezTo>
                  <a:pt x="87" y="0"/>
                  <a:pt x="0" y="87"/>
                  <a:pt x="0" y="194"/>
                </a:cubicBezTo>
                <a:lnTo>
                  <a:pt x="0" y="21404"/>
                </a:lnTo>
                <a:cubicBezTo>
                  <a:pt x="0" y="21511"/>
                  <a:pt x="87" y="21600"/>
                  <a:pt x="194" y="21600"/>
                </a:cubicBezTo>
                <a:lnTo>
                  <a:pt x="21406" y="21600"/>
                </a:lnTo>
                <a:cubicBezTo>
                  <a:pt x="21513" y="21600"/>
                  <a:pt x="21600" y="21511"/>
                  <a:pt x="21600" y="21404"/>
                </a:cubicBezTo>
                <a:lnTo>
                  <a:pt x="21600" y="20822"/>
                </a:lnTo>
                <a:cubicBezTo>
                  <a:pt x="21600" y="20715"/>
                  <a:pt x="21513" y="20628"/>
                  <a:pt x="21406" y="20628"/>
                </a:cubicBezTo>
                <a:lnTo>
                  <a:pt x="1163" y="20628"/>
                </a:lnTo>
                <a:cubicBezTo>
                  <a:pt x="1056" y="20628"/>
                  <a:pt x="970" y="20539"/>
                  <a:pt x="970" y="20432"/>
                </a:cubicBezTo>
                <a:lnTo>
                  <a:pt x="970" y="194"/>
                </a:lnTo>
                <a:cubicBezTo>
                  <a:pt x="970" y="87"/>
                  <a:pt x="883" y="0"/>
                  <a:pt x="776" y="0"/>
                </a:cubicBezTo>
                <a:lnTo>
                  <a:pt x="194" y="0"/>
                </a:lnTo>
                <a:close/>
                <a:moveTo>
                  <a:pt x="16860" y="3004"/>
                </a:moveTo>
                <a:lnTo>
                  <a:pt x="16860" y="19065"/>
                </a:lnTo>
                <a:lnTo>
                  <a:pt x="19553" y="19065"/>
                </a:lnTo>
                <a:lnTo>
                  <a:pt x="19553" y="3004"/>
                </a:lnTo>
                <a:lnTo>
                  <a:pt x="16860" y="3004"/>
                </a:lnTo>
                <a:close/>
                <a:moveTo>
                  <a:pt x="7272" y="6922"/>
                </a:moveTo>
                <a:lnTo>
                  <a:pt x="7272" y="19065"/>
                </a:lnTo>
                <a:lnTo>
                  <a:pt x="9965" y="19065"/>
                </a:lnTo>
                <a:lnTo>
                  <a:pt x="9965" y="6922"/>
                </a:lnTo>
                <a:lnTo>
                  <a:pt x="7272" y="6922"/>
                </a:lnTo>
                <a:close/>
                <a:moveTo>
                  <a:pt x="12066" y="10127"/>
                </a:moveTo>
                <a:lnTo>
                  <a:pt x="12066" y="19065"/>
                </a:lnTo>
                <a:lnTo>
                  <a:pt x="14759" y="19065"/>
                </a:lnTo>
                <a:lnTo>
                  <a:pt x="14759" y="10127"/>
                </a:lnTo>
                <a:lnTo>
                  <a:pt x="12066" y="10127"/>
                </a:lnTo>
                <a:close/>
                <a:moveTo>
                  <a:pt x="2478" y="15151"/>
                </a:moveTo>
                <a:lnTo>
                  <a:pt x="2478" y="19065"/>
                </a:lnTo>
                <a:lnTo>
                  <a:pt x="5171" y="19065"/>
                </a:lnTo>
                <a:lnTo>
                  <a:pt x="5171" y="15151"/>
                </a:lnTo>
                <a:lnTo>
                  <a:pt x="2478" y="15151"/>
                </a:ln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Text Box 18"/>
          <p:cNvSpPr/>
          <p:nvPr/>
        </p:nvSpPr>
        <p:spPr>
          <a:xfrm>
            <a:off x="182880" y="8634960"/>
            <a:ext cx="12472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return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instead of </a:t>
            </a: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print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gives callers different options for how to use the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AutoShape 1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>
              <a:alpha val="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Text Box 2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AutoShape 3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AutoShape 4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AutoShape 5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Text Box 7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Text Box 8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AutoShape 9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10"/>
          <p:cNvSpPr/>
          <p:nvPr/>
        </p:nvSpPr>
        <p:spPr>
          <a:xfrm>
            <a:off x="5041440" y="4815360"/>
            <a:ext cx="8235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ou only get to answer once, then function stop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AutoShape 11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Text Box 12"/>
          <p:cNvSpPr/>
          <p:nvPr/>
        </p:nvSpPr>
        <p:spPr>
          <a:xfrm>
            <a:off x="5791680" y="2296080"/>
            <a:ext cx="6492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 function can print as much as it lik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Text Box 13"/>
          <p:cNvSpPr/>
          <p:nvPr/>
        </p:nvSpPr>
        <p:spPr>
          <a:xfrm>
            <a:off x="182880" y="8634960"/>
            <a:ext cx="12472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return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instead of </a:t>
            </a: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print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gives callers different options for how to use the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41" name="Picture 14" descr=""/>
          <p:cNvPicPr/>
          <p:nvPr/>
        </p:nvPicPr>
        <p:blipFill>
          <a:blip r:embed="rId1"/>
          <a:stretch/>
        </p:blipFill>
        <p:spPr>
          <a:xfrm>
            <a:off x="6540480" y="5495760"/>
            <a:ext cx="3251160" cy="250200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15"/>
          <p:cNvSpPr/>
          <p:nvPr/>
        </p:nvSpPr>
        <p:spPr>
          <a:xfrm>
            <a:off x="5965560" y="8022600"/>
            <a:ext cx="43999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ill Sans"/>
              </a:rPr>
              <a:t>https://memegenerator.net/instance/56355449/millionaire-regis-is-that-your-final-answer</a:t>
            </a: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Text Box 16"/>
          <p:cNvSpPr/>
          <p:nvPr/>
        </p:nvSpPr>
        <p:spPr>
          <a:xfrm>
            <a:off x="10191600" y="6457320"/>
            <a:ext cx="1484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bad_add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example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1"/>
          <p:cNvSpPr/>
          <p:nvPr/>
        </p:nvSpPr>
        <p:spPr>
          <a:xfrm>
            <a:off x="1473120" y="609480"/>
            <a:ext cx="11099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Interactive Examples with PythonTutor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 SemiBold"/>
                <a:ea typeface="Gill Sans SemiBold"/>
              </a:rPr>
              <a:t>Course website schedule page entry for “</a:t>
            </a:r>
            <a:r>
              <a:rPr b="0" i="1" lang="en-US" sz="2800" spc="-1" strike="noStrike">
                <a:solidFill>
                  <a:srgbClr val="ff0000"/>
                </a:solidFill>
                <a:latin typeface="Gill Sans"/>
              </a:rPr>
              <a:t>Creating Functions</a:t>
            </a:r>
            <a:r>
              <a:rPr b="0" i="1" lang="en-US" sz="2800" spc="-1" strike="noStrike">
                <a:solidFill>
                  <a:srgbClr val="ff0000"/>
                </a:solidFill>
                <a:latin typeface="Gill Sans SemiBold"/>
                <a:ea typeface="Gill Sans SemiBold"/>
              </a:rPr>
              <a:t>”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TextBox 7"/>
          <p:cNvSpPr/>
          <p:nvPr/>
        </p:nvSpPr>
        <p:spPr>
          <a:xfrm>
            <a:off x="2540160" y="2666880"/>
            <a:ext cx="6508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func_c(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C"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func_b(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B1")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func_c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B2"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func_a(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A1")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func_b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A2"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func_a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Text Box 1"/>
          <p:cNvSpPr/>
          <p:nvPr/>
        </p:nvSpPr>
        <p:spPr>
          <a:xfrm>
            <a:off x="5778360" y="4425840"/>
            <a:ext cx="36957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 SemiBold"/>
                <a:ea typeface="Gill Sans SemiBold"/>
              </a:rPr>
              <a:t>Let’s trace this exampl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3998520"/>
            <a:ext cx="11099880" cy="175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Where do </a:t>
            </a:r>
            <a:r>
              <a:rPr b="0" i="1" lang="en-US" sz="4800" spc="-1" strike="noStrike">
                <a:solidFill>
                  <a:srgbClr val="000000"/>
                </a:solidFill>
                <a:latin typeface="Gill Sans SemiBold"/>
              </a:rPr>
              <a:t>modules</a:t>
            </a:r>
            <a:r>
              <a:rPr b="0" i="1" lang="en-US" sz="48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 come from?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5" name="Text Box 2"/>
          <p:cNvSpPr/>
          <p:nvPr/>
        </p:nvSpPr>
        <p:spPr>
          <a:xfrm>
            <a:off x="1536480" y="982800"/>
            <a:ext cx="444852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428760" indent="-28584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e-installed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e.g., math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qrt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n(), co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i,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etc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8597160" y="804960"/>
            <a:ext cx="194796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457200" indent="-30492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uilt 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put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int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en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etc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1221840" y="6977160"/>
            <a:ext cx="40240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380880" indent="-25380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talled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e.g., jupyter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ip install jupy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ip install 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8991360" y="7067520"/>
            <a:ext cx="26949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428760" indent="-28584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usto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oject (lab-p3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Line 6"/>
          <p:cNvSpPr/>
          <p:nvPr/>
        </p:nvSpPr>
        <p:spPr>
          <a:xfrm flipV="1">
            <a:off x="8213760" y="2811240"/>
            <a:ext cx="1006560" cy="174276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Line 7"/>
          <p:cNvSpPr/>
          <p:nvPr/>
        </p:nvSpPr>
        <p:spPr>
          <a:xfrm>
            <a:off x="8442360" y="5456160"/>
            <a:ext cx="784080" cy="156528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Line 8"/>
          <p:cNvSpPr/>
          <p:nvPr/>
        </p:nvSpPr>
        <p:spPr>
          <a:xfrm flipH="1">
            <a:off x="4363560" y="5265720"/>
            <a:ext cx="1220760" cy="167796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Line 9"/>
          <p:cNvSpPr/>
          <p:nvPr/>
        </p:nvSpPr>
        <p:spPr>
          <a:xfrm flipH="1" flipV="1">
            <a:off x="3860640" y="2387160"/>
            <a:ext cx="1571760" cy="216684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28800" y="830376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Anaconda did these installations for u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1257480" y="3492360"/>
            <a:ext cx="9293040" cy="1619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577880" y="5323680"/>
            <a:ext cx="4560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how do we write func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like move code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ypes of funct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do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thin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ike “Move Cod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produce output with prin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change variab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produc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valu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milar to mathematical func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ny might say a function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returns a valu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wney calls these functions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fruitful”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function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we’ll use this, but don’t expect people to generally be aware of this terminology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do both!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ypes of funct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do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thin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ike “Move Cod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produce output with prin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change variab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produc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valu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milar to mathematical func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ny might say a function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returns a valu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wney calls these functions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fruitful”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function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we’ll use this, but don’t expect people to generally be aware of this terminology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do both!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1047600" y="4395960"/>
            <a:ext cx="5640480" cy="48096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0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5450040" y="2284560"/>
            <a:ext cx="385560" cy="863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6885000" y="4183200"/>
            <a:ext cx="38592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5025600" y="7010280"/>
            <a:ext cx="2952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 name is “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8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5869080" y="2284560"/>
            <a:ext cx="293760" cy="863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481880" y="4211640"/>
            <a:ext cx="38592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4539600" y="7010280"/>
            <a:ext cx="3924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t takes one parameter, “x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2-06T08:09:51Z</dcterms:modified>
  <cp:revision>47</cp:revision>
  <dc:subject/>
  <dc:title>[301] Creating Functions</dc:title>
</cp:coreProperties>
</file>