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12395-394A-4396-8A4E-D9775E0861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5F3BE-BE91-4D2E-AEA4-7AAE6C2156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1EFDD-7312-48B8-A609-DB799A1ED3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C30FE-E41B-4650-8B6B-846EF7EC4D3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07F65-F06D-4E44-BB6F-13222F7D7FC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2FBEC-DA80-4B0F-A569-7DF9BD1DB6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2A538-2C6D-48F6-98B7-A65DDC01BE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EA1CD-0AEF-41D8-AE4D-DE528474BB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3C7A4-52EF-42C6-AB7E-C5E2FB17C9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F265F-8895-4D9A-B248-D7B9154D7B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322B6-D394-43B5-873D-BA920EED35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E03B9-47DA-4133-BDA0-358B34AF5F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B1B128C-36A6-49DF-B7DF-A87718404295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176544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Using Functions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625760" y="5540400"/>
            <a:ext cx="104644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17280" y="7787880"/>
            <a:ext cx="76842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Parts of Chapter 3 of Think Python,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5.1 to 5.4 of Python for Everybod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10589400" y="8244720"/>
            <a:ext cx="206388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Due: </a:t>
            </a: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Quiz1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479680" y="3268440"/>
            <a:ext cx="8043840" cy="302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print(“hello”)</a:t>
            </a:r>
            <a:br>
              <a:rPr sz="6500"/>
            </a:b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result = f(x)</a:t>
            </a:r>
            <a:endParaRPr b="0" lang="en-US" sz="6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950760" y="7113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Calling/Invoking a Function in Pytho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479680" y="3268440"/>
            <a:ext cx="8043840" cy="302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print(“hello”)</a:t>
            </a:r>
            <a:br>
              <a:rPr sz="6500"/>
            </a:b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result = f(x)</a:t>
            </a:r>
            <a:endParaRPr b="0" lang="en-US" sz="6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3" name="Rectangle 2"/>
          <p:cNvSpPr/>
          <p:nvPr/>
        </p:nvSpPr>
        <p:spPr>
          <a:xfrm>
            <a:off x="3936960" y="3803760"/>
            <a:ext cx="1955880" cy="12697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7316640" y="4756320"/>
            <a:ext cx="481320" cy="12697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3693960" y="7099920"/>
            <a:ext cx="3800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unction’s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950760" y="7113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Calling/Invoking a Function in Pytho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79680" y="3268440"/>
            <a:ext cx="8043840" cy="302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print(“hello”)</a:t>
            </a:r>
            <a:br>
              <a:rPr sz="6500"/>
            </a:b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result = f(x)</a:t>
            </a:r>
            <a:endParaRPr b="0" lang="en-US" sz="6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8" name="Rectangle 2"/>
          <p:cNvSpPr/>
          <p:nvPr/>
        </p:nvSpPr>
        <p:spPr>
          <a:xfrm>
            <a:off x="5854680" y="3727440"/>
            <a:ext cx="290520" cy="1270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8624880" y="3727440"/>
            <a:ext cx="480960" cy="1270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7658280" y="4756320"/>
            <a:ext cx="290160" cy="12697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8332920" y="4756320"/>
            <a:ext cx="291960" cy="12697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3693960" y="7099920"/>
            <a:ext cx="3800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unction’s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3616200" y="7607880"/>
            <a:ext cx="5027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ollowed by parenthes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950760" y="7113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Calling/Invoking a Function in Pytho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79680" y="3268440"/>
            <a:ext cx="8043840" cy="302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print(</a:t>
            </a:r>
            <a:r>
              <a:rPr b="0" lang="en-US" sz="6500" spc="-1" strike="noStrike">
                <a:solidFill>
                  <a:srgbClr val="ee220c"/>
                </a:solidFill>
                <a:latin typeface="Gill Sans SemiBold"/>
              </a:rPr>
              <a:t>“hello”</a:t>
            </a: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)</a:t>
            </a:r>
            <a:br>
              <a:rPr sz="6500"/>
            </a:b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result = f(</a:t>
            </a:r>
            <a:r>
              <a:rPr b="0" lang="en-US" sz="6500" spc="-1" strike="noStrike">
                <a:solidFill>
                  <a:srgbClr val="ee220c"/>
                </a:solidFill>
                <a:latin typeface="Gill Sans SemiBold"/>
              </a:rPr>
              <a:t>x</a:t>
            </a: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)</a:t>
            </a:r>
            <a:endParaRPr b="0" lang="en-US" sz="6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6" name="AutoShape 2"/>
          <p:cNvSpPr/>
          <p:nvPr/>
        </p:nvSpPr>
        <p:spPr>
          <a:xfrm>
            <a:off x="7394400" y="2328840"/>
            <a:ext cx="1271880" cy="1276200"/>
          </a:xfrm>
          <a:custGeom>
            <a:avLst/>
            <a:gdLst/>
            <a:ahLst/>
            <a:rect l="l" t="t" r="r" b="b"/>
            <a:pathLst>
              <a:path w="21124" h="20638">
                <a:moveTo>
                  <a:pt x="25" y="20638"/>
                </a:moveTo>
                <a:cubicBezTo>
                  <a:pt x="-476" y="5881"/>
                  <a:pt x="6557" y="-962"/>
                  <a:pt x="21124" y="108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8723160" y="2082600"/>
            <a:ext cx="1780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3693960" y="7099920"/>
            <a:ext cx="3800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unction’s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3616200" y="7607880"/>
            <a:ext cx="5027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llowed by parenthes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3617640" y="8115840"/>
            <a:ext cx="6193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OMETIMES: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th one or more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950760" y="7113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Calling/Invoking a Function in Pytho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479680" y="3268440"/>
            <a:ext cx="8043840" cy="302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print(“hello”)</a:t>
            </a:r>
            <a:br>
              <a:rPr sz="6500"/>
            </a:br>
            <a:r>
              <a:rPr b="0" lang="en-US" sz="6500" spc="-1" strike="noStrike">
                <a:solidFill>
                  <a:srgbClr val="ee220c"/>
                </a:solidFill>
                <a:latin typeface="Gill Sans SemiBold"/>
              </a:rPr>
              <a:t>result</a:t>
            </a: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 = f(x)</a:t>
            </a:r>
            <a:endParaRPr b="0" lang="en-US" sz="6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3" name="AutoShape 2"/>
          <p:cNvSpPr/>
          <p:nvPr/>
        </p:nvSpPr>
        <p:spPr>
          <a:xfrm>
            <a:off x="5630760" y="5865840"/>
            <a:ext cx="1006560" cy="636480"/>
          </a:xfrm>
          <a:custGeom>
            <a:avLst/>
            <a:gdLst/>
            <a:ahLst/>
            <a:rect l="l" t="t" r="r" b="b"/>
            <a:pathLst>
              <a:path w="20156" h="21600">
                <a:moveTo>
                  <a:pt x="261" y="0"/>
                </a:moveTo>
                <a:cubicBezTo>
                  <a:pt x="-1444" y="11986"/>
                  <a:pt x="5188" y="19186"/>
                  <a:pt x="20156" y="2160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6720120" y="6248160"/>
            <a:ext cx="2001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return val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3693960" y="7099920"/>
            <a:ext cx="3800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unction’s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3616200" y="7607880"/>
            <a:ext cx="5027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llowed by parenthes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3617640" y="8115840"/>
            <a:ext cx="6193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OMETIME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ith one or more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3689280" y="8623800"/>
            <a:ext cx="4688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OMETIMES: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oducing a resul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950760" y="7113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Calling/Invoking a Function in Pytho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071800" y="3127320"/>
            <a:ext cx="9285120" cy="302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print(“hello”, “world”)</a:t>
            </a:r>
            <a:br>
              <a:rPr sz="6500"/>
            </a:b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x = input()</a:t>
            </a:r>
            <a:endParaRPr b="0" lang="en-US" sz="6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1" name="Text Box 2"/>
          <p:cNvSpPr/>
          <p:nvPr/>
        </p:nvSpPr>
        <p:spPr>
          <a:xfrm>
            <a:off x="3693960" y="7099920"/>
            <a:ext cx="3800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unction’s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3616200" y="7607880"/>
            <a:ext cx="5027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llowed by parenthes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3617640" y="8115840"/>
            <a:ext cx="6193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OMETIME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ith one or more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3689280" y="8623800"/>
            <a:ext cx="4688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OMETIME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roducing a resul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950760" y="7113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Calling/Invoking a Function in Pytho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759120" y="3975120"/>
            <a:ext cx="556272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Notebook examp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arning Objectiv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4093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How to call functio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nput/outpu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erminology: call / invoke, parameter, argument, keyword argument, return val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ontrol flo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093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unction usage examp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nput(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rint(), along with keyword arguments “end” and “sep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ype cast functions: int(), bool(), float(), str(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Using functions from built-in modu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ound(), abs(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keywords: import, from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ttribute operator: “.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elp: inspect a modul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1003320" y="3149640"/>
            <a:ext cx="9529920" cy="201780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6736680" y="4641480"/>
            <a:ext cx="3543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“</a:t>
            </a: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Move Code” is a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1257480" y="139716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1257480" y="228600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9159840" y="1399680"/>
            <a:ext cx="36910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today we’ll learn how to use functions in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1257480" y="139716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1257480" y="228600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9159840" y="1399680"/>
            <a:ext cx="36910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today we’ll learn how to use functions in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AutoShape 7"/>
          <p:cNvSpPr/>
          <p:nvPr/>
        </p:nvSpPr>
        <p:spPr>
          <a:xfrm>
            <a:off x="3687840" y="488880"/>
            <a:ext cx="573120" cy="582840"/>
          </a:xfrm>
          <a:custGeom>
            <a:avLst/>
            <a:gdLst/>
            <a:ahLst/>
            <a:rect l="l" t="t" r="r" b="b"/>
            <a:pathLst>
              <a:path w="21600" h="21382">
                <a:moveTo>
                  <a:pt x="0" y="21382"/>
                </a:moveTo>
                <a:cubicBezTo>
                  <a:pt x="138" y="6908"/>
                  <a:pt x="7338" y="-218"/>
                  <a:pt x="21600" y="5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4321080" y="-15120"/>
            <a:ext cx="64072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e’ll learn about how to give functions input by passing arguments (e.g., 2) to parameters (e.g., moves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1257480" y="139716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1257480" y="228600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9159840" y="1399680"/>
            <a:ext cx="36910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today we’ll learn how to use functions in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AutoShape 7"/>
          <p:cNvSpPr/>
          <p:nvPr/>
        </p:nvSpPr>
        <p:spPr>
          <a:xfrm>
            <a:off x="3687840" y="488880"/>
            <a:ext cx="573120" cy="582840"/>
          </a:xfrm>
          <a:custGeom>
            <a:avLst/>
            <a:gdLst/>
            <a:ahLst/>
            <a:rect l="l" t="t" r="r" b="b"/>
            <a:pathLst>
              <a:path w="21600" h="21382">
                <a:moveTo>
                  <a:pt x="0" y="21382"/>
                </a:moveTo>
                <a:cubicBezTo>
                  <a:pt x="138" y="6908"/>
                  <a:pt x="7338" y="-218"/>
                  <a:pt x="21600" y="5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7318440" y="2842920"/>
            <a:ext cx="5591160" cy="7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000" spc="-1" strike="noStrike">
                <a:solidFill>
                  <a:srgbClr val="ee220c"/>
                </a:solidFill>
                <a:latin typeface="Gill Sans"/>
              </a:rPr>
              <a:t>we’ll also learn how to ask functions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000" spc="-1" strike="noStrike">
                <a:solidFill>
                  <a:srgbClr val="ee220c"/>
                </a:solidFill>
                <a:latin typeface="Gill Sans"/>
              </a:rPr>
              <a:t>questions and get answers called return values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Text Box 9"/>
          <p:cNvSpPr/>
          <p:nvPr/>
        </p:nvSpPr>
        <p:spPr>
          <a:xfrm>
            <a:off x="4321080" y="-15120"/>
            <a:ext cx="64072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e’ll learn about how to give functions input by passing arguments (e.g., 2) to parameters (e.g., moves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1257480" y="139716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Rectangle 5"/>
          <p:cNvSpPr/>
          <p:nvPr/>
        </p:nvSpPr>
        <p:spPr>
          <a:xfrm>
            <a:off x="1257480" y="228600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9159840" y="1399680"/>
            <a:ext cx="36910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today we’ll learn how to use functions in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AutoShape 7"/>
          <p:cNvSpPr/>
          <p:nvPr/>
        </p:nvSpPr>
        <p:spPr>
          <a:xfrm>
            <a:off x="3687840" y="488880"/>
            <a:ext cx="573120" cy="582840"/>
          </a:xfrm>
          <a:custGeom>
            <a:avLst/>
            <a:gdLst/>
            <a:ahLst/>
            <a:rect l="l" t="t" r="r" b="b"/>
            <a:pathLst>
              <a:path w="21600" h="21382">
                <a:moveTo>
                  <a:pt x="0" y="21382"/>
                </a:moveTo>
                <a:cubicBezTo>
                  <a:pt x="138" y="6908"/>
                  <a:pt x="7338" y="-218"/>
                  <a:pt x="21600" y="5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Text Box 8"/>
          <p:cNvSpPr/>
          <p:nvPr/>
        </p:nvSpPr>
        <p:spPr>
          <a:xfrm>
            <a:off x="7318440" y="2842920"/>
            <a:ext cx="5591160" cy="7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000" spc="-1" strike="noStrike">
                <a:solidFill>
                  <a:srgbClr val="ee220c"/>
                </a:solidFill>
                <a:latin typeface="Gill Sans"/>
              </a:rPr>
              <a:t>we’ll also learn how to ask functions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000" spc="-1" strike="noStrike">
                <a:solidFill>
                  <a:srgbClr val="ee220c"/>
                </a:solidFill>
                <a:latin typeface="Gill Sans"/>
              </a:rPr>
              <a:t>questions and get answers called return values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Rectangle 9"/>
          <p:cNvSpPr/>
          <p:nvPr/>
        </p:nvSpPr>
        <p:spPr>
          <a:xfrm>
            <a:off x="1257480" y="3492360"/>
            <a:ext cx="9293040" cy="161928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Text Box 10"/>
          <p:cNvSpPr/>
          <p:nvPr/>
        </p:nvSpPr>
        <p:spPr>
          <a:xfrm>
            <a:off x="1577880" y="5323680"/>
            <a:ext cx="45608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next lecture, we’ll learn how to write our own new function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Text Box 11"/>
          <p:cNvSpPr/>
          <p:nvPr/>
        </p:nvSpPr>
        <p:spPr>
          <a:xfrm>
            <a:off x="4321080" y="-15120"/>
            <a:ext cx="64072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e’ll learn about how to give functions input by passing arguments (e.g., 2) to parameters (e.g., moves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0"/>
          <p:cNvSpPr/>
          <p:nvPr/>
        </p:nvSpPr>
        <p:spPr>
          <a:xfrm>
            <a:off x="952560" y="2438280"/>
            <a:ext cx="10807560" cy="39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 marL="542880" indent="-380880">
              <a:buClr>
                <a:srgbClr val="ff93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ff9300"/>
                </a:solidFill>
                <a:latin typeface="Gill Sans"/>
              </a:rPr>
              <a:t>function definition: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 grouping of lines of code; a way for us to tell our program to run that entire group of cod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2880" indent="-380880">
              <a:buClr>
                <a:srgbClr val="ff93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ff9300"/>
                </a:solidFill>
                <a:latin typeface="Gill Sans"/>
              </a:rPr>
              <a:t>call / invoke: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 statement in Python code that instructs the program to run all the lines of code in a function definition, and then come back afterward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2880" indent="-380880">
              <a:buClr>
                <a:srgbClr val="ff93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ff9300"/>
                </a:solidFill>
                <a:latin typeface="Gill Sans"/>
              </a:rPr>
              <a:t>parameter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: variable that receives input to function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2880" indent="-380880">
              <a:buClr>
                <a:srgbClr val="ff93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ff9300"/>
                </a:solidFill>
                <a:latin typeface="Gill Sans"/>
              </a:rPr>
              <a:t>argumen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: value sent to a function (lines up with paramete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2880" indent="-380880">
              <a:buClr>
                <a:srgbClr val="ff93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ff9300"/>
                </a:solidFill>
                <a:latin typeface="Gill Sans"/>
              </a:rPr>
              <a:t>keyword argumen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: argument explicitly tied to a paramet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2880" indent="-380880">
              <a:buClr>
                <a:srgbClr val="ff93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ff9300"/>
                </a:solidFill>
                <a:latin typeface="Gill Sans"/>
              </a:rPr>
              <a:t>return value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: function output sent back to calling cod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87120" y="914040"/>
            <a:ext cx="11099880" cy="9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erminology / Vocabular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9" name="Text Box 10"/>
          <p:cNvSpPr/>
          <p:nvPr/>
        </p:nvSpPr>
        <p:spPr>
          <a:xfrm>
            <a:off x="3911760" y="7686000"/>
            <a:ext cx="45608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next lecture, we’ll learn how to write our own new function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2-12-23T08:04:31Z</dcterms:modified>
  <cp:revision>31</cp:revision>
  <dc:subject/>
  <dc:title>[301] Using Functions</dc:title>
</cp:coreProperties>
</file>