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5D01-8BA4-479F-8B82-FCB9D96A9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85C7-7985-43B8-98EB-80EC34451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BEAC-8ACD-4C18-8738-3966F6A45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324A-0B8B-4A70-AB51-E5253A9EA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077B-3772-4027-AFA8-B649841D0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A34E-F9B1-4E6B-9241-CD6BA28D8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9191-63BD-49D7-9CA5-444C3D473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9B72-E257-4507-9845-230B15A2D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C449-898B-447F-A6B6-BF2104CAD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B500-2154-4779-9D3E-F24107762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86F9-E7E4-46C3-8F97-DCA45E0AE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13C1-DD19-4A3B-9252-C4C49DF9B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0CB422-A84A-44C7-A9CF-7670AAC193C7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68264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33638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739880" y="8375400"/>
            <a:ext cx="1019988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101998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11T20:36:21Z</dcterms:modified>
  <cp:revision>27</cp:revision>
  <dc:subject/>
  <dc:title>[220] Iteration 2</dc:title>
</cp:coreProperties>
</file>