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FB3A2-87F0-44C0-9C32-4C9454ADC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2EF40-75AB-4409-8B6E-E3581B59F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1EB5B-430C-4FAE-89E0-29558CF74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6930B-6215-48A8-8E88-A88FF45851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3A995-07F7-4F96-86E0-BE0028B1BC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3D7FC-87FE-45F0-B845-333BC31EA0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66A8A-A4C5-478B-A362-2E549BB19D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19F3E-540B-49A6-B83F-7640038D7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08880-E7A6-4302-8B49-F48363F34D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CA33F-DD5B-48EA-B5B6-1B60287E38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4BDEF-6482-44E3-8C35-76D754620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128A5-B77E-4BCD-8107-86C487F63D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3B54B1D-9AA4-47C4-8E72-B9945462753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1" TargetMode="External"/><Relationship Id="rId2" Type="http://schemas.openxmlformats.org/officeDocument/2006/relationships/hyperlink" Target="https://www.python.org/dev/peps/pep-0008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27340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Variable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and Express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3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80640" y="8244720"/>
            <a:ext cx="1481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Oval 137"/>
          <p:cNvSpPr/>
          <p:nvPr/>
        </p:nvSpPr>
        <p:spPr>
          <a:xfrm>
            <a:off x="9524880" y="3143160"/>
            <a:ext cx="435240" cy="4352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138"/>
          <p:cNvSpPr/>
          <p:nvPr/>
        </p:nvSpPr>
        <p:spPr>
          <a:xfrm>
            <a:off x="9334440" y="3816360"/>
            <a:ext cx="434880" cy="434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Oval 139"/>
          <p:cNvSpPr/>
          <p:nvPr/>
        </p:nvSpPr>
        <p:spPr>
          <a:xfrm>
            <a:off x="9516960" y="4586400"/>
            <a:ext cx="298440" cy="299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11048040" y="3769920"/>
            <a:ext cx="1778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0 - -2 // 3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37"/>
          <p:cNvSpPr/>
          <p:nvPr/>
        </p:nvSpPr>
        <p:spPr>
          <a:xfrm>
            <a:off x="1018440" y="8421120"/>
            <a:ext cx="7054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+1==2 or 3 ** 10000000 &gt; 2 ** 2000000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Oval 138"/>
          <p:cNvSpPr/>
          <p:nvPr/>
        </p:nvSpPr>
        <p:spPr>
          <a:xfrm>
            <a:off x="6108840" y="5632560"/>
            <a:ext cx="1628640" cy="24098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8644320" y="8111520"/>
            <a:ext cx="2648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logical operato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"short circuit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8105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24280" y="7728480"/>
            <a:ext cx="895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of these operands is an example of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a fixed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119844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46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 expressions by identifying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ors and oper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teral values and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order of 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rrect Boolean expres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aining Boolean operators “or” and “and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ssignment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 variables following proper naming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e, give examples of, and identify 3 kinds of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, runtime, and seman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de to perform computations wi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ing, and bool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849120" y="8692920"/>
            <a:ext cx="5305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put a value in a variabl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-6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168880" y="16923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55760" y="5126040"/>
            <a:ext cx="1176480" cy="48564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838080" y="6070680"/>
            <a:ext cx="3052800" cy="62208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680120" y="6813360"/>
            <a:ext cx="1367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79520" y="330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04180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2" name="Oval 2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64840" y="1760040"/>
            <a:ext cx="6556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dog cat the of chase an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word soup, not grammatically sensible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09320" y="4008240"/>
            <a:ext cx="8856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this sentence is fals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but my head explodes if I think about i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01920" y="6129000"/>
            <a:ext cx="6243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one week is 10 days long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coherent, but incorrec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803240" y="1041480"/>
            <a:ext cx="11074680" cy="72770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492640" y="4003200"/>
            <a:ext cx="9694440" cy="83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Gill Sans"/>
              </a:rPr>
              <a:t>what kind of error is the worst?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2400480" y="5286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in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80800" y="3200400"/>
            <a:ext cx="2845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s = 1234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38320" y="5855760"/>
            <a:ext cx="595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 out hours, minutes, and seconds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floa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22960" y="2457360"/>
            <a:ext cx="55566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mpound growth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start with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year it grows by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7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wait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30 yea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much do you have at the en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11440" y="5501880"/>
            <a:ext cx="206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0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7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2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string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08480" y="2156400"/>
            <a:ext cx="5136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isually compare two score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ice has 10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b has 8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6320" y="4173120"/>
            <a:ext cx="247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sired 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42560" y="487908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bob: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389000" y="675864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b:  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41840" y="5818320"/>
            <a:ext cx="2468520" cy="14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7251" y="20894"/>
                  <a:pt x="51" y="1369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678120" y="6941880"/>
            <a:ext cx="1748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 bet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bool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831040" y="2262600"/>
            <a:ext cx="6922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ounds check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the value between 0 and 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440" y="4847400"/>
            <a:ext cx="412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05000" y="4847400"/>
            <a:ext cx="4308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391520" y="2900520"/>
            <a:ext cx="174924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3708360" y="2900520"/>
            <a:ext cx="174960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760200" y="3552480"/>
            <a:ext cx="631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478360" y="3552480"/>
            <a:ext cx="59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4051440" y="62643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hat Variable Names are Allowed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1800" y="1628640"/>
            <a:ext cx="11099880" cy="450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st_scor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ba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goo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not a recommende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_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recommende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rrent rules are quite complex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ease don’t use camel case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s://www.python.org/dev/peps/pep-0008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9300"/>
                </a:solidFill>
                <a:latin typeface="Gill Sans"/>
              </a:rPr>
              <a:t>Python 3 has become friendlier to non-English programm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840040" y="8583480"/>
            <a:ext cx="268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0"/>
                <a:tab algn="l" pos="25560"/>
                <a:tab algn="l" pos="38160"/>
                <a:tab algn="l" pos="50760"/>
                <a:tab algn="l" pos="63360"/>
                <a:tab algn="l" pos="76320"/>
                <a:tab algn="l" pos="88920"/>
                <a:tab algn="l" pos="101520"/>
                <a:tab algn="l" pos="114480"/>
                <a:tab algn="l" pos="127080"/>
                <a:tab algn="l" pos="139680"/>
                <a:tab algn="l" pos="152280"/>
                <a:tab algn="l" pos="165240"/>
                <a:tab algn="l" pos="177840"/>
                <a:tab algn="l" pos="190440"/>
                <a:tab algn="l" pos="203040"/>
                <a:tab algn="l" pos="216000"/>
                <a:tab algn="l" pos="228600"/>
                <a:tab algn="l" pos="241200"/>
                <a:tab algn="l" pos="254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quero_café =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038360" y="8400240"/>
            <a:ext cx="2831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this is allowed, 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ifferent than "e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277" name="Straight Arrow Connector 2"/>
          <p:cNvCxnSpPr>
            <a:stCxn id="276" idx="1"/>
            <a:endCxn id="275" idx="3"/>
          </p:cNvCxnSpPr>
          <p:nvPr/>
        </p:nvCxnSpPr>
        <p:spPr>
          <a:xfrm flipH="1">
            <a:off x="5797080" y="8816760"/>
            <a:ext cx="14104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9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058760" y="7779600"/>
            <a:ext cx="1088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220, you may use only variables containing English alphabe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775560" y="8750160"/>
            <a:ext cx="332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rules are violate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0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keyword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3" name="Oval 4"/>
          <p:cNvSpPr/>
          <p:nvPr/>
        </p:nvSpPr>
        <p:spPr>
          <a:xfrm>
            <a:off x="291960" y="1746360"/>
            <a:ext cx="127008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1405080" y="211680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3351960" y="5811120"/>
            <a:ext cx="11203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8972280" y="58089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1333440" y="3463200"/>
            <a:ext cx="8296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How to figure out if something is a Python keyword?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184760" y="4199040"/>
            <a:ext cx="116845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ython keywords turn green in color 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used as a variable, that keyword will no longer work as intended!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9" name="Picture 1" descr=""/>
          <p:cNvPicPr/>
          <p:nvPr/>
        </p:nvPicPr>
        <p:blipFill>
          <a:blip r:embed="rId1"/>
          <a:stretch/>
        </p:blipFill>
        <p:spPr>
          <a:xfrm>
            <a:off x="7074000" y="6227640"/>
            <a:ext cx="3346200" cy="182736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7"/>
          <p:cNvSpPr/>
          <p:nvPr/>
        </p:nvSpPr>
        <p:spPr>
          <a:xfrm>
            <a:off x="1221840" y="8841600"/>
            <a:ext cx="9389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Pay attention to green colorization with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2"/>
          <a:stretch/>
        </p:blipFill>
        <p:spPr>
          <a:xfrm>
            <a:off x="1206360" y="6327720"/>
            <a:ext cx="47278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AutoShape 3"/>
          <p:cNvSpPr/>
          <p:nvPr/>
        </p:nvSpPr>
        <p:spPr>
          <a:xfrm>
            <a:off x="2279520" y="7267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Sphere Volum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809640" y="8804880"/>
            <a:ext cx="1138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www.google.com/search?q=sphere%20calc%3A%20find%20V&amp;oq=area+of+a+sphere&amp;aqs=chrome.0.0l6.2671j0j7&amp;sourceid=chrome&amp;ie=UTF-8&amp;skip=s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425520" y="1625760"/>
            <a:ext cx="6769080" cy="62611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"/>
          <p:cNvPicPr/>
          <p:nvPr/>
        </p:nvPicPr>
        <p:blipFill>
          <a:blip r:embed="rId2"/>
          <a:stretch/>
        </p:blipFill>
        <p:spPr>
          <a:xfrm>
            <a:off x="8242200" y="2781360"/>
            <a:ext cx="3479760" cy="222228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5"/>
          <p:cNvSpPr/>
          <p:nvPr/>
        </p:nvSpPr>
        <p:spPr>
          <a:xfrm>
            <a:off x="7199280" y="6337440"/>
            <a:ext cx="556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xtension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ind radius given a volu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Character Art - Block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Quadratic Formula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0" name="Text Box 2"/>
          <p:cNvSpPr/>
          <p:nvPr/>
        </p:nvSpPr>
        <p:spPr>
          <a:xfrm>
            <a:off x="4722480" y="8804880"/>
            <a:ext cx="355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en.wikipedia.org/wiki/Quadratic_formula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2317680" y="5181480"/>
            <a:ext cx="8369280" cy="3035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"/>
          <p:cNvPicPr/>
          <p:nvPr/>
        </p:nvPicPr>
        <p:blipFill>
          <a:blip r:embed="rId2"/>
          <a:stretch/>
        </p:blipFill>
        <p:spPr>
          <a:xfrm>
            <a:off x="3137040" y="1708200"/>
            <a:ext cx="6730920" cy="144792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5"/>
          <p:cNvSpPr/>
          <p:nvPr/>
        </p:nvSpPr>
        <p:spPr>
          <a:xfrm>
            <a:off x="3639600" y="4086000"/>
            <a:ext cx="5724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900" spc="-1" strike="noStrike">
                <a:solidFill>
                  <a:srgbClr val="ee220c"/>
                </a:solidFill>
                <a:latin typeface="Gill Sans"/>
              </a:rPr>
              <a:t>what values of x satisfy the above?</a:t>
            </a:r>
            <a:endParaRPr b="1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*: Checke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509400" y="9029880"/>
            <a:ext cx="1006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* Challenge =  beyond what you would be asked to do on an exa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Bord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1192680" y="186624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Snak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0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Ashwin Maran</cp:lastModifiedBy>
  <dcterms:modified xsi:type="dcterms:W3CDTF">2024-01-28T17:43:54Z</dcterms:modified>
  <cp:revision>42</cp:revision>
  <dc:subject/>
  <dc:title>[301] Variables and Expressions</dc:title>
</cp:coreProperties>
</file>