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D107-00F0-4943-B8CB-47C5EDF2A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8611-FBD3-4077-99FB-DE25CC817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FCA7-FC6E-48C1-9860-C8B904A12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F500-C727-4D97-9013-6E472D5FD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A4E5-48E3-4A49-A0F6-8E8ABD488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4810-7D0D-4627-B1C6-451F1ABF8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4CE5-757A-425B-A239-07F32E301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60A7-2A09-4447-A4EB-EA55475D6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EC6A-B143-430C-8978-78A27C4D9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533E-DA74-4780-B16E-61E71A4E9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B482-CCBF-4EFA-944C-254EE9459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E75D-27A5-44D3-A81F-1BEFF1728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A6514B-ADD7-4197-BD81-086CC686DC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5:05Z</dcterms:modified>
  <cp:revision>32</cp:revision>
  <dc:subject/>
  <dc:title>[301] Using Functions</dc:title>
</cp:coreProperties>
</file>