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C583-63EC-42D4-9B4F-A97B48B12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E72D-151E-4086-B3C3-F2D7812BF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76D8-BB27-4A7E-86BF-B130789CF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97D3-4921-4443-8AFF-25EF82086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84F4-A0FB-450E-9947-1610FC2E7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A4F-5727-4363-A8CC-3A7AA24C7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A24E-B8AF-426A-A833-56B6A5ECB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184D-2269-44AA-99BA-7D3FD4549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EA2A-F221-4BC5-8147-879437512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14A9-5EF2-4E2F-BF0D-A295C9EE5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DF75-BC90-46F7-94CD-C9BD3DE57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E0A5-A466-4C32-AB3E-59C9CA44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BEEC60-87F2-4CC0-87FF-A7C7F47AF5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6BFACD-2B25-4431-9E59-2B23EAA45E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9CBFFC-3D3B-4985-BA6E-B20EB935E1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DBEF96-5935-4B97-B0F8-AEC7FF2AEE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C17120-8D9B-4741-9D57-61301A2328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C809CD-C55D-4EA8-822A-B0A7A800E3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C28C97-7324-41F3-B9DC-D337B47DD7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B64BD5-3623-4C86-8FD9-339F342EC2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2B5783-0617-4417-B656-DA7CE752C9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141949-031D-44D2-8536-B98BAA21DC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4799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1C1085-5260-419E-8295-F6FFC5C557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685287-EB84-4C4A-83AE-618B22AF4C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E35D58-F374-4C47-AC4F-9C98AD2B4A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99E10F-77C7-4CAB-9852-720799F566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16773D-5659-47D4-A403-AC13711593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4CF55B-0441-433B-A525-511075CA90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751360" y="441972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5FD390-9921-49A6-A2F2-0CE11C20F4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4A84FE-6A4E-447A-9692-41A8826C3D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A7B073-9EE3-4959-96D2-B289DF0D85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5179EA-5D6D-439F-B30E-EFC83C3659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19197F-5C32-47F7-99A3-F7074C4091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DA8958-879F-417C-A22C-D6AB308961B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BA3FC0-E73B-4F5A-ACF7-B1A77E340A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7AD385-FA52-4E22-94DA-5CBE916570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D9B149-942D-4EAC-9266-0B73D36CBC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D3C7E3-D096-4C8E-AE4F-C81FE12BEE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2D9DB1-8694-4B2D-BA37-F04ED0B0FD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2D29D0-8154-46A7-8441-64DA10B6CA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516160" y="53542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13724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D41350-7AFC-4438-A0ED-BBC92A70910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12F1DF-6080-4EBE-B39E-521B7BECAB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C8FF87-4103-4EF7-B14B-6A4BCAA0F2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D0FAB1-F55A-4565-B606-7EF5EF8AD9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8:14:17Z</dcterms:modified>
  <cp:revision>55</cp:revision>
  <dc:subject/>
  <dc:title>[220] Function Scope</dc:title>
</cp:coreProperties>
</file>