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9190-2969-4550-A8E3-E6C9E7E8D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8AD0-A66A-4995-8FE7-D99B9117A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97BE-9FCC-4196-A917-E651DFD21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9C58-B968-4FA3-B432-AB8B34BA3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5ABB-D7F1-4E28-B038-DAC87A59CC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09B2D-44B7-4648-AEAB-E6A98C66A8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99395-F16E-4A95-8F14-55994A13C6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EF0C1-3CC8-4A46-8046-62156F079E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24FC-658E-4918-965E-57404847F9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E1C0D-7ECF-4480-B12C-2A0EF6DF2E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6DFE0-0D4D-4011-8797-4E0B79F5A6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B1AB-9D9A-466F-8F68-7D61DA6D1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43D2-C7C2-4B94-8E6D-79B5B286D3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4790-9DA6-4607-922A-72FC90C81B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A605D-8930-4B11-8067-8B3827CEBB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A063-FC72-465B-AAFC-269D6B59B4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65A36-4A04-46A5-83F4-47F3CC3F64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13FC-183C-4434-8657-98CD5E4F3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D1D5-76AE-4BBE-9DD9-70AC4AA6D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4CD1-2177-4C11-B5AB-F22652854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A079-0DAF-42A4-BB8F-FC95E32D8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73BA-7578-44A1-80F7-BCCA4E37F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E778-C472-41D7-9D50-0265DDF6A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D67C-D843-439B-ABFF-70A6F4830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8A3CA8-42E6-4634-8745-D804DCEB1F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6A01F6-251D-4AFC-83D0-48F6D9140B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6400F5-7BE7-43AD-A035-E1AA7D4ABD7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A1C37C-C077-4E47-9BDF-5C2EC4629C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C6B9CB-19F0-434C-9311-07E16465361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05BEA9-289E-41F7-9F92-6CBCA5B4D6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7B492B-FC64-4AF5-A65B-D5E1F03033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3765FF-3DF9-4348-9A8D-4AAA63BDFF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2-11T20:32:30Z</dcterms:modified>
  <cp:revision>44</cp:revision>
  <dc:subject/>
  <dc:title>[220] Iteration</dc:title>
</cp:coreProperties>
</file>