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15B0-5ECD-47B7-AF3A-45A318347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844-504B-450D-BB36-0D3F7D03B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F4A2-8264-4701-8E32-0C35A9F45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CB81-ED22-42A6-B24F-C7A531A24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FF50-FD8C-418B-8F97-A55A3D2D6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B966-D458-4949-BEC4-6E0F287FD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29D8-692E-42CB-B194-930FCFD9F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CC8-ADB6-443B-B97F-B7AE4AB4F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C436-3D15-4514-AF2A-483201AE3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A797-081C-46D9-87AE-7D57040B0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5FB4-BF0D-4BEC-876B-EC24AC721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77A3-BA4E-4701-8EC5-CA7121863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2FB96E-ED02-43A2-9559-233133CDB4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6:36:14Z</dcterms:modified>
  <cp:revision>48</cp:revision>
  <dc:subject/>
  <dc:title>[301] Creating Functions</dc:title>
</cp:coreProperties>
</file>