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C237-7CA9-4A1E-920D-A856299C7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4CC6-1671-42C3-B977-65CCBD92A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D497-CE20-4F30-ABF2-BEE623191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6152-44C1-492A-A3E5-F2E0BB8EB9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D774-24D3-45D5-85B9-87B99F2E4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F0C5-F0AE-4C19-B08F-56D95C238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2C32-374E-48B2-9944-98A455A99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44B1-A3FA-4064-B357-EDCFB2B03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F399-4CF3-4C46-90D7-B11857093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010C-CE1B-4EA8-AFD0-81452EC09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91A7-06FC-4CDF-9F45-2A2451441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2C7E-F519-4682-8BDE-C893BCA1D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FBE9FA-12BB-4422-93F6-0715B65379D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09640" y="2310480"/>
            <a:ext cx="12330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11.7 | packaged by Anaconda, Inc. | (main, Dec 15 2023, 18:05:47) [MSC v.1916 64 bit (AMD64)] on win3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08640" y="5424480"/>
            <a:ext cx="6887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hello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76200" y="33386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38920" y="38570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6877080" y="585144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523280" y="5664600"/>
            <a:ext cx="3609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6297480" y="4681440"/>
            <a:ext cx="1149480" cy="7984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46960" y="4219920"/>
            <a:ext cx="22892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09640" y="2310480"/>
            <a:ext cx="12330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11.7 | packaged by Anaconda, Inc. | (main, Dec 15 2023, 18:05:47) [MSC v.1916 64 bit (AMD64)] on win3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76240" y="5424480"/>
            <a:ext cx="6887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</a:t>
            </a:r>
            <a:r>
              <a:rPr b="0" lang="en-US" sz="1800" spc="-1" strike="noStrike">
                <a:solidFill>
                  <a:srgbClr val="34b91a"/>
                </a:solidFill>
                <a:latin typeface="Menlo"/>
              </a:rPr>
              <a:t>hello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49240" y="7331040"/>
            <a:ext cx="7074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76200" y="33386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8920" y="38570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6877080" y="585144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523280" y="5664600"/>
            <a:ext cx="3609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668196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7237080" y="800496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6297480" y="4681440"/>
            <a:ext cx="1149480" cy="7984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7446960" y="4219920"/>
            <a:ext cx="22892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25480" indent="-2667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25480" indent="-2667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2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809640" y="2310480"/>
            <a:ext cx="12330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11.7 | packaged by Anaconda, Inc. | (main, Dec 15 2023, 18:05:47) [MSC v.1916 64 bit (AMD64)] on win3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376200" y="33386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38920" y="38570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hwin Maran</cp:lastModifiedBy>
  <dcterms:modified xsi:type="dcterms:W3CDTF">2024-01-28T17:31:30Z</dcterms:modified>
  <cp:revision>66</cp:revision>
  <dc:subject/>
  <dc:title>[220] Programming</dc:title>
</cp:coreProperties>
</file>