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8C725-B602-46B8-BF5D-F0869E5CD9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F3321-2317-42D1-BC39-2C88FD045B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4B7B7-7CBF-4C4B-BCB1-0DD84FE391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3189C-2DF7-4BC3-A239-448B78AD13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1D671-B657-4C16-9BBC-64BE3BA817E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B8999-9D04-4183-94D5-9B110CBA18F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600B2-B72B-48A7-8DA7-B3AA7763FBE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6A666-AFC4-4BA7-9D08-B8DC5557B22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CDC1A-7880-444E-99B9-493C5DA1474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8DF46-BA75-4578-9CF5-C0B8DD65FD8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12E5B-41A2-43F4-82B0-8C0E54E231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DBC8E-3B38-4DDA-9E4D-18A9B83375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11E7B-D30C-48A3-96FD-29D10AA8942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6D7AC-DD73-4F99-B717-0E3176AA962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2AEE8-6DD0-4143-88A9-5650F918657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9016A-80B2-401E-8440-B227A67AE7F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FDE37-F805-43D9-91F0-A654F61EEC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AF438-7C5E-407E-8469-D99B82C033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580F8-FA81-4CA4-94B7-9BB4449E09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AA1AC-C1AC-42F6-AAA7-4017F498BC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1E599-42DC-4ADC-A09A-B30954F675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E790A-7D13-4E52-9C45-4F3E69B863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B54C5-F970-4EE4-A49B-9B02208D01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8C3C9-373D-4B2F-AB74-7F02D098FA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BA4C44A-C55F-460D-BDE7-EB404051C47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90C593E-2148-4CC6-8AB8-D6087014857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9520" y="17463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Iteration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679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Department of Computer Sciences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University of Wisconsin-Madison 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-179640" y="801504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"/>
              </a:rPr>
              <a:t>Chapter 7 of Think Python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6.1 to 6.3 of Python for Everybody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8923320" y="8564400"/>
            <a:ext cx="48974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if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need a positive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2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6" name="Line 12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7" name="Line 13"/>
          <p:cNvSpPr/>
          <p:nvPr/>
        </p:nvSpPr>
        <p:spPr>
          <a:xfrm flipH="1">
            <a:off x="7481520" y="7153200"/>
            <a:ext cx="453960" cy="106380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8171640" y="7231680"/>
            <a:ext cx="40770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ouldn’t it be nice if w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could go back and giv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he user a second chance?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5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Line 13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7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8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1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2" name="Oval 12"/>
          <p:cNvSpPr/>
          <p:nvPr/>
        </p:nvSpPr>
        <p:spPr>
          <a:xfrm>
            <a:off x="6904080" y="3632040"/>
            <a:ext cx="3132000" cy="282600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8528040" y="2813400"/>
            <a:ext cx="3922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e call this cycle a “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5" name="Line 15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6088320" y="7455240"/>
            <a:ext cx="638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Each time through is called an “iteration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3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4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8" name="Oval 12"/>
          <p:cNvSpPr/>
          <p:nvPr/>
        </p:nvSpPr>
        <p:spPr>
          <a:xfrm>
            <a:off x="4935600" y="4003560"/>
            <a:ext cx="3132000" cy="141624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7418160" y="748872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2764800" y="395784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8867880" y="1809000"/>
            <a:ext cx="394956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We keep executing the loop body </a:t>
            </a: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hile</a:t>
            </a: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 the condition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is true, so this is called a “while” loop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2" name="Rectangle 17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Line 18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Oval 14"/>
          <p:cNvSpPr/>
          <p:nvPr/>
        </p:nvSpPr>
        <p:spPr>
          <a:xfrm>
            <a:off x="7373880" y="5952960"/>
            <a:ext cx="4462560" cy="141624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9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5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5898960" y="7232400"/>
            <a:ext cx="714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hat does this loop do? (note crossed out line)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8" name="Line 14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09" name="Rectangle 6" descr=""/>
          <p:cNvPicPr/>
          <p:nvPr/>
        </p:nvPicPr>
        <p:blipFill>
          <a:blip r:embed="rId1"/>
          <a:stretch/>
        </p:blipFill>
        <p:spPr>
          <a:xfrm>
            <a:off x="7626240" y="6211800"/>
            <a:ext cx="399276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2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5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6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6675480" y="7455240"/>
            <a:ext cx="579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runs forever!  called an “infinite 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1" name="Rectangle 1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2" name="Line 14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23" name="Rectangle 6" descr=""/>
          <p:cNvPicPr/>
          <p:nvPr/>
        </p:nvPicPr>
        <p:blipFill>
          <a:blip r:embed="rId1"/>
          <a:stretch/>
        </p:blipFill>
        <p:spPr>
          <a:xfrm>
            <a:off x="7626240" y="6211800"/>
            <a:ext cx="399276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6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9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8370720" y="1775520"/>
            <a:ext cx="46468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o avoid infinite loops, make sure something will/ca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eventually happen in the body to change the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Oval 14"/>
          <p:cNvSpPr/>
          <p:nvPr/>
        </p:nvSpPr>
        <p:spPr>
          <a:xfrm>
            <a:off x="6053040" y="4498920"/>
            <a:ext cx="897120" cy="42408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Rectangle 16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5" name="Line 17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9" name="Oval 13"/>
          <p:cNvSpPr/>
          <p:nvPr/>
        </p:nvSpPr>
        <p:spPr>
          <a:xfrm>
            <a:off x="7869240" y="6630840"/>
            <a:ext cx="358920" cy="42408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AutoShape 15"/>
          <p:cNvSpPr/>
          <p:nvPr/>
        </p:nvSpPr>
        <p:spPr>
          <a:xfrm>
            <a:off x="6113520" y="4973760"/>
            <a:ext cx="1728720" cy="1911240"/>
          </a:xfrm>
          <a:custGeom>
            <a:avLst/>
            <a:gdLst/>
            <a:ahLst/>
            <a:rect l="l" t="t" r="r" b="b"/>
            <a:pathLst>
              <a:path w="17899" h="21600">
                <a:moveTo>
                  <a:pt x="2638" y="0"/>
                </a:moveTo>
                <a:cubicBezTo>
                  <a:pt x="-3701" y="11408"/>
                  <a:pt x="1386" y="18608"/>
                  <a:pt x="17899" y="2160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3" name="AutoShape 3"/>
          <p:cNvSpPr/>
          <p:nvPr/>
        </p:nvSpPr>
        <p:spPr>
          <a:xfrm>
            <a:off x="5549760" y="22766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yntax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if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5390640" y="5715360"/>
            <a:ext cx="2222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Syntax for “if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yntax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137240" y="5715360"/>
            <a:ext cx="107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Syntax for “while loop” is just like for “if”, just replace “if” with “while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132200" y="6610320"/>
            <a:ext cx="8095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his example gives user an arbitrary number of tries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until they get it r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mplement an iterative algorithm using a while loop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rinting /counting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validating user inpu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erforming iterative calculatio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rinting grids / character ar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Trace iterative algorithms and determine their outpu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Recognize common while loop errors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infinite loops (when unintentional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off-by-one mistakes in the loop control variable increment / decremen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A1380BD-EA1E-4FF4-A7EF-21D2D913933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erminology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5198400" y="264348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4" name="Rectangle 1"/>
          <p:cNvSpPr/>
          <p:nvPr/>
        </p:nvSpPr>
        <p:spPr>
          <a:xfrm>
            <a:off x="2228760" y="2573280"/>
            <a:ext cx="1524240" cy="609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5" name="Connection Line"/>
          <p:cNvSpPr/>
          <p:nvPr/>
        </p:nvSpPr>
        <p:spPr>
          <a:xfrm flipV="1">
            <a:off x="4037040" y="2895480"/>
            <a:ext cx="1066680" cy="46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5840280" y="481032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7" name="Rectangle 13"/>
          <p:cNvSpPr/>
          <p:nvPr/>
        </p:nvSpPr>
        <p:spPr>
          <a:xfrm>
            <a:off x="1932120" y="3132000"/>
            <a:ext cx="8913600" cy="609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Connection Line"/>
          <p:cNvSpPr/>
          <p:nvPr/>
        </p:nvSpPr>
        <p:spPr>
          <a:xfrm>
            <a:off x="6283440" y="3781440"/>
            <a:ext cx="210960" cy="109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9" name="Oval 7"/>
          <p:cNvSpPr/>
          <p:nvPr/>
        </p:nvSpPr>
        <p:spPr>
          <a:xfrm>
            <a:off x="2387520" y="2646360"/>
            <a:ext cx="457200" cy="461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1380960" y="4065120"/>
            <a:ext cx="3264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trol variabl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1" name="Connection Line"/>
          <p:cNvSpPr/>
          <p:nvPr/>
        </p:nvSpPr>
        <p:spPr>
          <a:xfrm>
            <a:off x="2657520" y="3036960"/>
            <a:ext cx="212760" cy="109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# your code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6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7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8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8667000" y="57312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1524600" y="30801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589320" y="60901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52200" y="92088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teps to fol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74880" y="2895120"/>
            <a:ext cx="11593440" cy="593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24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Wh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enever you write a while loop, keep these in mind: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>
              <a:spcBef>
                <a:spcPts val="3501"/>
              </a:spcBef>
              <a:buClr>
                <a:srgbClr val="ff0000"/>
              </a:buClr>
              <a:buSzPct val="145000"/>
              <a:buFont typeface="Helvetica Neue"/>
              <a:buAutoNum type="arabicPeriod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Initialize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your loop condition variabl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>
              <a:spcBef>
                <a:spcPts val="3501"/>
              </a:spcBef>
              <a:buClr>
                <a:srgbClr val="000000"/>
              </a:buClr>
              <a:buSzPct val="145000"/>
              <a:buFont typeface="Helvetica Neue"/>
              <a:buAutoNum type="arabicPeriod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a)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Update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your loop condition variable in loop body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501480" indent="0">
              <a:spcBef>
                <a:spcPts val="3501"/>
              </a:spcBef>
              <a:buNone/>
              <a:tabLst>
                <a:tab algn="l" pos="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  <a:tab algn="l" pos="10301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b) Make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progress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towards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eventually turning your loop condition to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Fals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 indent="0">
              <a:spcBef>
                <a:spcPts val="3501"/>
              </a:spcBef>
              <a:buNone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grats!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52560" y="1587600"/>
            <a:ext cx="11593440" cy="593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You now understand the 4 key </a:t>
            </a:r>
            <a:r>
              <a:rPr b="1" lang="en-US" sz="2600" spc="-1" strike="noStrike">
                <a:solidFill>
                  <a:srgbClr val="000000"/>
                </a:solidFill>
                <a:latin typeface="Helvetica Neue"/>
              </a:rPr>
              <a:t>Flow of Execution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ideas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in the context of Python.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1. </a:t>
            </a:r>
            <a:r>
              <a:rPr b="1" lang="en-US" sz="2600" spc="-1" strike="noStrike">
                <a:solidFill>
                  <a:srgbClr val="000000"/>
                </a:solidFill>
                <a:latin typeface="Helvetica Neue"/>
              </a:rPr>
              <a:t>generally, proceed forward, one step at a tim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2. sometimes go run a “mini program” somewhere else before continuing to the next lin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This is a </a:t>
            </a: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function call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3. sometimes skip forward over some lines of cod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ee220c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Conditional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 or </a:t>
            </a: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while loop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, when the condition is false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4. sometimes go back to a previous line of cod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ee220c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while loop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.  When at the end of body, always go back to condition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6" name="AutoShape 3"/>
          <p:cNvSpPr/>
          <p:nvPr/>
        </p:nvSpPr>
        <p:spPr>
          <a:xfrm>
            <a:off x="666720" y="3659040"/>
            <a:ext cx="11669760" cy="478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75" y="0"/>
                </a:moveTo>
                <a:cubicBezTo>
                  <a:pt x="168" y="0"/>
                  <a:pt x="0" y="410"/>
                  <a:pt x="0" y="916"/>
                </a:cubicBezTo>
                <a:lnTo>
                  <a:pt x="0" y="17377"/>
                </a:lnTo>
                <a:cubicBezTo>
                  <a:pt x="0" y="17883"/>
                  <a:pt x="168" y="18293"/>
                  <a:pt x="375" y="18293"/>
                </a:cubicBezTo>
                <a:lnTo>
                  <a:pt x="10366" y="18293"/>
                </a:lnTo>
                <a:lnTo>
                  <a:pt x="11039" y="21600"/>
                </a:lnTo>
                <a:lnTo>
                  <a:pt x="11712" y="18293"/>
                </a:lnTo>
                <a:lnTo>
                  <a:pt x="21225" y="18293"/>
                </a:lnTo>
                <a:cubicBezTo>
                  <a:pt x="21432" y="18293"/>
                  <a:pt x="21600" y="17883"/>
                  <a:pt x="21600" y="17377"/>
                </a:cubicBezTo>
                <a:lnTo>
                  <a:pt x="21600" y="916"/>
                </a:lnTo>
                <a:cubicBezTo>
                  <a:pt x="21600" y="410"/>
                  <a:pt x="21432" y="0"/>
                  <a:pt x="21225" y="0"/>
                </a:cubicBezTo>
                <a:lnTo>
                  <a:pt x="375" y="0"/>
                </a:lnTo>
                <a:close/>
              </a:path>
            </a:pathLst>
          </a:cu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3269160" y="8534880"/>
            <a:ext cx="6960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three primary exceptions to the general case (1)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0" name="AutoShape 3"/>
          <p:cNvSpPr/>
          <p:nvPr/>
        </p:nvSpPr>
        <p:spPr>
          <a:xfrm>
            <a:off x="2844720" y="33526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Countdown Tim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92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00FC5D0-4C49-4BF6-A7E9-74356F0B86B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4086000" y="2247840"/>
            <a:ext cx="4674240" cy="26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Line 4"/>
          <p:cNvSpPr/>
          <p:nvPr/>
        </p:nvSpPr>
        <p:spPr>
          <a:xfrm>
            <a:off x="2809800" y="3289320"/>
            <a:ext cx="858960" cy="150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250560" y="3034080"/>
            <a:ext cx="25711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use </a:t>
            </a:r>
            <a:r>
              <a:rPr b="0" lang="en-US" sz="2000" spc="-1" strike="noStrike">
                <a:solidFill>
                  <a:srgbClr val="0076ba"/>
                </a:solidFill>
                <a:latin typeface="Courier New"/>
                <a:ea typeface="Courier New"/>
              </a:rPr>
              <a:t>time.sleep(1)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r item in range(5):…"/>
          <p:cNvSpPr/>
          <p:nvPr/>
        </p:nvSpPr>
        <p:spPr>
          <a:xfrm>
            <a:off x="990720" y="1720800"/>
            <a:ext cx="7493040" cy="73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for </a:t>
            </a:r>
            <a:r>
              <a:rPr b="1" lang="en-US" sz="3200" spc="-1" strike="noStrike">
                <a:solidFill>
                  <a:srgbClr val="ff0000"/>
                </a:solidFill>
                <a:latin typeface="Menlo"/>
                <a:ea typeface="Menlo"/>
              </a:rPr>
              <a:t>item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 in </a:t>
            </a:r>
            <a:r>
              <a:rPr b="1" lang="en-US" sz="3200" spc="-1" strike="noStrike">
                <a:solidFill>
                  <a:srgbClr val="ff0000"/>
                </a:solidFill>
                <a:latin typeface="Menlo"/>
                <a:ea typeface="Menlo"/>
              </a:rPr>
              <a:t>range(5)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print(item * 3)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for with rang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98" name="Output:…"/>
          <p:cNvSpPr/>
          <p:nvPr/>
        </p:nvSpPr>
        <p:spPr>
          <a:xfrm>
            <a:off x="9335160" y="1738440"/>
            <a:ext cx="128952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Output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9" name="Connection Line"/>
          <p:cNvSpPr/>
          <p:nvPr/>
        </p:nvSpPr>
        <p:spPr>
          <a:xfrm>
            <a:off x="5745240" y="3262320"/>
            <a:ext cx="1965240" cy="2492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0" name="using range(N) with a for loop will…"/>
          <p:cNvSpPr/>
          <p:nvPr/>
        </p:nvSpPr>
        <p:spPr>
          <a:xfrm>
            <a:off x="5581080" y="5851800"/>
            <a:ext cx="49456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using </a:t>
            </a:r>
            <a:r>
              <a:rPr b="0" lang="en-US" sz="2400" spc="-1" strike="noStrike">
                <a:solidFill>
                  <a:srgbClr val="ff0000"/>
                </a:solidFill>
                <a:latin typeface="Menlo"/>
                <a:ea typeface="Menlo"/>
              </a:rPr>
              <a:t>range(N)</a:t>
            </a: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 with a </a:t>
            </a:r>
            <a:r>
              <a:rPr b="0" lang="en-US" sz="2400" spc="-1" strike="noStrike">
                <a:solidFill>
                  <a:srgbClr val="ff0000"/>
                </a:solidFill>
                <a:latin typeface="Menlo"/>
                <a:ea typeface="Menlo"/>
              </a:rPr>
              <a:t>for</a:t>
            </a: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 loop will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iterate with these values for item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0, 1, 2, …, N-2, N-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Maximum (Finding the Peak)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2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4DF2E4E-368B-45B8-969A-77E508F954D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>
            <a:off x="2374920" y="1860480"/>
            <a:ext cx="8255160" cy="673092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4"/>
          <p:cNvSpPr/>
          <p:nvPr/>
        </p:nvSpPr>
        <p:spPr>
          <a:xfrm>
            <a:off x="4561560" y="6585480"/>
            <a:ext cx="388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Helvetica Neue"/>
              </a:rPr>
              <a:t>where does this curve peak?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Integration (Riemann Sum)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04CA1F3-F151-435A-8E0B-267FB9B2FD3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07" name="Picture 2" descr="Chart&#10;&#10;Description automatically generated"/>
          <p:cNvPicPr/>
          <p:nvPr/>
        </p:nvPicPr>
        <p:blipFill>
          <a:blip r:embed="rId1"/>
          <a:stretch/>
        </p:blipFill>
        <p:spPr>
          <a:xfrm>
            <a:off x="790560" y="1155600"/>
            <a:ext cx="11074320" cy="797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47880" y="649440"/>
            <a:ext cx="1109952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Prime Find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9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7F235C9-5CED-489D-B791-1C2ADAEE818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2808360" y="2934720"/>
            <a:ext cx="3174480" cy="49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Prime numbers: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2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3 is prime 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4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5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6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7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8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9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…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Checkers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12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4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5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7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Bord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19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1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2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4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Snak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26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4621680" y="2837880"/>
            <a:ext cx="3759840" cy="59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8" name="Line 4"/>
          <p:cNvSpPr/>
          <p:nvPr/>
        </p:nvSpPr>
        <p:spPr>
          <a:xfrm>
            <a:off x="4127400" y="876924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9" name="Line 5"/>
          <p:cNvSpPr/>
          <p:nvPr/>
        </p:nvSpPr>
        <p:spPr>
          <a:xfrm>
            <a:off x="8480520" y="2771640"/>
            <a:ext cx="0" cy="570708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5742720" y="89438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1" name="Text Box 7"/>
          <p:cNvSpPr/>
          <p:nvPr/>
        </p:nvSpPr>
        <p:spPr>
          <a:xfrm rot="16200000">
            <a:off x="8297640" y="609624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hallenge: Countdown Tim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3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DE162C7-B384-4067-BA72-0572816343B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4164480" y="2247840"/>
            <a:ext cx="467424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ood bye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2809800" y="3289320"/>
            <a:ext cx="858960" cy="150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250560" y="3034080"/>
            <a:ext cx="25711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use </a:t>
            </a:r>
            <a:r>
              <a:rPr b="0" lang="en-US" sz="2000" spc="-1" strike="noStrike">
                <a:solidFill>
                  <a:srgbClr val="0076ba"/>
                </a:solidFill>
                <a:latin typeface="Courier New"/>
                <a:ea typeface="Courier New"/>
              </a:rPr>
              <a:t>time.sleep(1)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8960400" y="7238160"/>
            <a:ext cx="1661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exit program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8" name="Line 7"/>
          <p:cNvSpPr/>
          <p:nvPr/>
        </p:nvSpPr>
        <p:spPr>
          <a:xfrm flipH="1" flipV="1">
            <a:off x="7808400" y="7008840"/>
            <a:ext cx="114804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3831480" y="8495280"/>
            <a:ext cx="5340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Helvetica Neue"/>
              </a:rPr>
              <a:t>this program should involve a nested loop!!!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2171880" y="7016760"/>
            <a:ext cx="2314440" cy="457200"/>
          </a:xfrm>
          <a:prstGeom prst="rect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283840" y="8034480"/>
            <a:ext cx="8435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Combination of conditionally skipping forward (2) with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going back is (5) is called a “while 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8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5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668160" y="7270920"/>
            <a:ext cx="1306800" cy="1299960"/>
          </a:xfrm>
          <a:custGeom>
            <a:avLst/>
            <a:gdLst/>
            <a:ahLst/>
            <a:rect l="l" t="t" r="r" b="b"/>
            <a:pathLst>
              <a:path w="16320" h="21600">
                <a:moveTo>
                  <a:pt x="16320" y="21600"/>
                </a:moveTo>
                <a:cubicBezTo>
                  <a:pt x="-3575" y="12517"/>
                  <a:pt x="-5280" y="5317"/>
                  <a:pt x="11206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1789560" y="8252640"/>
            <a:ext cx="10718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going back will be implicit in Python and will happen right after loop body.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you can identify the loop body because it will be indented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668160" y="7270920"/>
            <a:ext cx="1306800" cy="1299960"/>
          </a:xfrm>
          <a:custGeom>
            <a:avLst/>
            <a:gdLst/>
            <a:ahLst/>
            <a:rect l="l" t="t" r="r" b="b"/>
            <a:pathLst>
              <a:path w="16320" h="21600">
                <a:moveTo>
                  <a:pt x="16320" y="21600"/>
                </a:moveTo>
                <a:cubicBezTo>
                  <a:pt x="-3575" y="12517"/>
                  <a:pt x="-5280" y="5317"/>
                  <a:pt x="11206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1789560" y="8252640"/>
            <a:ext cx="10718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going back will be implicit in Python and will happen right after loop body.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you can identify the loop body because it will be indented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7" name="Text Box 10"/>
          <p:cNvSpPr/>
          <p:nvPr/>
        </p:nvSpPr>
        <p:spPr>
          <a:xfrm rot="20711400">
            <a:off x="6030000" y="4732200"/>
            <a:ext cx="2880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skip past 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8" name="Text Box 11"/>
          <p:cNvSpPr/>
          <p:nvPr/>
        </p:nvSpPr>
        <p:spPr>
          <a:xfrm rot="20711400">
            <a:off x="8872560" y="4657320"/>
            <a:ext cx="3243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continue to 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AutoShape 3"/>
          <p:cNvSpPr/>
          <p:nvPr/>
        </p:nvSpPr>
        <p:spPr>
          <a:xfrm>
            <a:off x="5423040" y="13111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if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need a positive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9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4" name="Line 13"/>
          <p:cNvSpPr/>
          <p:nvPr/>
        </p:nvSpPr>
        <p:spPr>
          <a:xfrm flipH="1">
            <a:off x="7481520" y="7153200"/>
            <a:ext cx="453960" cy="106380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1-24T01:21:58Z</dcterms:modified>
  <cp:revision>43</cp:revision>
  <dc:subject/>
  <dc:title>[220] Iteration</dc:title>
</cp:coreProperties>
</file>