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B2EA2-A5E7-43F6-9499-1C16092561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61DC4-47AA-4C08-B856-3942B54902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098C4-3FC8-4EAD-9D70-4DDCE35CC6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A8262-53D3-4F44-BFAA-162424725B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19CE8-C509-4E89-9AB0-632C4F4870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20F4D-860E-49C8-912C-E910D5F872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C562E-68C3-4793-9E04-7D6400211D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17F5A-721A-474F-A690-8593A9A961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C7778-6710-46BE-946D-5D9A1B02EB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65DE6-5A3E-4007-844E-091EE0BA6F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CE461-0D40-4E0E-9F23-4F2F4D0498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D80B4-A854-4E95-840E-959C9A8145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F95B748-1501-4331-B525-341A3A4F656C}" type="slidenum">
              <a:rPr b="0" lang="en-US" sz="1600" spc="-1" strike="noStrike">
                <a:solidFill>
                  <a:srgbClr val="000000"/>
                </a:solidFill>
                <a:latin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utomatetheboringstuff.com/chapter2/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6/" TargetMode="External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6/" TargetMode="External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1937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Iteration 2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Text Box 3"/>
          <p:cNvSpPr/>
          <p:nvPr/>
        </p:nvSpPr>
        <p:spPr>
          <a:xfrm>
            <a:off x="342720" y="7806960"/>
            <a:ext cx="65808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2 of Sweigart book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6.4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1495160" y="8000280"/>
            <a:ext cx="2012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679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AutoShape 5"/>
          <p:cNvSpPr/>
          <p:nvPr/>
        </p:nvSpPr>
        <p:spPr>
          <a:xfrm>
            <a:off x="2222640" y="488952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2197080" y="267984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2146320" y="336060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2311560" y="414972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2336760" y="488628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10269000" y="1743120"/>
            <a:ext cx="120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10269000" y="1743120"/>
            <a:ext cx="12024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3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AutoShape 10"/>
          <p:cNvSpPr/>
          <p:nvPr/>
        </p:nvSpPr>
        <p:spPr>
          <a:xfrm>
            <a:off x="2336760" y="272736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2322000" y="8225640"/>
            <a:ext cx="8359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2: knowing that certain code is written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nd again, look for common patterns to break it 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&lt;= 30</a:t>
            </a: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2680920" y="8409600"/>
            <a:ext cx="7641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oop will run with values of i of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 to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7234920" y="351360"/>
            <a:ext cx="52898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xperienced coders will focus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n everything about “i”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ecause that is in the loop condi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0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1089360" y="8409600"/>
            <a:ext cx="1082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ighlighted code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30 time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with i values of 1 through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089360" y="8409600"/>
            <a:ext cx="1082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ighlighted code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30 time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with i values of 1 through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10363680" y="200736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10363680" y="312480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0363680" y="4241880"/>
            <a:ext cx="17481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10364400" y="6096600"/>
            <a:ext cx="1931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Line 10"/>
          <p:cNvSpPr/>
          <p:nvPr/>
        </p:nvSpPr>
        <p:spPr>
          <a:xfrm flipV="1">
            <a:off x="7835760" y="2511360"/>
            <a:ext cx="2343240" cy="14623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Line 11"/>
          <p:cNvSpPr/>
          <p:nvPr/>
        </p:nvSpPr>
        <p:spPr>
          <a:xfrm flipV="1">
            <a:off x="7835760" y="3535200"/>
            <a:ext cx="2398680" cy="78120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Line 12"/>
          <p:cNvSpPr/>
          <p:nvPr/>
        </p:nvSpPr>
        <p:spPr>
          <a:xfrm>
            <a:off x="7835760" y="4662360"/>
            <a:ext cx="2390760" cy="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Line 13"/>
          <p:cNvSpPr/>
          <p:nvPr/>
        </p:nvSpPr>
        <p:spPr>
          <a:xfrm>
            <a:off x="7835760" y="5057640"/>
            <a:ext cx="2213280" cy="13255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ed loops trac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ing </a:t>
            </a:r>
            <a:r>
              <a:rPr b="0" lang="en-US" sz="3200" spc="-1" strike="noStrike">
                <a:solidFill>
                  <a:srgbClr val="ff9300"/>
                </a:solidFill>
                <a:latin typeface="Menlo"/>
              </a:rPr>
              <a:t>break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ff9300"/>
                </a:solidFill>
                <a:latin typeface="Menlo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trol flow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Use cas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ed loops trac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eraction with break/continu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7721640" y="1682640"/>
            <a:ext cx="4475160" cy="763560"/>
          </a:xfrm>
          <a:prstGeom prst="rect">
            <a:avLst/>
          </a:prstGeom>
          <a:solidFill>
            <a:srgbClr val="ebeb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Chapter 7 of Think Pyth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7721640" y="2879640"/>
            <a:ext cx="4475160" cy="1128960"/>
          </a:xfrm>
          <a:prstGeom prst="rect">
            <a:avLst/>
          </a:prstGeom>
          <a:solidFill>
            <a:srgbClr val="ebeb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Chapter 2 of Sweigar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(great recap so far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8642520" y="4672080"/>
            <a:ext cx="2631960" cy="34750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>
            <a:hlinkClick r:id="rId2"/>
          </p:cNvPr>
          <p:cNvSpPr/>
          <p:nvPr/>
        </p:nvSpPr>
        <p:spPr>
          <a:xfrm>
            <a:off x="5121720" y="8435520"/>
            <a:ext cx="7184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a2ff"/>
                </a:solidFill>
                <a:uFillTx/>
                <a:latin typeface="Gill Sans"/>
              </a:rPr>
              <a:t>http://automatetheboringstuff.com/chapter2/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3284280" y="8409600"/>
            <a:ext cx="6434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nclus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 code prints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2, 4, 6, …, 58, 6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10363680" y="200736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10363680" y="312480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10363680" y="4241880"/>
            <a:ext cx="17481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10364400" y="6096600"/>
            <a:ext cx="1931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Line 10"/>
          <p:cNvSpPr/>
          <p:nvPr/>
        </p:nvSpPr>
        <p:spPr>
          <a:xfrm flipV="1">
            <a:off x="7835760" y="2511360"/>
            <a:ext cx="2343240" cy="14623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Line 11"/>
          <p:cNvSpPr/>
          <p:nvPr/>
        </p:nvSpPr>
        <p:spPr>
          <a:xfrm flipV="1">
            <a:off x="7835760" y="3535200"/>
            <a:ext cx="2398680" cy="78120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Line 12"/>
          <p:cNvSpPr/>
          <p:nvPr/>
        </p:nvSpPr>
        <p:spPr>
          <a:xfrm>
            <a:off x="7835760" y="4662360"/>
            <a:ext cx="2390760" cy="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Line 13"/>
          <p:cNvSpPr/>
          <p:nvPr/>
        </p:nvSpPr>
        <p:spPr>
          <a:xfrm>
            <a:off x="7835760" y="5057640"/>
            <a:ext cx="2213280" cy="13255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14"/>
          <p:cNvSpPr/>
          <p:nvPr/>
        </p:nvSpPr>
        <p:spPr>
          <a:xfrm>
            <a:off x="744120" y="2001960"/>
            <a:ext cx="120240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5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5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6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2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3386880" y="5697360"/>
            <a:ext cx="339408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0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3719520" y="6943680"/>
            <a:ext cx="6549840" cy="878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4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3386880" y="5697360"/>
            <a:ext cx="339408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0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3719520" y="6943680"/>
            <a:ext cx="6549840" cy="878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630760" y="4641480"/>
            <a:ext cx="1742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, 2, 3, …, 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5495040" y="8592840"/>
            <a:ext cx="2013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0, 1, 2, …, N-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AutoShape 5"/>
          <p:cNvSpPr/>
          <p:nvPr/>
        </p:nvSpPr>
        <p:spPr>
          <a:xfrm>
            <a:off x="6448320" y="7688160"/>
            <a:ext cx="782640" cy="811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2053" y="7894"/>
                  <a:pt x="9253" y="694"/>
                  <a:pt x="2160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5804640" y="8515080"/>
            <a:ext cx="1144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dex 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6448320" y="8056440"/>
            <a:ext cx="782640" cy="811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2053" y="7894"/>
                  <a:pt x="9253" y="694"/>
                  <a:pt x="2160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5804640" y="8883360"/>
            <a:ext cx="1144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dex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4030200" y="1519200"/>
            <a:ext cx="851472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count_rows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op = </a:t>
            </a:r>
            <a:r>
              <a:rPr b="0" lang="en-US" sz="4800" spc="-1" strike="noStrike">
                <a:solidFill>
                  <a:srgbClr val="0076ba"/>
                </a:solidFill>
                <a:latin typeface="Courier New"/>
                <a:ea typeface="Gill Sans"/>
              </a:rPr>
              <a:t>get_population(i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4164120" y="3852720"/>
            <a:ext cx="6549840" cy="1360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76ba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6" name="Text Box 2"/>
          <p:cNvSpPr/>
          <p:nvPr/>
        </p:nvSpPr>
        <p:spPr>
          <a:xfrm>
            <a:off x="4030200" y="1519200"/>
            <a:ext cx="851472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count_rows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op = </a:t>
            </a:r>
            <a:r>
              <a:rPr b="0" lang="en-US" sz="4800" spc="-1" strike="noStrike">
                <a:solidFill>
                  <a:srgbClr val="0076ba"/>
                </a:solidFill>
                <a:latin typeface="Courier New"/>
                <a:ea typeface="Gill Sans"/>
              </a:rPr>
              <a:t>get_population(i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4164120" y="3852720"/>
            <a:ext cx="6549840" cy="1360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76ba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357480" y="4460400"/>
            <a:ext cx="27889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ff9300"/>
                </a:solidFill>
                <a:latin typeface="Gill Sans"/>
              </a:rPr>
              <a:t>assumes w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ff9300"/>
                </a:solidFill>
                <a:latin typeface="Gill Sans"/>
              </a:rPr>
              <a:t>use 0 for first row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AutoShape 6"/>
          <p:cNvSpPr/>
          <p:nvPr/>
        </p:nvSpPr>
        <p:spPr>
          <a:xfrm>
            <a:off x="1630440" y="2022480"/>
            <a:ext cx="1877760" cy="2403360"/>
          </a:xfrm>
          <a:custGeom>
            <a:avLst/>
            <a:gdLst/>
            <a:ahLst/>
            <a:rect l="l" t="t" r="r" b="b"/>
            <a:pathLst>
              <a:path w="21598" h="21600">
                <a:moveTo>
                  <a:pt x="0" y="21600"/>
                </a:moveTo>
                <a:cubicBezTo>
                  <a:pt x="-2" y="7436"/>
                  <a:pt x="7197" y="236"/>
                  <a:pt x="21598" y="0"/>
                </a:cubicBezTo>
              </a:path>
            </a:pathLst>
          </a:custGeom>
          <a:noFill/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AutoShape 7"/>
          <p:cNvSpPr/>
          <p:nvPr/>
        </p:nvSpPr>
        <p:spPr>
          <a:xfrm>
            <a:off x="2867040" y="5415120"/>
            <a:ext cx="4281480" cy="2166840"/>
          </a:xfrm>
          <a:custGeom>
            <a:avLst/>
            <a:gdLst/>
            <a:ahLst/>
            <a:rect l="l" t="t" r="r" b="b"/>
            <a:pathLst>
              <a:path w="21348" h="21600">
                <a:moveTo>
                  <a:pt x="7" y="0"/>
                </a:moveTo>
                <a:cubicBezTo>
                  <a:pt x="-252" y="5374"/>
                  <a:pt x="6862" y="12574"/>
                  <a:pt x="21348" y="21600"/>
                </a:cubicBezTo>
              </a:path>
            </a:pathLst>
          </a:custGeom>
          <a:noFill/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3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until the end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4067640" y="2421000"/>
            <a:ext cx="632016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has_more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data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get_next(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4151160" y="4127400"/>
            <a:ext cx="6550200" cy="99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2164320" y="6561720"/>
            <a:ext cx="86749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eople creating functions/modules for other programm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o use will often have functions for checking if there is mo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 and for getting the data one piece at a ti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roblem 1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roblem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  <p:sp>
        <p:nvSpPr>
          <p:cNvPr id="251" name="TextBox 1"/>
          <p:cNvSpPr/>
          <p:nvPr/>
        </p:nvSpPr>
        <p:spPr>
          <a:xfrm>
            <a:off x="8977680" y="1905120"/>
            <a:ext cx="1901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unt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  <p:sp>
        <p:nvSpPr>
          <p:cNvPr id="253" name="TextBox 1"/>
          <p:cNvSpPr/>
          <p:nvPr/>
        </p:nvSpPr>
        <p:spPr>
          <a:xfrm>
            <a:off x="8977680" y="1905120"/>
            <a:ext cx="1901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unt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Box 2"/>
          <p:cNvSpPr/>
          <p:nvPr/>
        </p:nvSpPr>
        <p:spPr>
          <a:xfrm>
            <a:off x="8973000" y="4940280"/>
            <a:ext cx="122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57" name="TextBox 1"/>
          <p:cNvSpPr/>
          <p:nvPr/>
        </p:nvSpPr>
        <p:spPr>
          <a:xfrm>
            <a:off x="7341120" y="2590920"/>
            <a:ext cx="354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59" name="TextBox 1"/>
          <p:cNvSpPr/>
          <p:nvPr/>
        </p:nvSpPr>
        <p:spPr>
          <a:xfrm>
            <a:off x="7366320" y="2590920"/>
            <a:ext cx="76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    j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AutoNum type="arabicPlain" startAt="3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61" name="TextBox 1"/>
          <p:cNvSpPr/>
          <p:nvPr/>
        </p:nvSpPr>
        <p:spPr>
          <a:xfrm>
            <a:off x="7366320" y="2590920"/>
            <a:ext cx="76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    j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AutoNum type="arabicPlain" startAt="3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TextBox 2"/>
          <p:cNvSpPr/>
          <p:nvPr/>
        </p:nvSpPr>
        <p:spPr>
          <a:xfrm>
            <a:off x="9783360" y="2406600"/>
            <a:ext cx="1280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AutoShape 3"/>
          <p:cNvSpPr/>
          <p:nvPr/>
        </p:nvSpPr>
        <p:spPr>
          <a:xfrm>
            <a:off x="800280" y="3530520"/>
            <a:ext cx="2809800" cy="70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88" y="0"/>
                </a:moveTo>
                <a:cubicBezTo>
                  <a:pt x="219" y="0"/>
                  <a:pt x="0" y="875"/>
                  <a:pt x="0" y="1955"/>
                </a:cubicBezTo>
                <a:lnTo>
                  <a:pt x="0" y="19645"/>
                </a:lnTo>
                <a:cubicBezTo>
                  <a:pt x="0" y="20725"/>
                  <a:pt x="219" y="21600"/>
                  <a:pt x="488" y="21600"/>
                </a:cubicBezTo>
                <a:lnTo>
                  <a:pt x="12638" y="21600"/>
                </a:lnTo>
                <a:cubicBezTo>
                  <a:pt x="12907" y="21600"/>
                  <a:pt x="13126" y="20725"/>
                  <a:pt x="13126" y="19645"/>
                </a:cubicBezTo>
                <a:lnTo>
                  <a:pt x="13126" y="15198"/>
                </a:lnTo>
                <a:lnTo>
                  <a:pt x="21600" y="11301"/>
                </a:lnTo>
                <a:lnTo>
                  <a:pt x="13126" y="7391"/>
                </a:lnTo>
                <a:lnTo>
                  <a:pt x="13126" y="1955"/>
                </a:lnTo>
                <a:cubicBezTo>
                  <a:pt x="13126" y="875"/>
                  <a:pt x="12907" y="0"/>
                  <a:pt x="12638" y="0"/>
                </a:cubicBezTo>
                <a:lnTo>
                  <a:pt x="488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3357000" y="3668040"/>
            <a:ext cx="3901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Don’t get too excited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nly the loops get a break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 (outside Programming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610000" y="2152800"/>
            <a:ext cx="7785000" cy="22986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5671800" y="4641480"/>
            <a:ext cx="1661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[wikipedia]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break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AutoShape 10"/>
          <p:cNvSpPr/>
          <p:nvPr/>
        </p:nvSpPr>
        <p:spPr>
          <a:xfrm>
            <a:off x="1087560" y="5481720"/>
            <a:ext cx="1431720" cy="1807920"/>
          </a:xfrm>
          <a:custGeom>
            <a:avLst/>
            <a:gdLst/>
            <a:ahLst/>
            <a:rect l="l" t="t" r="r" b="b"/>
            <a:pathLst>
              <a:path w="20509" h="21600">
                <a:moveTo>
                  <a:pt x="20509" y="0"/>
                </a:moveTo>
                <a:cubicBezTo>
                  <a:pt x="5698" y="11034"/>
                  <a:pt x="-1091" y="18234"/>
                  <a:pt x="142" y="21600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3208320" y="8294760"/>
            <a:ext cx="65869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Just like </a:t>
            </a: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exits a function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break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exits a loop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break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AutoShape 10"/>
          <p:cNvSpPr/>
          <p:nvPr/>
        </p:nvSpPr>
        <p:spPr>
          <a:xfrm>
            <a:off x="1087560" y="5481720"/>
            <a:ext cx="1431720" cy="1807920"/>
          </a:xfrm>
          <a:custGeom>
            <a:avLst/>
            <a:gdLst/>
            <a:ahLst/>
            <a:rect l="l" t="t" r="r" b="b"/>
            <a:pathLst>
              <a:path w="20509" h="21600">
                <a:moveTo>
                  <a:pt x="20509" y="0"/>
                </a:moveTo>
                <a:cubicBezTo>
                  <a:pt x="5698" y="11034"/>
                  <a:pt x="-1091" y="18234"/>
                  <a:pt x="142" y="21600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1975320" y="8375400"/>
            <a:ext cx="9052920" cy="772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Usage: </a:t>
            </a: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Commonly used when we’re searching through many things.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Allows us to stop as soon as we find what we want.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mo: Prime Search Program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Goal: answer whether a range of numbers contains a pr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In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art of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nd of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Out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Yes or n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4 to 16 =&gt; NO (because 14, 15, and 16 are all not prime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0 to 12 =&gt; YES (because 11 is prime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Line 3"/>
          <p:cNvSpPr/>
          <p:nvPr/>
        </p:nvSpPr>
        <p:spPr>
          <a:xfrm>
            <a:off x="5384880" y="4127400"/>
            <a:ext cx="56610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56793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63147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6"/>
          <p:cNvSpPr/>
          <p:nvPr/>
        </p:nvSpPr>
        <p:spPr>
          <a:xfrm>
            <a:off x="694908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758484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82191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9"/>
          <p:cNvSpPr/>
          <p:nvPr/>
        </p:nvSpPr>
        <p:spPr>
          <a:xfrm>
            <a:off x="885420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948924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1012500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7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1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3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Box 2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6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Box 2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Box 5"/>
          <p:cNvSpPr/>
          <p:nvPr/>
        </p:nvSpPr>
        <p:spPr>
          <a:xfrm>
            <a:off x="8404920" y="4929120"/>
            <a:ext cx="122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continu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AutoShape 10"/>
          <p:cNvSpPr/>
          <p:nvPr/>
        </p:nvSpPr>
        <p:spPr>
          <a:xfrm>
            <a:off x="4068720" y="2660760"/>
            <a:ext cx="1577880" cy="2763720"/>
          </a:xfrm>
          <a:custGeom>
            <a:avLst/>
            <a:gdLst/>
            <a:ahLst/>
            <a:rect l="l" t="t" r="r" b="b"/>
            <a:pathLst>
              <a:path w="16732" h="19226">
                <a:moveTo>
                  <a:pt x="0" y="19226"/>
                </a:moveTo>
                <a:cubicBezTo>
                  <a:pt x="18332" y="3761"/>
                  <a:pt x="21600" y="-2374"/>
                  <a:pt x="9805" y="821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11"/>
          <p:cNvSpPr/>
          <p:nvPr/>
        </p:nvSpPr>
        <p:spPr>
          <a:xfrm>
            <a:off x="1658520" y="8162640"/>
            <a:ext cx="96865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continu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stops current iteration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oes back to the condition, without executing the "more code part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tentially to start another iter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 (outside Programming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610000" y="2152800"/>
            <a:ext cx="7785000" cy="22986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5671800" y="4641480"/>
            <a:ext cx="1661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[wikipedia]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685800" y="4863600"/>
            <a:ext cx="4173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body familiar with this structure might skip arou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2354400" y="3205800"/>
            <a:ext cx="49680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1s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327760" y="3615480"/>
            <a:ext cx="55044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3rd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2299680" y="4034520"/>
            <a:ext cx="60660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2nd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3836880" y="7352640"/>
            <a:ext cx="5329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re are many similarities between reading/writing code and essay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AutoShape 10"/>
          <p:cNvSpPr/>
          <p:nvPr/>
        </p:nvSpPr>
        <p:spPr>
          <a:xfrm>
            <a:off x="4068720" y="2660760"/>
            <a:ext cx="1577880" cy="2763720"/>
          </a:xfrm>
          <a:custGeom>
            <a:avLst/>
            <a:gdLst/>
            <a:ahLst/>
            <a:rect l="l" t="t" r="r" b="b"/>
            <a:pathLst>
              <a:path w="16732" h="19226">
                <a:moveTo>
                  <a:pt x="0" y="19226"/>
                </a:moveTo>
                <a:cubicBezTo>
                  <a:pt x="18332" y="3761"/>
                  <a:pt x="21600" y="-2374"/>
                  <a:pt x="9805" y="821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Text Box 11"/>
          <p:cNvSpPr/>
          <p:nvPr/>
        </p:nvSpPr>
        <p:spPr>
          <a:xfrm>
            <a:off x="1739880" y="8544240"/>
            <a:ext cx="8329680" cy="437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Usage: </a:t>
            </a: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commonly used to skip over values we want to igno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mo: Average Scor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Goal: keep a running average of user-provided scor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In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q” for quit (keep running until thi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score in the 0 to 100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Out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compute average and print after each new numb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Exampl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br>
              <a:rPr sz="3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5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avg is 5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11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bad input, skipping!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q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xiting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Rectangle 3"/>
          <p:cNvSpPr/>
          <p:nvPr/>
        </p:nvSpPr>
        <p:spPr>
          <a:xfrm>
            <a:off x="6743880" y="6807240"/>
            <a:ext cx="4668480" cy="957240"/>
          </a:xfrm>
          <a:prstGeom prst="rect">
            <a:avLst/>
          </a:prstGeom>
          <a:solidFill>
            <a:srgbClr val="f8ba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Twist: use “continue” to skip over inputs not in the 0 to 100 rang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59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61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TextBox 7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64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Box 7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TextBox 9"/>
          <p:cNvSpPr/>
          <p:nvPr/>
        </p:nvSpPr>
        <p:spPr>
          <a:xfrm>
            <a:off x="8404920" y="4929120"/>
            <a:ext cx="1227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68" name="Text Box 2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3"/>
          <p:cNvSpPr/>
          <p:nvPr/>
        </p:nvSpPr>
        <p:spPr>
          <a:xfrm>
            <a:off x="8346240" y="3396960"/>
            <a:ext cx="388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how many blocks are ther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1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6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AutoShape 5"/>
          <p:cNvSpPr/>
          <p:nvPr/>
        </p:nvSpPr>
        <p:spPr>
          <a:xfrm>
            <a:off x="5643720" y="4816440"/>
            <a:ext cx="3162240" cy="1076400"/>
          </a:xfrm>
          <a:custGeom>
            <a:avLst/>
            <a:gdLst/>
            <a:ahLst/>
            <a:rect l="l" t="t" r="r" b="b"/>
            <a:pathLst>
              <a:path w="21600" h="20455">
                <a:moveTo>
                  <a:pt x="0" y="20298"/>
                </a:moveTo>
                <a:cubicBezTo>
                  <a:pt x="13941" y="21600"/>
                  <a:pt x="21141" y="14834"/>
                  <a:pt x="2160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8400600" y="3914280"/>
            <a:ext cx="23745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here does thi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jump back to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Text Box 7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3048480" y="6733440"/>
            <a:ext cx="6908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2286000" y="194328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3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8892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AutoShape 5"/>
          <p:cNvSpPr/>
          <p:nvPr/>
        </p:nvSpPr>
        <p:spPr>
          <a:xfrm>
            <a:off x="5605560" y="3638520"/>
            <a:ext cx="3255840" cy="224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lnTo>
                  <a:pt x="21600" y="21600"/>
                </a:lnTo>
                <a:lnTo>
                  <a:pt x="21600" y="0"/>
                </a:lnTo>
                <a:lnTo>
                  <a:pt x="10421" y="0"/>
                </a:ln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9148680" y="4120200"/>
            <a:ext cx="3011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ntinue and brea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lways apply to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ner loop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Text Box 8"/>
          <p:cNvSpPr/>
          <p:nvPr/>
        </p:nvSpPr>
        <p:spPr>
          <a:xfrm>
            <a:off x="6941520" y="8996400"/>
            <a:ext cx="62852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ts val="40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6/</a:t>
            </a:r>
            <a:endParaRPr b="1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91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8892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AutoShape 5"/>
          <p:cNvSpPr/>
          <p:nvPr/>
        </p:nvSpPr>
        <p:spPr>
          <a:xfrm>
            <a:off x="1212840" y="5819760"/>
            <a:ext cx="1943280" cy="1647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lnTo>
                  <a:pt x="0" y="0"/>
                </a:lnTo>
                <a:lnTo>
                  <a:pt x="0" y="21600"/>
                </a:lnTo>
                <a:lnTo>
                  <a:pt x="10292" y="21600"/>
                </a:ln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break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6941520" y="8996400"/>
            <a:ext cx="62852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ts val="40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6/</a:t>
            </a:r>
            <a:endParaRPr b="1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52200" y="4424040"/>
            <a:ext cx="11099880" cy="90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Worksheet Problem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AutoShape 5"/>
          <p:cNvSpPr/>
          <p:nvPr/>
        </p:nvSpPr>
        <p:spPr>
          <a:xfrm>
            <a:off x="2286000" y="266688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AutoShape 5"/>
          <p:cNvSpPr/>
          <p:nvPr/>
        </p:nvSpPr>
        <p:spPr>
          <a:xfrm>
            <a:off x="2349360" y="345456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2400480" y="424188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1-24T01:33:40Z</dcterms:modified>
  <cp:revision>26</cp:revision>
  <dc:subject/>
  <dc:title>[220] Iteration 2</dc:title>
</cp:coreProperties>
</file>