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F65B1-AA7D-48EE-AE60-29C3ACB7DA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FAE9-55A7-4CE5-859D-CFB08E28A1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58616-75DD-40E4-A348-96BAD206E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F9FAB-E097-44D3-8573-D05DBA4DF1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4890-62DF-4FA2-B1EC-F8D909D672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246FD-792B-4681-8E5F-9CECD5459E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01DAE-5722-4C11-81C1-E17B6E9FC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DBFBD-7D15-4743-96C8-919E0BA37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B5180-D496-489A-B59A-4FBBCD58EB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EFE2-03AA-4A6A-BD9C-84D97F035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2E350-73C9-44E8-9B6F-835E8E37D2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41B7-3E0E-4C6A-9C7B-9911262CD4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8A349E-89CD-42E5-BB58-1E1A59186243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0192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</a:t>
            </a:r>
            <a:r>
              <a:rPr b="0" lang="en-US" sz="8000" spc="-1" strike="noStrike">
                <a:solidFill>
                  <a:srgbClr val="000000"/>
                </a:solidFill>
                <a:latin typeface="Calibri"/>
                <a:ea typeface="Gill Sans"/>
              </a:rPr>
              <a:t>Creat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559280"/>
            <a:ext cx="7684200" cy="19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5 to 5.8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reating Fruitful Functions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6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450040" y="2290680"/>
            <a:ext cx="1382400" cy="86544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5450040" y="4211640"/>
            <a:ext cx="31492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1605600" y="6828840"/>
            <a:ext cx="97920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start a function definition with “def” (short for definition),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nd use a colon (“:”) instead of an equal sign (“=”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Oval 9"/>
          <p:cNvSpPr/>
          <p:nvPr/>
        </p:nvSpPr>
        <p:spPr>
          <a:xfrm>
            <a:off x="12826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6730920" y="2284560"/>
            <a:ext cx="71928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6415200" y="4935600"/>
            <a:ext cx="438948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3337920" y="6828840"/>
            <a:ext cx="63277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put the “return” keyword befo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the expression associated with the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Oval 9"/>
          <p:cNvSpPr/>
          <p:nvPr/>
        </p:nvSpPr>
        <p:spPr>
          <a:xfrm>
            <a:off x="282420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551560" y="4948200"/>
            <a:ext cx="100656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3211560" y="6982200"/>
            <a:ext cx="765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ndent (tab space) before the statement(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8"/>
          <p:cNvSpPr/>
          <p:nvPr/>
        </p:nvSpPr>
        <p:spPr>
          <a:xfrm>
            <a:off x="293364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550480" y="4276800"/>
            <a:ext cx="6937560" cy="12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def g(r):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900" spc="-1" strike="noStrike">
                <a:solidFill>
                  <a:srgbClr val="000000"/>
                </a:solidFill>
                <a:latin typeface="Courier New"/>
              </a:rPr>
              <a:t>return 3.14 * r ** 2</a:t>
            </a:r>
            <a:endParaRPr b="1" lang="en-US" sz="39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859920" y="7010280"/>
            <a:ext cx="5283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omputing the area from the radi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3263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550480" y="4276800"/>
            <a:ext cx="6929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radius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109880" y="7010280"/>
            <a:ext cx="1078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n Python, it’s common to have longer names for functions an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Oval 7"/>
          <p:cNvSpPr/>
          <p:nvPr/>
        </p:nvSpPr>
        <p:spPr>
          <a:xfrm>
            <a:off x="105408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5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5547600" y="2292120"/>
            <a:ext cx="230292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(r) = πr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550480" y="4276800"/>
            <a:ext cx="69296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ef get_area(diameter)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adius = diameter /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eturn 3.14 * radius ** 2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1715400" y="7010280"/>
            <a:ext cx="957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’s also common to have more than one line of code (all indented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Oval 7"/>
          <p:cNvSpPr/>
          <p:nvPr/>
        </p:nvSpPr>
        <p:spPr>
          <a:xfrm>
            <a:off x="1409760" y="6883560"/>
            <a:ext cx="723960" cy="723600"/>
          </a:xfrm>
          <a:prstGeom prst="ellipse">
            <a:avLst/>
          </a:pr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t’s implement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5354640" y="3375000"/>
            <a:ext cx="229392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cube(side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129480" y="4689720"/>
            <a:ext cx="674388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Menlo"/>
              </a:rPr>
              <a:t>is_between(lower, num, upper)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575960" y="6473160"/>
            <a:ext cx="4273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jupyter / PythonTutor demos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99, 100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???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Oval 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AutoShape 10"/>
          <p:cNvSpPr/>
          <p:nvPr/>
        </p:nvSpPr>
        <p:spPr>
          <a:xfrm>
            <a:off x="1212840" y="2851200"/>
            <a:ext cx="3962520" cy="1130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346" y="0"/>
                </a:moveTo>
                <a:cubicBezTo>
                  <a:pt x="155" y="0"/>
                  <a:pt x="0" y="543"/>
                  <a:pt x="0" y="1213"/>
                </a:cubicBezTo>
                <a:lnTo>
                  <a:pt x="0" y="20387"/>
                </a:lnTo>
                <a:cubicBezTo>
                  <a:pt x="0" y="21057"/>
                  <a:pt x="155" y="21600"/>
                  <a:pt x="346" y="21600"/>
                </a:cubicBezTo>
                <a:lnTo>
                  <a:pt x="8313" y="21600"/>
                </a:lnTo>
                <a:cubicBezTo>
                  <a:pt x="8504" y="21600"/>
                  <a:pt x="8659" y="21057"/>
                  <a:pt x="8659" y="20387"/>
                </a:cubicBezTo>
                <a:lnTo>
                  <a:pt x="8659" y="13606"/>
                </a:lnTo>
                <a:lnTo>
                  <a:pt x="21600" y="11179"/>
                </a:lnTo>
                <a:lnTo>
                  <a:pt x="8659" y="8752"/>
                </a:lnTo>
                <a:lnTo>
                  <a:pt x="8659" y="1213"/>
                </a:lnTo>
                <a:cubicBezTo>
                  <a:pt x="8659" y="543"/>
                  <a:pt x="8504" y="0"/>
                  <a:pt x="8313" y="0"/>
                </a:cubicBezTo>
                <a:lnTo>
                  <a:pt x="346" y="0"/>
                </a:lnTo>
                <a:close/>
              </a:path>
            </a:pathLst>
          </a:cu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274720" y="2817000"/>
            <a:ext cx="4739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not actual code, but imagin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arameters as variables that a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automatically initialized for you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5007240" y="1912680"/>
            <a:ext cx="2988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declar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13"/>
          <p:cNvSpPr/>
          <p:nvPr/>
        </p:nvSpPr>
        <p:spPr>
          <a:xfrm>
            <a:off x="5071320" y="4895640"/>
            <a:ext cx="2860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invoca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Line 14"/>
          <p:cNvSpPr/>
          <p:nvPr/>
        </p:nvSpPr>
        <p:spPr>
          <a:xfrm flipH="1">
            <a:off x="4130280" y="2195640"/>
            <a:ext cx="909720" cy="37620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Line 15"/>
          <p:cNvSpPr/>
          <p:nvPr/>
        </p:nvSpPr>
        <p:spPr>
          <a:xfrm flipH="1">
            <a:off x="3267000" y="5164200"/>
            <a:ext cx="1859040" cy="414360"/>
          </a:xfrm>
          <a:prstGeom prst="line">
            <a:avLst/>
          </a:prstGeom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Oval 10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Text Box 17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Oval 18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Oval 19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20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3" name="Line 22"/>
          <p:cNvSpPr/>
          <p:nvPr/>
        </p:nvSpPr>
        <p:spPr>
          <a:xfrm>
            <a:off x="520560" y="7805880"/>
            <a:ext cx="80917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lain the syntax of a function header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ef, ( ), :, tabbing, retur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 wi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header and indent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return value (fruitful function) or without (void func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arameters that have default valu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 function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nowing difference in outcomes of print and return statement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termine result of function calls with 3 types of argument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ositional, keyword, and defaul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race function invocations, to determine 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5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33"/>
          <p:cNvSpPr/>
          <p:nvPr/>
        </p:nvSpPr>
        <p:spPr>
          <a:xfrm>
            <a:off x="1639440" y="8316720"/>
            <a:ext cx="9724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common pitfall: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confusing keyword arguments and 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1"/>
          <p:cNvSpPr/>
          <p:nvPr/>
        </p:nvSpPr>
        <p:spPr>
          <a:xfrm>
            <a:off x="63504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94140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941400" y="5301720"/>
            <a:ext cx="229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41012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200664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Rectangle 6"/>
          <p:cNvSpPr/>
          <p:nvPr/>
        </p:nvSpPr>
        <p:spPr>
          <a:xfrm>
            <a:off x="200664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AutoShape 7"/>
          <p:cNvSpPr/>
          <p:nvPr/>
        </p:nvSpPr>
        <p:spPr>
          <a:xfrm>
            <a:off x="1641600" y="3198960"/>
            <a:ext cx="47772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AutoShape 8"/>
          <p:cNvSpPr/>
          <p:nvPr/>
        </p:nvSpPr>
        <p:spPr>
          <a:xfrm>
            <a:off x="2641680" y="3794040"/>
            <a:ext cx="295200" cy="1608120"/>
          </a:xfrm>
          <a:custGeom>
            <a:avLst/>
            <a:gdLst/>
            <a:ahLst/>
            <a:rect l="l" t="t" r="r" b="b"/>
            <a:pathLst>
              <a:path w="16337" h="21600">
                <a:moveTo>
                  <a:pt x="5439" y="21600"/>
                </a:moveTo>
                <a:cubicBezTo>
                  <a:pt x="21600" y="13055"/>
                  <a:pt x="19787" y="5855"/>
                  <a:pt x="0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469908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0"/>
          <p:cNvSpPr/>
          <p:nvPr/>
        </p:nvSpPr>
        <p:spPr>
          <a:xfrm>
            <a:off x="500544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-1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11"/>
          <p:cNvSpPr/>
          <p:nvPr/>
        </p:nvSpPr>
        <p:spPr>
          <a:xfrm>
            <a:off x="5004720" y="5301720"/>
            <a:ext cx="3028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x=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12"/>
          <p:cNvSpPr/>
          <p:nvPr/>
        </p:nvSpPr>
        <p:spPr>
          <a:xfrm>
            <a:off x="547416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Rectangle 13"/>
          <p:cNvSpPr/>
          <p:nvPr/>
        </p:nvSpPr>
        <p:spPr>
          <a:xfrm>
            <a:off x="607068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07068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5932440" y="3800520"/>
            <a:ext cx="318960" cy="1582560"/>
          </a:xfrm>
          <a:custGeom>
            <a:avLst/>
            <a:gdLst/>
            <a:ahLst/>
            <a:rect l="l" t="t" r="r" b="b"/>
            <a:pathLst>
              <a:path w="16378" h="21600">
                <a:moveTo>
                  <a:pt x="16378" y="21600"/>
                </a:moveTo>
                <a:cubicBezTo>
                  <a:pt x="-3185" y="13998"/>
                  <a:pt x="-5222" y="6798"/>
                  <a:pt x="10266" y="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6664320" y="3216240"/>
            <a:ext cx="890640" cy="2151000"/>
          </a:xfrm>
          <a:custGeom>
            <a:avLst/>
            <a:gdLst/>
            <a:ahLst/>
            <a:rect l="l" t="t" r="r" b="b"/>
            <a:pathLst>
              <a:path w="21084" h="21600">
                <a:moveTo>
                  <a:pt x="21055" y="21600"/>
                </a:moveTo>
                <a:cubicBezTo>
                  <a:pt x="21600" y="10974"/>
                  <a:pt x="14582" y="3774"/>
                  <a:pt x="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Rectangle 17"/>
          <p:cNvSpPr/>
          <p:nvPr/>
        </p:nvSpPr>
        <p:spPr>
          <a:xfrm>
            <a:off x="8763120" y="2081160"/>
            <a:ext cx="3605040" cy="4065480"/>
          </a:xfrm>
          <a:prstGeom prst="rect">
            <a:avLst/>
          </a:prstGeom>
          <a:solidFill>
            <a:srgbClr val="d6d5d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069480" y="2380680"/>
            <a:ext cx="3211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ef foo(x, y=</a:t>
            </a:r>
            <a:r>
              <a:rPr b="0" lang="en-US" sz="2400" spc="-1" strike="noStrike">
                <a:solidFill>
                  <a:srgbClr val="0076ba"/>
                </a:solidFill>
                <a:latin typeface="Courier New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069480" y="5301720"/>
            <a:ext cx="1382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foo(</a:t>
            </a: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99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0"/>
          <p:cNvSpPr/>
          <p:nvPr/>
        </p:nvSpPr>
        <p:spPr>
          <a:xfrm>
            <a:off x="9538200" y="2788560"/>
            <a:ext cx="59616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x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4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 =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Rectangle 21"/>
          <p:cNvSpPr/>
          <p:nvPr/>
        </p:nvSpPr>
        <p:spPr>
          <a:xfrm>
            <a:off x="10134720" y="290664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99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22"/>
          <p:cNvSpPr/>
          <p:nvPr/>
        </p:nvSpPr>
        <p:spPr>
          <a:xfrm>
            <a:off x="10134720" y="3414600"/>
            <a:ext cx="682560" cy="44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76ba"/>
                </a:solidFill>
                <a:latin typeface="Gill Sans SemiBold"/>
                <a:ea typeface="Gill Sans SemiBold"/>
              </a:rPr>
              <a:t>-1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AutoShape 23"/>
          <p:cNvSpPr/>
          <p:nvPr/>
        </p:nvSpPr>
        <p:spPr>
          <a:xfrm>
            <a:off x="9769320" y="3198960"/>
            <a:ext cx="478080" cy="2203200"/>
          </a:xfrm>
          <a:custGeom>
            <a:avLst/>
            <a:gdLst/>
            <a:ahLst/>
            <a:rect l="l" t="t" r="r" b="b"/>
            <a:pathLst>
              <a:path w="17710" h="21600">
                <a:moveTo>
                  <a:pt x="3063" y="21600"/>
                </a:moveTo>
                <a:cubicBezTo>
                  <a:pt x="-3890" y="13067"/>
                  <a:pt x="992" y="5867"/>
                  <a:pt x="17710" y="0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10787040" y="2793960"/>
            <a:ext cx="914400" cy="88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772" y="13806"/>
                  <a:pt x="9572" y="21006"/>
                  <a:pt x="0" y="21600"/>
                </a:cubicBezTo>
              </a:path>
            </a:pathLst>
          </a:custGeom>
          <a:noFill/>
          <a:ln w="25560">
            <a:solidFill>
              <a:srgbClr val="0076b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Text Box 25"/>
          <p:cNvSpPr/>
          <p:nvPr/>
        </p:nvSpPr>
        <p:spPr>
          <a:xfrm>
            <a:off x="1325880" y="6684840"/>
            <a:ext cx="3166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ositional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Oval 26"/>
          <p:cNvSpPr/>
          <p:nvPr/>
        </p:nvSpPr>
        <p:spPr>
          <a:xfrm>
            <a:off x="503280" y="6540480"/>
            <a:ext cx="755640" cy="755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Oval 27"/>
          <p:cNvSpPr/>
          <p:nvPr/>
        </p:nvSpPr>
        <p:spPr>
          <a:xfrm>
            <a:off x="4630680" y="6532560"/>
            <a:ext cx="755640" cy="75564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Oval 28"/>
          <p:cNvSpPr/>
          <p:nvPr/>
        </p:nvSpPr>
        <p:spPr>
          <a:xfrm>
            <a:off x="8756640" y="6540480"/>
            <a:ext cx="754200" cy="75564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395680" y="6684840"/>
            <a:ext cx="2985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keyword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9567360" y="6684840"/>
            <a:ext cx="277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default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filling parameters...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8" name="Line 32"/>
          <p:cNvSpPr/>
          <p:nvPr/>
        </p:nvSpPr>
        <p:spPr>
          <a:xfrm>
            <a:off x="520560" y="7805880"/>
            <a:ext cx="11560320" cy="0"/>
          </a:xfrm>
          <a:prstGeom prst="line">
            <a:avLst/>
          </a:prstGeom>
          <a:ln w="101520">
            <a:solidFill>
              <a:srgbClr val="d6d5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063760" y="8316720"/>
            <a:ext cx="2876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worksheet practic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1753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Generating grid for game like Battleship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19920" y="7454160"/>
            <a:ext cx="845532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get_grid(width, height, symb = ‘#’, title = ‘</a:t>
            </a: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Grid:</a:t>
            </a:r>
            <a:r>
              <a:rPr b="0" lang="en-US" sz="3000" spc="-1" strike="noStrike">
                <a:solidFill>
                  <a:srgbClr val="000000"/>
                </a:solidFill>
                <a:latin typeface="Menlo"/>
              </a:rPr>
              <a:t>’)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078880" y="8257680"/>
            <a:ext cx="2846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PythonTutor demo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4140360" y="2687760"/>
            <a:ext cx="236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ri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##########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7112160" y="4161960"/>
            <a:ext cx="16034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10 x 8 gri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6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7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AutoShape 8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Text Box 15"/>
          <p:cNvSpPr/>
          <p:nvPr/>
        </p:nvSpPr>
        <p:spPr>
          <a:xfrm>
            <a:off x="3555720" y="8635680"/>
            <a:ext cx="5727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e could call print from multiple plac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AutoShape 2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AutoShape 13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Rectangle 15"/>
          <p:cNvSpPr/>
          <p:nvPr/>
        </p:nvSpPr>
        <p:spPr>
          <a:xfrm>
            <a:off x="7075440" y="2590920"/>
            <a:ext cx="1623960" cy="5810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AutoShape 5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AutoShape 6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7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8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9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AutoShape 10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11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AutoShape 12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13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Rectangle 15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16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1"/>
          <p:cNvSpPr/>
          <p:nvPr/>
        </p:nvSpPr>
        <p:spPr>
          <a:xfrm>
            <a:off x="4991040" y="6238800"/>
            <a:ext cx="3027600" cy="1150920"/>
          </a:xfrm>
          <a:custGeom>
            <a:avLst/>
            <a:gdLst/>
            <a:ahLst/>
            <a:rect l="l" t="t" r="r" b="b"/>
            <a:pathLst>
              <a:path w="21600" h="21428">
                <a:moveTo>
                  <a:pt x="21600" y="0"/>
                </a:moveTo>
                <a:cubicBezTo>
                  <a:pt x="17190" y="14459"/>
                  <a:pt x="9990" y="21600"/>
                  <a:pt x="0" y="21424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7318440" y="6726240"/>
            <a:ext cx="1519200" cy="13874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3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8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10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AutoShape 11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2"/>
          <p:cNvSpPr/>
          <p:nvPr/>
        </p:nvSpPr>
        <p:spPr>
          <a:xfrm>
            <a:off x="5513760" y="4816080"/>
            <a:ext cx="1091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AutoShape 13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14"/>
          <p:cNvSpPr/>
          <p:nvPr/>
        </p:nvSpPr>
        <p:spPr>
          <a:xfrm>
            <a:off x="6175800" y="229680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15"/>
          <p:cNvSpPr/>
          <p:nvPr/>
        </p:nvSpPr>
        <p:spPr>
          <a:xfrm>
            <a:off x="6455160" y="7186320"/>
            <a:ext cx="859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Rectangle 16"/>
          <p:cNvSpPr/>
          <p:nvPr/>
        </p:nvSpPr>
        <p:spPr>
          <a:xfrm>
            <a:off x="5248440" y="5600880"/>
            <a:ext cx="1623960" cy="58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1, 3, 2, 4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AutoShape 17"/>
          <p:cNvSpPr/>
          <p:nvPr/>
        </p:nvSpPr>
        <p:spPr>
          <a:xfrm>
            <a:off x="7442280" y="6784920"/>
            <a:ext cx="1271520" cy="126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94" y="0"/>
                </a:moveTo>
                <a:cubicBezTo>
                  <a:pt x="87" y="0"/>
                  <a:pt x="0" y="87"/>
                  <a:pt x="0" y="194"/>
                </a:cubicBezTo>
                <a:lnTo>
                  <a:pt x="0" y="21404"/>
                </a:lnTo>
                <a:cubicBezTo>
                  <a:pt x="0" y="21511"/>
                  <a:pt x="87" y="21600"/>
                  <a:pt x="194" y="21600"/>
                </a:cubicBezTo>
                <a:lnTo>
                  <a:pt x="21406" y="21600"/>
                </a:lnTo>
                <a:cubicBezTo>
                  <a:pt x="21513" y="21600"/>
                  <a:pt x="21600" y="21511"/>
                  <a:pt x="21600" y="21404"/>
                </a:cubicBezTo>
                <a:lnTo>
                  <a:pt x="21600" y="20822"/>
                </a:lnTo>
                <a:cubicBezTo>
                  <a:pt x="21600" y="20715"/>
                  <a:pt x="21513" y="20628"/>
                  <a:pt x="21406" y="20628"/>
                </a:cubicBezTo>
                <a:lnTo>
                  <a:pt x="1163" y="20628"/>
                </a:lnTo>
                <a:cubicBezTo>
                  <a:pt x="1056" y="20628"/>
                  <a:pt x="970" y="20539"/>
                  <a:pt x="970" y="20432"/>
                </a:cubicBezTo>
                <a:lnTo>
                  <a:pt x="970" y="194"/>
                </a:lnTo>
                <a:cubicBezTo>
                  <a:pt x="970" y="87"/>
                  <a:pt x="883" y="0"/>
                  <a:pt x="776" y="0"/>
                </a:cubicBezTo>
                <a:lnTo>
                  <a:pt x="194" y="0"/>
                </a:lnTo>
                <a:close/>
                <a:moveTo>
                  <a:pt x="16860" y="3004"/>
                </a:moveTo>
                <a:lnTo>
                  <a:pt x="16860" y="19065"/>
                </a:lnTo>
                <a:lnTo>
                  <a:pt x="19553" y="19065"/>
                </a:lnTo>
                <a:lnTo>
                  <a:pt x="19553" y="3004"/>
                </a:lnTo>
                <a:lnTo>
                  <a:pt x="16860" y="3004"/>
                </a:lnTo>
                <a:close/>
                <a:moveTo>
                  <a:pt x="7272" y="6922"/>
                </a:moveTo>
                <a:lnTo>
                  <a:pt x="7272" y="19065"/>
                </a:lnTo>
                <a:lnTo>
                  <a:pt x="9965" y="19065"/>
                </a:lnTo>
                <a:lnTo>
                  <a:pt x="9965" y="6922"/>
                </a:lnTo>
                <a:lnTo>
                  <a:pt x="7272" y="6922"/>
                </a:lnTo>
                <a:close/>
                <a:moveTo>
                  <a:pt x="12066" y="10127"/>
                </a:moveTo>
                <a:lnTo>
                  <a:pt x="12066" y="19065"/>
                </a:lnTo>
                <a:lnTo>
                  <a:pt x="14759" y="19065"/>
                </a:lnTo>
                <a:lnTo>
                  <a:pt x="14759" y="10127"/>
                </a:lnTo>
                <a:lnTo>
                  <a:pt x="12066" y="10127"/>
                </a:lnTo>
                <a:close/>
                <a:moveTo>
                  <a:pt x="2478" y="15151"/>
                </a:moveTo>
                <a:lnTo>
                  <a:pt x="2478" y="19065"/>
                </a:lnTo>
                <a:lnTo>
                  <a:pt x="5171" y="19065"/>
                </a:lnTo>
                <a:lnTo>
                  <a:pt x="5171" y="15151"/>
                </a:lnTo>
                <a:lnTo>
                  <a:pt x="2478" y="15151"/>
                </a:ln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8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AutoShape 1"/>
          <p:cNvSpPr/>
          <p:nvPr/>
        </p:nvSpPr>
        <p:spPr>
          <a:xfrm>
            <a:off x="7889760" y="3646440"/>
            <a:ext cx="4033800" cy="2459160"/>
          </a:xfrm>
          <a:prstGeom prst="pie">
            <a:avLst/>
          </a:prstGeom>
          <a:solidFill>
            <a:srgbClr val="000000">
              <a:alpha val="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Program Output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(e.g., Terminal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2"/>
          <p:cNvSpPr/>
          <p:nvPr/>
        </p:nvSpPr>
        <p:spPr>
          <a:xfrm>
            <a:off x="95256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Print vs. Retur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AutoShape 3"/>
          <p:cNvSpPr/>
          <p:nvPr/>
        </p:nvSpPr>
        <p:spPr>
          <a:xfrm>
            <a:off x="2400480" y="646416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Some Code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AutoShape 4"/>
          <p:cNvSpPr/>
          <p:nvPr/>
        </p:nvSpPr>
        <p:spPr>
          <a:xfrm>
            <a:off x="2400480" y="2489040"/>
            <a:ext cx="2471400" cy="1238400"/>
          </a:xfrm>
          <a:prstGeom prst="roundRect">
            <a:avLst>
              <a:gd name="adj" fmla="val 1537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A Function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AutoShape 5"/>
          <p:cNvSpPr/>
          <p:nvPr/>
        </p:nvSpPr>
        <p:spPr>
          <a:xfrm>
            <a:off x="1863720" y="3732120"/>
            <a:ext cx="57960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16220" y="0"/>
                </a:moveTo>
                <a:cubicBezTo>
                  <a:pt x="-4649" y="7028"/>
                  <a:pt x="-5380" y="14228"/>
                  <a:pt x="14026" y="2160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1170360" y="4835160"/>
            <a:ext cx="629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al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646200" y="6194160"/>
            <a:ext cx="16779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00480" y="3285720"/>
            <a:ext cx="176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aramete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AutoShape 9"/>
          <p:cNvSpPr/>
          <p:nvPr/>
        </p:nvSpPr>
        <p:spPr>
          <a:xfrm>
            <a:off x="4911840" y="3732120"/>
            <a:ext cx="579240" cy="2652840"/>
          </a:xfrm>
          <a:custGeom>
            <a:avLst/>
            <a:gdLst/>
            <a:ahLst/>
            <a:rect l="l" t="t" r="r" b="b"/>
            <a:pathLst>
              <a:path w="16220" h="21600">
                <a:moveTo>
                  <a:pt x="0" y="21600"/>
                </a:moveTo>
                <a:cubicBezTo>
                  <a:pt x="20869" y="14572"/>
                  <a:pt x="21600" y="7372"/>
                  <a:pt x="2194" y="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5041440" y="4815360"/>
            <a:ext cx="82357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return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only get to answer once, then function stop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AutoShape 11"/>
          <p:cNvSpPr/>
          <p:nvPr/>
        </p:nvSpPr>
        <p:spPr>
          <a:xfrm>
            <a:off x="4991040" y="2874960"/>
            <a:ext cx="2871720" cy="755640"/>
          </a:xfrm>
          <a:custGeom>
            <a:avLst/>
            <a:gdLst/>
            <a:ahLst/>
            <a:rect l="l" t="t" r="r" b="b"/>
            <a:pathLst>
              <a:path w="21600" h="16625">
                <a:moveTo>
                  <a:pt x="21600" y="16625"/>
                </a:moveTo>
                <a:cubicBezTo>
                  <a:pt x="15157" y="-1997"/>
                  <a:pt x="7957" y="-4975"/>
                  <a:pt x="0" y="7690"/>
                </a:cubicBezTo>
              </a:path>
            </a:pathLst>
          </a:custGeom>
          <a:noFill/>
          <a:ln w="63360">
            <a:solidFill>
              <a:srgbClr val="00a2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5791680" y="2296080"/>
            <a:ext cx="6492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function can print as much as it lik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182880" y="8634960"/>
            <a:ext cx="12472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return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instead of </a:t>
            </a:r>
            <a:r>
              <a:rPr b="1" lang="en-US" sz="2400" spc="-1" strike="noStrike">
                <a:solidFill>
                  <a:srgbClr val="0076ba"/>
                </a:solidFill>
                <a:latin typeface="Gill Sans"/>
              </a:rPr>
              <a:t>printing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, gives callers different options for how to use the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41" name="Picture 14" descr=""/>
          <p:cNvPicPr/>
          <p:nvPr/>
        </p:nvPicPr>
        <p:blipFill>
          <a:blip r:embed="rId1"/>
          <a:stretch/>
        </p:blipFill>
        <p:spPr>
          <a:xfrm>
            <a:off x="6540480" y="5495760"/>
            <a:ext cx="3251160" cy="25020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15"/>
          <p:cNvSpPr/>
          <p:nvPr/>
        </p:nvSpPr>
        <p:spPr>
          <a:xfrm>
            <a:off x="5965560" y="8022600"/>
            <a:ext cx="439992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Gill Sans"/>
              </a:rPr>
              <a:t>https://memegenerator.net/instance/56355449/millionaire-regis-is-that-your-final-answer</a:t>
            </a: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Text Box 16"/>
          <p:cNvSpPr/>
          <p:nvPr/>
        </p:nvSpPr>
        <p:spPr>
          <a:xfrm>
            <a:off x="10191600" y="6457320"/>
            <a:ext cx="1484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bad_add3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example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1"/>
          <p:cNvSpPr/>
          <p:nvPr/>
        </p:nvSpPr>
        <p:spPr>
          <a:xfrm>
            <a:off x="1473120" y="609480"/>
            <a:ext cx="11099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Interactive Examples with PythonTutor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Course website schedule page entry for “</a:t>
            </a: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Creating Functions</a:t>
            </a: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”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Box 7"/>
          <p:cNvSpPr/>
          <p:nvPr/>
        </p:nvSpPr>
        <p:spPr>
          <a:xfrm>
            <a:off x="2540160" y="2666880"/>
            <a:ext cx="6508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c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C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b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c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B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def func_a()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1")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b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print("A2"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func_a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1"/>
          <p:cNvSpPr/>
          <p:nvPr/>
        </p:nvSpPr>
        <p:spPr>
          <a:xfrm>
            <a:off x="5778360" y="4425840"/>
            <a:ext cx="36957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 SemiBold"/>
                <a:ea typeface="Gill Sans SemiBold"/>
              </a:rPr>
              <a:t>Let’s trace this examp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52200" y="3998520"/>
            <a:ext cx="11099880" cy="17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Where do </a:t>
            </a:r>
            <a:r>
              <a:rPr b="0" i="1" lang="en-US" sz="4800" spc="-1" strike="noStrike">
                <a:solidFill>
                  <a:srgbClr val="000000"/>
                </a:solidFill>
                <a:latin typeface="Gill Sans SemiBold"/>
              </a:rPr>
              <a:t>modules</a:t>
            </a:r>
            <a:r>
              <a:rPr b="0" i="1" lang="en-US" sz="48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 come from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5" name="Text Box 2"/>
          <p:cNvSpPr/>
          <p:nvPr/>
        </p:nvSpPr>
        <p:spPr>
          <a:xfrm>
            <a:off x="1536480" y="982800"/>
            <a:ext cx="444852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e-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math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qr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sin(), cos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8597160" y="804960"/>
            <a:ext cx="194796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uilt i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int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len(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"/>
              </a:rPr>
              <a:t>etc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221840" y="6977160"/>
            <a:ext cx="40240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nstalled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e.g., jupyter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jupy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ip install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8991360" y="7067520"/>
            <a:ext cx="26949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 marL="428760" indent="-28584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usto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8760" indent="-285840">
              <a:buClr>
                <a:srgbClr val="000000"/>
              </a:buClr>
              <a:buFont typeface="Gill Sans"/>
              <a:buChar char="-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(lab-p3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" name="Line 6"/>
          <p:cNvSpPr/>
          <p:nvPr/>
        </p:nvSpPr>
        <p:spPr>
          <a:xfrm flipV="1">
            <a:off x="8213760" y="2811240"/>
            <a:ext cx="1006560" cy="17427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Line 7"/>
          <p:cNvSpPr/>
          <p:nvPr/>
        </p:nvSpPr>
        <p:spPr>
          <a:xfrm>
            <a:off x="8442360" y="5456160"/>
            <a:ext cx="784080" cy="156528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Line 8"/>
          <p:cNvSpPr/>
          <p:nvPr/>
        </p:nvSpPr>
        <p:spPr>
          <a:xfrm flipH="1">
            <a:off x="4363560" y="5265720"/>
            <a:ext cx="1220760" cy="167796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Line 9"/>
          <p:cNvSpPr/>
          <p:nvPr/>
        </p:nvSpPr>
        <p:spPr>
          <a:xfrm flipH="1" flipV="1">
            <a:off x="3860640" y="2387160"/>
            <a:ext cx="1571760" cy="2166840"/>
          </a:xfrm>
          <a:prstGeom prst="line">
            <a:avLst/>
          </a:prstGeom>
          <a:ln w="50760">
            <a:solidFill>
              <a:srgbClr val="ff9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28800" y="8303760"/>
            <a:ext cx="535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Anaconda did these installations for u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how do we write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like move cod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ypes of funct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72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thin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ke “Move Cod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produce output with prin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y change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produc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valu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imilar to mathematical func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any might say a function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returns a value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wney calls these functions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“fruitful”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functions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we’ll use this, but don’t expect people to generally be aware of this terminology)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ometimes functions do both!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1047600" y="4395960"/>
            <a:ext cx="5640480" cy="48096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0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5450040" y="2284560"/>
            <a:ext cx="3855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6885000" y="418320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025600" y="7010280"/>
            <a:ext cx="295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 name is “f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Math to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5535360" y="2292840"/>
            <a:ext cx="19278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(x) = x</a:t>
            </a:r>
            <a:r>
              <a:rPr b="0" lang="en-US" sz="4200" spc="-1" strike="noStrike" baseline="32000">
                <a:solidFill>
                  <a:srgbClr val="000000"/>
                </a:solidFill>
                <a:latin typeface="Gill Sans"/>
              </a:rPr>
              <a:t>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2464920" y="2292840"/>
            <a:ext cx="166140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Math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549760" y="4276800"/>
            <a:ext cx="52228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def f(x)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4200" spc="-1" strike="noStrike">
                <a:solidFill>
                  <a:srgbClr val="000000"/>
                </a:solidFill>
                <a:latin typeface="Courier New"/>
              </a:rPr>
              <a:t>return x ** 2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942560" y="4273920"/>
            <a:ext cx="2156760" cy="7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"/>
              </a:rPr>
              <a:t>Python:</a:t>
            </a:r>
            <a:endParaRPr b="1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5869080" y="2284560"/>
            <a:ext cx="293760" cy="8632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481880" y="4211640"/>
            <a:ext cx="385920" cy="865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4539600" y="7010280"/>
            <a:ext cx="39243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It takes one parameter, “x”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3-02-06T08:09:51Z</dcterms:modified>
  <cp:revision>47</cp:revision>
  <dc:subject/>
  <dc:title>[301] Creating Functions</dc:title>
</cp:coreProperties>
</file>