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191E-3BFD-49D6-82FD-F4C032F82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7238-1B1B-4978-8CA5-5F30F62924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5E80-8943-48AA-9CD7-B4944E88E8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B22F8-5295-4D5C-8198-C170E6BE47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DDCD6-8477-4AC6-9710-646A5E9893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BD00-D51E-46BC-9BB7-5AEEE0FE3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03630-16BE-47C8-A955-BED8ED1AC2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EC771-5DFC-46E7-A513-119031E03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B1BE5-B054-4C97-BFD2-88F9C4DC5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1ED7-4579-44F0-9CFB-D27693BF1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30EA-8FB0-4E09-9E12-ADD1246705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D360E-F4E1-4695-B9CB-F9F6438A8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F747E54-345D-4145-8840-5F545756FA1B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76544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Using Funct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17280" y="7787880"/>
            <a:ext cx="7684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arts of Chapter 3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5.1 to 5.4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589400" y="8244720"/>
            <a:ext cx="206388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Quiz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6960" y="3803760"/>
            <a:ext cx="195588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7316640" y="4756320"/>
            <a:ext cx="48132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854680" y="3727440"/>
            <a:ext cx="29052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8624880" y="3727440"/>
            <a:ext cx="480960" cy="127008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7658280" y="4756320"/>
            <a:ext cx="2901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332920" y="4756320"/>
            <a:ext cx="291960" cy="1269720"/>
          </a:xfrm>
          <a:prstGeom prst="rect">
            <a:avLst/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“hello”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result = f(</a:t>
            </a: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x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6" name="AutoShape 2"/>
          <p:cNvSpPr/>
          <p:nvPr/>
        </p:nvSpPr>
        <p:spPr>
          <a:xfrm>
            <a:off x="7394400" y="2328840"/>
            <a:ext cx="1271880" cy="1276200"/>
          </a:xfrm>
          <a:custGeom>
            <a:avLst/>
            <a:gdLst/>
            <a:ahLst/>
            <a:rect l="l" t="t" r="r" b="b"/>
            <a:pathLst>
              <a:path w="21124" h="20638">
                <a:moveTo>
                  <a:pt x="25" y="20638"/>
                </a:moveTo>
                <a:cubicBezTo>
                  <a:pt x="-476" y="5881"/>
                  <a:pt x="6557" y="-962"/>
                  <a:pt x="21124" y="108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8723160" y="2082600"/>
            <a:ext cx="178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79680" y="3268440"/>
            <a:ext cx="8043840" cy="3020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)</a:t>
            </a:r>
            <a:br>
              <a:rPr sz="6500"/>
            </a:br>
            <a:r>
              <a:rPr b="0" lang="en-US" sz="6500" spc="-1" strike="noStrike">
                <a:solidFill>
                  <a:srgbClr val="ee220c"/>
                </a:solidFill>
                <a:latin typeface="Gill Sans SemiBold"/>
              </a:rPr>
              <a:t>result</a:t>
            </a: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 = f(x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3" name="AutoShape 2"/>
          <p:cNvSpPr/>
          <p:nvPr/>
        </p:nvSpPr>
        <p:spPr>
          <a:xfrm>
            <a:off x="5630760" y="5865840"/>
            <a:ext cx="1006560" cy="636480"/>
          </a:xfrm>
          <a:custGeom>
            <a:avLst/>
            <a:gdLst/>
            <a:ahLst/>
            <a:rect l="l" t="t" r="r" b="b"/>
            <a:pathLst>
              <a:path w="20156" h="21600">
                <a:moveTo>
                  <a:pt x="261" y="0"/>
                </a:moveTo>
                <a:cubicBezTo>
                  <a:pt x="-1444" y="11986"/>
                  <a:pt x="5188" y="19186"/>
                  <a:pt x="20156" y="21600"/>
                </a:cubicBezTo>
              </a:path>
            </a:pathLst>
          </a:custGeom>
          <a:noFill/>
          <a:ln w="507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6720120" y="6248160"/>
            <a:ext cx="20012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eturn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1800" y="3127320"/>
            <a:ext cx="9285120" cy="3021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print(“hello”, “world”)</a:t>
            </a:r>
            <a:br>
              <a:rPr sz="6500"/>
            </a:br>
            <a:r>
              <a:rPr b="0" lang="en-US" sz="6500" spc="-1" strike="noStrike">
                <a:solidFill>
                  <a:srgbClr val="000000"/>
                </a:solidFill>
                <a:latin typeface="Gill Sans SemiBold"/>
              </a:rPr>
              <a:t>x = input()</a:t>
            </a:r>
            <a:endParaRPr b="0" lang="en-US" sz="65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693960" y="7099920"/>
            <a:ext cx="3800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unction’s na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3616200" y="7607880"/>
            <a:ext cx="50277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LWAY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llowed by parenthes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3617640" y="8115840"/>
            <a:ext cx="6193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with one or more argume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689280" y="8623800"/>
            <a:ext cx="4688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OMETIMES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ducing a resul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50760" y="711360"/>
            <a:ext cx="11099880" cy="9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Calling/Invoking a Function in Python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759120" y="3975120"/>
            <a:ext cx="556272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Notebook examp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7000"/>
          </a:bodyPr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How to call funct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input/outpu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erminology: call / invoke, parameter, argument, keyword argument, return valu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ontrol flo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unction usage examp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put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rint(), along with keyword arguments “end” and “sep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ype cast functions: int(), bool(), float(), str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Using functions from built-in modu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ound(), abs(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keywords: import, from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ttribute operator: “.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-286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help: inspect a modu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09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003320" y="3149640"/>
            <a:ext cx="9529920" cy="201780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6736680" y="4641480"/>
            <a:ext cx="3543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“</a:t>
            </a: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Move Code” is a funct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857160" y="574560"/>
            <a:ext cx="9929880" cy="4741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8413920" y="5830920"/>
            <a:ext cx="3690720" cy="35100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"/>
          <p:cNvSpPr/>
          <p:nvPr/>
        </p:nvSpPr>
        <p:spPr>
          <a:xfrm>
            <a:off x="1658160" y="6835320"/>
            <a:ext cx="5495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unctions are like “mini programs”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 in our robot worksheet proble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257480" y="139716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1257480" y="2286000"/>
            <a:ext cx="7772400" cy="31896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9159840" y="1399680"/>
            <a:ext cx="36910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today we’ll learn how to use functions in Pyth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687840" y="488880"/>
            <a:ext cx="573120" cy="582840"/>
          </a:xfrm>
          <a:custGeom>
            <a:avLst/>
            <a:gdLst/>
            <a:ahLst/>
            <a:rect l="l" t="t" r="r" b="b"/>
            <a:pathLst>
              <a:path w="21600" h="21382">
                <a:moveTo>
                  <a:pt x="0" y="21382"/>
                </a:moveTo>
                <a:cubicBezTo>
                  <a:pt x="138" y="6908"/>
                  <a:pt x="7338" y="-218"/>
                  <a:pt x="21600" y="5"/>
                </a:cubicBezTo>
              </a:path>
            </a:pathLst>
          </a:custGeom>
          <a:noFill/>
          <a:ln w="255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7318440" y="2842920"/>
            <a:ext cx="55911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we’ll also learn how to ask function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000" spc="-1" strike="noStrike">
                <a:solidFill>
                  <a:srgbClr val="ee220c"/>
                </a:solidFill>
                <a:latin typeface="Gill Sans"/>
              </a:rPr>
              <a:t>questions and get answers called return values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257480" y="3492360"/>
            <a:ext cx="9293040" cy="1619280"/>
          </a:xfrm>
          <a:prstGeom prst="rect">
            <a:avLst/>
          </a:prstGeom>
          <a:noFill/>
          <a:ln w="38160">
            <a:solidFill>
              <a:srgbClr val="ee220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1577880" y="532368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321080" y="-15120"/>
            <a:ext cx="640728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e’ll learn about how to give functions input by passing arguments (e.g., 2) to parameters (e.g., moves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0"/>
          <p:cNvSpPr/>
          <p:nvPr/>
        </p:nvSpPr>
        <p:spPr>
          <a:xfrm>
            <a:off x="952560" y="2438280"/>
            <a:ext cx="10807560" cy="39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spAutoFit/>
          </a:bodyPr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function definition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grouping of lines of code; a way for us to tell our program to run that entire group of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call / invoke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 statement in Python code that instructs the program to run all the lines of code in a function definition, and then come back afterward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parameter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riable that receives input to function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value sent to a function (lines up with paramete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keyword argument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argument explicitly tied to a paramet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542880" indent="-380880">
              <a:buClr>
                <a:srgbClr val="ff93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ff9300"/>
                </a:solidFill>
                <a:latin typeface="Gill Sans"/>
              </a:rPr>
              <a:t>return valu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 function output sent back to calling cod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87120" y="91404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erminology / Vocabulary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911760" y="7686000"/>
            <a:ext cx="45608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next lecture, we’ll learn how to write our own new function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4:31Z</dcterms:modified>
  <cp:revision>31</cp:revision>
  <dc:subject/>
  <dc:title>[301] Using Functions</dc:title>
</cp:coreProperties>
</file>