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FDC47-92B9-4BD2-9385-6895DBCB9D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0A06B-77BC-4A34-9C20-7D4F56E348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E9D34-2BF2-4F46-850A-7BDE838F23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6AEC0-4A00-42C0-85A3-77360DA4A5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2CCCE-DB08-4059-A81D-81267B48E1B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29ECF-A749-43B3-9F53-A33DB7D4CB0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4B2AB-17B4-48A3-9BBD-29EB68578CA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EC7D2-A7D9-47BC-B18E-C5E77EE14A1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62CC0-1154-4B23-8E11-0CF5C1817D6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93B80-1448-449A-ACC6-8895F993805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46374-F36D-452E-9C3C-BCC63D0AA7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743C6-55C9-478E-862C-1A43C4E623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A65FD-E09E-477F-BB32-F2B099FA35A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2684C-B2C1-4431-AC44-4B296331D3A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D761E-B57D-4773-A00A-B09435D210F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A478F-64C9-4191-AA87-C62F5689341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80368-D7D8-4940-8F79-A682E418EA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49F80-FC78-448E-9B08-FB6EEFCBDE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38FA8-7477-4483-82E7-24EB054C74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FFA87-6C57-4FD9-9BCA-93320AA651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8AA83-6AA6-48DB-809D-F375BD0C89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8D6FA-5CD2-49AC-AF8D-7B7C34CAF4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AECC4-0F41-419F-93D3-53012B869C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1DA24-B106-4EDF-8C12-235456831C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5A378B4-B591-49B1-8CD1-D4113BF4765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3913066-9D67-4E98-91DC-8FEF303E8A2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9520" y="17463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Iteration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679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Department of Computer Sciences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Helvetica Neue"/>
              </a:rPr>
              <a:t>University of Wisconsin-Madison </a:t>
            </a: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7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-179640" y="801504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"/>
              </a:rPr>
              <a:t>Chapter 7 of Think Python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6.1 to 6.3 of Python for Everybody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8923320" y="8564400"/>
            <a:ext cx="48974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if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7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0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need a positive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1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2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4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6" name="Line 12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7" name="Line 13"/>
          <p:cNvSpPr/>
          <p:nvPr/>
        </p:nvSpPr>
        <p:spPr>
          <a:xfrm flipH="1">
            <a:off x="7481520" y="7153200"/>
            <a:ext cx="453960" cy="10638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8" name="Text Box 14"/>
          <p:cNvSpPr/>
          <p:nvPr/>
        </p:nvSpPr>
        <p:spPr>
          <a:xfrm>
            <a:off x="8171640" y="7231680"/>
            <a:ext cx="40770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ouldn’t it be nice if w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could go back and giv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he user a second chance?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1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2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5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6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8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9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1" name="Line 13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5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7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8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1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2" name="Oval 12"/>
          <p:cNvSpPr/>
          <p:nvPr/>
        </p:nvSpPr>
        <p:spPr>
          <a:xfrm>
            <a:off x="6904080" y="3632040"/>
            <a:ext cx="3132000" cy="282600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8528040" y="2813400"/>
            <a:ext cx="3922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e call this cycle a “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5" name="Line 15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6088320" y="7455240"/>
            <a:ext cx="638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Each time through is called an “iteration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9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0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1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3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4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7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8" name="Oval 12"/>
          <p:cNvSpPr/>
          <p:nvPr/>
        </p:nvSpPr>
        <p:spPr>
          <a:xfrm>
            <a:off x="4935600" y="4003560"/>
            <a:ext cx="3132000" cy="141624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7418160" y="748872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2764800" y="395784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8867880" y="1809000"/>
            <a:ext cx="394956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We keep executing the loop body </a:t>
            </a: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hile</a:t>
            </a: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 the condition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is true, so this is called a “while” loop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2" name="Rectangle 17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3" name="Line 18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5" name="Oval 14"/>
          <p:cNvSpPr/>
          <p:nvPr/>
        </p:nvSpPr>
        <p:spPr>
          <a:xfrm>
            <a:off x="7373880" y="5952960"/>
            <a:ext cx="4462560" cy="1416240"/>
          </a:xfrm>
          <a:prstGeom prst="ellipse">
            <a:avLst/>
          </a:prstGeom>
          <a:noFill/>
          <a:ln w="38160">
            <a:solidFill>
              <a:srgbClr val="ff2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97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9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1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2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4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5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6" name="Text Box 12"/>
          <p:cNvSpPr/>
          <p:nvPr/>
        </p:nvSpPr>
        <p:spPr>
          <a:xfrm>
            <a:off x="5898960" y="7232400"/>
            <a:ext cx="714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what does this loop do? (note crossed out line)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7" name="Rectangle 1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08" name="Line 14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09" name="Rectangle 6" descr=""/>
          <p:cNvPicPr/>
          <p:nvPr/>
        </p:nvPicPr>
        <p:blipFill>
          <a:blip r:embed="rId1"/>
          <a:stretch/>
        </p:blipFill>
        <p:spPr>
          <a:xfrm>
            <a:off x="7626240" y="6211800"/>
            <a:ext cx="39927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2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5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6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19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0" name="Text Box 12"/>
          <p:cNvSpPr/>
          <p:nvPr/>
        </p:nvSpPr>
        <p:spPr>
          <a:xfrm>
            <a:off x="6675480" y="7455240"/>
            <a:ext cx="579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runs forever!  called an “infinite 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2" name="Line 14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223" name="Rectangle 6" descr=""/>
          <p:cNvPicPr/>
          <p:nvPr/>
        </p:nvPicPr>
        <p:blipFill>
          <a:blip r:embed="rId1"/>
          <a:stretch/>
        </p:blipFill>
        <p:spPr>
          <a:xfrm>
            <a:off x="7626240" y="6211800"/>
            <a:ext cx="3992760" cy="9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while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6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7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9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1" name="AutoShape 11"/>
          <p:cNvSpPr/>
          <p:nvPr/>
        </p:nvSpPr>
        <p:spPr>
          <a:xfrm>
            <a:off x="7375680" y="3827520"/>
            <a:ext cx="2047680" cy="2374920"/>
          </a:xfrm>
          <a:custGeom>
            <a:avLst/>
            <a:gdLst/>
            <a:ahLst/>
            <a:rect l="l" t="t" r="r" b="b"/>
            <a:pathLst>
              <a:path w="21600" h="17319">
                <a:moveTo>
                  <a:pt x="21600" y="17319"/>
                </a:moveTo>
                <a:cubicBezTo>
                  <a:pt x="21018" y="96"/>
                  <a:pt x="13818" y="-4281"/>
                  <a:pt x="0" y="4187"/>
                </a:cubicBezTo>
              </a:path>
            </a:pathLst>
          </a:custGeom>
          <a:noFill/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2" name="Text Box 12"/>
          <p:cNvSpPr/>
          <p:nvPr/>
        </p:nvSpPr>
        <p:spPr>
          <a:xfrm>
            <a:off x="8370720" y="1775520"/>
            <a:ext cx="46468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o avoid infinite loops, make sure something will/ca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eventually happen in the body to change the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3" name="Oval 14"/>
          <p:cNvSpPr/>
          <p:nvPr/>
        </p:nvSpPr>
        <p:spPr>
          <a:xfrm>
            <a:off x="6053040" y="4498920"/>
            <a:ext cx="897120" cy="42408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5" name="Line 17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7637400" y="6222960"/>
            <a:ext cx="397044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please try again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input(“enter x: ”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9" name="Oval 13"/>
          <p:cNvSpPr/>
          <p:nvPr/>
        </p:nvSpPr>
        <p:spPr>
          <a:xfrm>
            <a:off x="7869240" y="6630840"/>
            <a:ext cx="358920" cy="42408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0" name="AutoShape 15"/>
          <p:cNvSpPr/>
          <p:nvPr/>
        </p:nvSpPr>
        <p:spPr>
          <a:xfrm>
            <a:off x="6113520" y="4973760"/>
            <a:ext cx="1728720" cy="1911240"/>
          </a:xfrm>
          <a:custGeom>
            <a:avLst/>
            <a:gdLst/>
            <a:ahLst/>
            <a:rect l="l" t="t" r="r" b="b"/>
            <a:pathLst>
              <a:path w="17899" h="21600">
                <a:moveTo>
                  <a:pt x="2638" y="0"/>
                </a:moveTo>
                <a:cubicBezTo>
                  <a:pt x="-3701" y="11408"/>
                  <a:pt x="1386" y="18608"/>
                  <a:pt x="17899" y="2160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5549760" y="22766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yntax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if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5390640" y="5715360"/>
            <a:ext cx="2222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Syntax for “if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yntax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1137240" y="5715360"/>
            <a:ext cx="107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Syntax for “while loop” is just like for “if”, just replace “if” with “while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1132200" y="6610320"/>
            <a:ext cx="8095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This example gives user an arbitrary number of tries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until they get it r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mplement an iterative algorithm using a while loop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rinting /counting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validating user inpu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erforming iterative calculation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printing grids / character ar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Trace iterative algorithms and determine their outpu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Recognize common while loop errors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infinite loops (when unintentional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  <a:ea typeface="Gill Sans"/>
              </a:rPr>
              <a:t>off-by-one mistakes in the loop control variable increment / decremen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7215AC1-557C-4BD8-AD97-0472A46BF05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erminology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369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int(input(“enter x: “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x &lt; 0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x = int(input(“please try again: ”))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5198400" y="264348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4" name="Rectangle 1"/>
          <p:cNvSpPr/>
          <p:nvPr/>
        </p:nvSpPr>
        <p:spPr>
          <a:xfrm>
            <a:off x="2228760" y="2573280"/>
            <a:ext cx="1524240" cy="609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5" name="Connection Line"/>
          <p:cNvSpPr/>
          <p:nvPr/>
        </p:nvSpPr>
        <p:spPr>
          <a:xfrm flipV="1">
            <a:off x="4037040" y="2895480"/>
            <a:ext cx="1066680" cy="46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5840280" y="481032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7" name="Rectangle 13"/>
          <p:cNvSpPr/>
          <p:nvPr/>
        </p:nvSpPr>
        <p:spPr>
          <a:xfrm>
            <a:off x="1932120" y="3132000"/>
            <a:ext cx="8913600" cy="609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8" name="Connection Line"/>
          <p:cNvSpPr/>
          <p:nvPr/>
        </p:nvSpPr>
        <p:spPr>
          <a:xfrm>
            <a:off x="6283440" y="3781440"/>
            <a:ext cx="210960" cy="10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59" name="Oval 7"/>
          <p:cNvSpPr/>
          <p:nvPr/>
        </p:nvSpPr>
        <p:spPr>
          <a:xfrm>
            <a:off x="2387520" y="2646360"/>
            <a:ext cx="457200" cy="461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0" name="Text Box 15"/>
          <p:cNvSpPr/>
          <p:nvPr/>
        </p:nvSpPr>
        <p:spPr>
          <a:xfrm>
            <a:off x="1380960" y="4065120"/>
            <a:ext cx="3264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trol variabl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1" name="Connection Line"/>
          <p:cNvSpPr/>
          <p:nvPr/>
        </p:nvSpPr>
        <p:spPr>
          <a:xfrm>
            <a:off x="2657520" y="3036960"/>
            <a:ext cx="212760" cy="109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# your code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1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52200" y="2626920"/>
            <a:ext cx="11099880" cy="5910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  <a:ea typeface="Courier New"/>
              </a:rPr>
              <a:t>CONDITION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 after the loop…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5" name="Rectangle 3"/>
          <p:cNvSpPr/>
          <p:nvPr/>
        </p:nvSpPr>
        <p:spPr>
          <a:xfrm>
            <a:off x="1739880" y="3516480"/>
            <a:ext cx="6643800" cy="31255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1" lang="en-US" sz="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block of code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maybe many lines…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4641840" y="1446120"/>
            <a:ext cx="5607000" cy="5079960"/>
          </a:xfrm>
          <a:custGeom>
            <a:avLst/>
            <a:gdLst/>
            <a:ahLst/>
            <a:rect l="l" t="t" r="r" b="b"/>
            <a:pathLst>
              <a:path w="16807" h="17385">
                <a:moveTo>
                  <a:pt x="10349" y="17385"/>
                </a:moveTo>
                <a:cubicBezTo>
                  <a:pt x="21600" y="257"/>
                  <a:pt x="18150" y="-4215"/>
                  <a:pt x="0" y="3969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7" name="AutoShape 5"/>
          <p:cNvSpPr/>
          <p:nvPr/>
        </p:nvSpPr>
        <p:spPr>
          <a:xfrm>
            <a:off x="557280" y="3181320"/>
            <a:ext cx="793800" cy="4237200"/>
          </a:xfrm>
          <a:custGeom>
            <a:avLst/>
            <a:gdLst/>
            <a:ahLst/>
            <a:rect l="l" t="t" r="r" b="b"/>
            <a:pathLst>
              <a:path w="16501" h="21600">
                <a:moveTo>
                  <a:pt x="16501" y="0"/>
                </a:moveTo>
                <a:cubicBezTo>
                  <a:pt x="-2528" y="14077"/>
                  <a:pt x="-5099" y="21277"/>
                  <a:pt x="8789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8" name="AutoShape 6"/>
          <p:cNvSpPr/>
          <p:nvPr/>
        </p:nvSpPr>
        <p:spPr>
          <a:xfrm>
            <a:off x="1434960" y="3193920"/>
            <a:ext cx="466920" cy="646200"/>
          </a:xfrm>
          <a:custGeom>
            <a:avLst/>
            <a:gdLst/>
            <a:ahLst/>
            <a:rect l="l" t="t" r="r" b="b"/>
            <a:pathLst>
              <a:path w="17141" h="21600">
                <a:moveTo>
                  <a:pt x="4843" y="0"/>
                </a:moveTo>
                <a:cubicBezTo>
                  <a:pt x="-4459" y="12116"/>
                  <a:pt x="-360" y="19316"/>
                  <a:pt x="17141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79" name="Text Box 7"/>
          <p:cNvSpPr/>
          <p:nvPr/>
        </p:nvSpPr>
        <p:spPr>
          <a:xfrm>
            <a:off x="8667000" y="573120"/>
            <a:ext cx="3467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at end, always go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back to condition check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1524600" y="30801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1" name="Text Box 9"/>
          <p:cNvSpPr/>
          <p:nvPr/>
        </p:nvSpPr>
        <p:spPr>
          <a:xfrm>
            <a:off x="589320" y="60901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52200" y="92088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Steps to follow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74880" y="2895120"/>
            <a:ext cx="11593440" cy="5937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724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Wh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enever you write a while loop, keep these in mind: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>
              <a:spcBef>
                <a:spcPts val="3501"/>
              </a:spcBef>
              <a:buClr>
                <a:srgbClr val="ff0000"/>
              </a:buClr>
              <a:buSzPct val="145000"/>
              <a:buFont typeface="Helvetica Neue"/>
              <a:buAutoNum type="arabicPeriod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Initialize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your loop condition variabl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>
              <a:spcBef>
                <a:spcPts val="3501"/>
              </a:spcBef>
              <a:buClr>
                <a:srgbClr val="000000"/>
              </a:buClr>
              <a:buSzPct val="145000"/>
              <a:buFont typeface="Helvetica Neue"/>
              <a:buAutoNum type="arabicPeriod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a)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Update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your loop condition variable in loop body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lvl="1" marL="501480" indent="0">
              <a:spcBef>
                <a:spcPts val="3501"/>
              </a:spcBef>
              <a:buNone/>
              <a:tabLst>
                <a:tab algn="l" pos="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  <a:tab algn="l" pos="10301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b) Make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progress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towards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eventually turning your loop condition to </a:t>
            </a:r>
            <a:r>
              <a:rPr b="1" lang="en-US" sz="2600" spc="-1" strike="noStrike">
                <a:solidFill>
                  <a:srgbClr val="ff0000"/>
                </a:solidFill>
                <a:latin typeface="Helvetica Neue"/>
              </a:rPr>
              <a:t>Fals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57240" indent="0">
              <a:spcBef>
                <a:spcPts val="3501"/>
              </a:spcBef>
              <a:buNone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grats!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52560" y="1587600"/>
            <a:ext cx="11593440" cy="5937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You now understand the 4 key </a:t>
            </a:r>
            <a:r>
              <a:rPr b="1" lang="en-US" sz="2600" spc="-1" strike="noStrike">
                <a:solidFill>
                  <a:srgbClr val="000000"/>
                </a:solidFill>
                <a:latin typeface="Helvetica Neue"/>
              </a:rPr>
              <a:t>Flow of Execution</a:t>
            </a: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 ideas,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in the context of Python.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1. </a:t>
            </a:r>
            <a:r>
              <a:rPr b="1" lang="en-US" sz="2600" spc="-1" strike="noStrike">
                <a:solidFill>
                  <a:srgbClr val="000000"/>
                </a:solidFill>
                <a:latin typeface="Helvetica Neue"/>
              </a:rPr>
              <a:t>generally, proceed forward, one step at a tim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2. sometimes go run a “mini program” somewhere else before continuing to the next lin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This is a </a:t>
            </a: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function call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3. sometimes skip forward over some lines of cod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ee220c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Conditional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 or </a:t>
            </a: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while loop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, when the condition is false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0">
              <a:spcBef>
                <a:spcPts val="3501"/>
              </a:spcBef>
              <a:buNone/>
              <a:tabLst>
                <a:tab algn="l" pos="0"/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Helvetica Neue"/>
              </a:rPr>
              <a:t>4. sometimes go back to a previous line of code</a:t>
            </a:r>
            <a:endParaRPr b="0" lang="en-US" sz="2600" spc="-1" strike="noStrike">
              <a:solidFill>
                <a:srgbClr val="000000"/>
              </a:solidFill>
              <a:latin typeface="Helvetica Neue"/>
            </a:endParaRPr>
          </a:p>
          <a:p>
            <a:pPr marL="200160" indent="-141480">
              <a:buClr>
                <a:srgbClr val="ee220c"/>
              </a:buClr>
              <a:buSzPct val="145000"/>
              <a:buFont typeface="Helvetica Neue"/>
              <a:buChar char="•"/>
              <a:tabLst>
                <a:tab algn="l" pos="490680"/>
                <a:tab algn="l" pos="981000"/>
                <a:tab algn="l" pos="1471680"/>
                <a:tab algn="l" pos="1962000"/>
                <a:tab algn="l" pos="2452680"/>
                <a:tab algn="l" pos="2943360"/>
                <a:tab algn="l" pos="3433680"/>
                <a:tab algn="l" pos="3924360"/>
                <a:tab algn="l" pos="4414680"/>
                <a:tab algn="l" pos="4905360"/>
                <a:tab algn="l" pos="5396040"/>
                <a:tab algn="l" pos="5886360"/>
                <a:tab algn="l" pos="6377040"/>
                <a:tab algn="l" pos="6867360"/>
                <a:tab algn="l" pos="7358040"/>
                <a:tab algn="l" pos="7848720"/>
                <a:tab algn="l" pos="8339040"/>
                <a:tab algn="l" pos="8829720"/>
                <a:tab algn="l" pos="9320040"/>
                <a:tab algn="l" pos="9810720"/>
              </a:tabLst>
            </a:pPr>
            <a:r>
              <a:rPr b="0" lang="en-US" sz="2300" spc="-1" strike="noStrike">
                <a:solidFill>
                  <a:srgbClr val="ee220c"/>
                </a:solidFill>
                <a:latin typeface="Helvetica Neue"/>
              </a:rPr>
              <a:t>while loop</a:t>
            </a:r>
            <a:r>
              <a:rPr b="0" lang="en-US" sz="2300" spc="-1" strike="noStrike">
                <a:solidFill>
                  <a:srgbClr val="000000"/>
                </a:solidFill>
                <a:latin typeface="Helvetica Neue"/>
              </a:rPr>
              <a:t>.  When at the end of body, always go back to condition</a:t>
            </a:r>
            <a:endParaRPr b="0" lang="en-US" sz="23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6" name="AutoShape 3"/>
          <p:cNvSpPr/>
          <p:nvPr/>
        </p:nvSpPr>
        <p:spPr>
          <a:xfrm>
            <a:off x="666720" y="3659040"/>
            <a:ext cx="11669760" cy="4784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75" y="0"/>
                </a:moveTo>
                <a:cubicBezTo>
                  <a:pt x="168" y="0"/>
                  <a:pt x="0" y="410"/>
                  <a:pt x="0" y="916"/>
                </a:cubicBezTo>
                <a:lnTo>
                  <a:pt x="0" y="17377"/>
                </a:lnTo>
                <a:cubicBezTo>
                  <a:pt x="0" y="17883"/>
                  <a:pt x="168" y="18293"/>
                  <a:pt x="375" y="18293"/>
                </a:cubicBezTo>
                <a:lnTo>
                  <a:pt x="10366" y="18293"/>
                </a:lnTo>
                <a:lnTo>
                  <a:pt x="11039" y="21600"/>
                </a:lnTo>
                <a:lnTo>
                  <a:pt x="11712" y="18293"/>
                </a:lnTo>
                <a:lnTo>
                  <a:pt x="21225" y="18293"/>
                </a:lnTo>
                <a:cubicBezTo>
                  <a:pt x="21432" y="18293"/>
                  <a:pt x="21600" y="17883"/>
                  <a:pt x="21600" y="17377"/>
                </a:cubicBezTo>
                <a:lnTo>
                  <a:pt x="21600" y="916"/>
                </a:lnTo>
                <a:cubicBezTo>
                  <a:pt x="21600" y="410"/>
                  <a:pt x="21432" y="0"/>
                  <a:pt x="21225" y="0"/>
                </a:cubicBezTo>
                <a:lnTo>
                  <a:pt x="375" y="0"/>
                </a:lnTo>
                <a:close/>
              </a:path>
            </a:pathLst>
          </a:cu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3269160" y="8534880"/>
            <a:ext cx="6960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three primary exceptions to the general case (1)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0" name="AutoShape 3"/>
          <p:cNvSpPr/>
          <p:nvPr/>
        </p:nvSpPr>
        <p:spPr>
          <a:xfrm>
            <a:off x="2844720" y="33526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Countdown Tim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92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978207C-D667-43C5-822D-5C5F39371E8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4086000" y="2247840"/>
            <a:ext cx="467424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 seconds lef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4" name="Line 4"/>
          <p:cNvSpPr/>
          <p:nvPr/>
        </p:nvSpPr>
        <p:spPr>
          <a:xfrm>
            <a:off x="2809800" y="3289320"/>
            <a:ext cx="858960" cy="15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250560" y="3034080"/>
            <a:ext cx="25711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use </a:t>
            </a:r>
            <a:r>
              <a:rPr b="0" lang="en-US" sz="2000" spc="-1" strike="noStrike">
                <a:solidFill>
                  <a:srgbClr val="0076ba"/>
                </a:solidFill>
                <a:latin typeface="Courier New"/>
                <a:ea typeface="Courier New"/>
              </a:rPr>
              <a:t>time.sleep(1)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r item in range(5):…"/>
          <p:cNvSpPr/>
          <p:nvPr/>
        </p:nvSpPr>
        <p:spPr>
          <a:xfrm>
            <a:off x="990720" y="1720800"/>
            <a:ext cx="7493040" cy="73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for </a:t>
            </a:r>
            <a:r>
              <a:rPr b="1" lang="en-US" sz="3200" spc="-1" strike="noStrike">
                <a:solidFill>
                  <a:srgbClr val="ff0000"/>
                </a:solidFill>
                <a:latin typeface="Menlo"/>
                <a:ea typeface="Menlo"/>
              </a:rPr>
              <a:t>item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 in </a:t>
            </a:r>
            <a:r>
              <a:rPr b="1" lang="en-US" sz="3200" spc="-1" strike="noStrike">
                <a:solidFill>
                  <a:srgbClr val="ff0000"/>
                </a:solidFill>
                <a:latin typeface="Menlo"/>
                <a:ea typeface="Menlo"/>
              </a:rPr>
              <a:t>range(5)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: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print(item * 3)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for with rang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98" name="Output:…"/>
          <p:cNvSpPr/>
          <p:nvPr/>
        </p:nvSpPr>
        <p:spPr>
          <a:xfrm>
            <a:off x="9335160" y="1738440"/>
            <a:ext cx="128952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Output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9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9" name="Connection Line"/>
          <p:cNvSpPr/>
          <p:nvPr/>
        </p:nvSpPr>
        <p:spPr>
          <a:xfrm>
            <a:off x="5745240" y="3262320"/>
            <a:ext cx="1965240" cy="2492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988" y="14600"/>
                  <a:pt x="13788" y="7400"/>
                  <a:pt x="0" y="0"/>
                </a:cubicBezTo>
              </a:path>
            </a:pathLst>
          </a:custGeom>
          <a:noFill/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0" name="using range(N) with a for loop will…"/>
          <p:cNvSpPr/>
          <p:nvPr/>
        </p:nvSpPr>
        <p:spPr>
          <a:xfrm>
            <a:off x="5581080" y="5851800"/>
            <a:ext cx="49456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using </a:t>
            </a:r>
            <a:r>
              <a:rPr b="0" lang="en-US" sz="2400" spc="-1" strike="noStrike">
                <a:solidFill>
                  <a:srgbClr val="ff0000"/>
                </a:solidFill>
                <a:latin typeface="Menlo"/>
                <a:ea typeface="Menlo"/>
              </a:rPr>
              <a:t>range(N)</a:t>
            </a: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 with a </a:t>
            </a:r>
            <a:r>
              <a:rPr b="0" lang="en-US" sz="2400" spc="-1" strike="noStrike">
                <a:solidFill>
                  <a:srgbClr val="ff0000"/>
                </a:solidFill>
                <a:latin typeface="Menlo"/>
                <a:ea typeface="Menlo"/>
              </a:rPr>
              <a:t>for</a:t>
            </a: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 loop will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iterate with these values for item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Helvetica Neue"/>
              </a:rPr>
              <a:t>0, 1, 2, …, N-2, N-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Maximum (Finding the Peak)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2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2A36BDC-55A0-4BCB-82E4-7B4EAA984E0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03" name="Picture 3" descr=""/>
          <p:cNvPicPr/>
          <p:nvPr/>
        </p:nvPicPr>
        <p:blipFill>
          <a:blip r:embed="rId1"/>
          <a:stretch/>
        </p:blipFill>
        <p:spPr>
          <a:xfrm>
            <a:off x="2374920" y="1860480"/>
            <a:ext cx="8255160" cy="673092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4"/>
          <p:cNvSpPr/>
          <p:nvPr/>
        </p:nvSpPr>
        <p:spPr>
          <a:xfrm>
            <a:off x="4561560" y="6585480"/>
            <a:ext cx="388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Helvetica Neue"/>
              </a:rPr>
              <a:t>where does this curve peak?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Integration (Riemann Sum)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CCDF42A-4ECF-48BF-A202-6D32568EA17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pic>
        <p:nvPicPr>
          <p:cNvPr id="307" name="Picture 2" descr="Chart&#10;&#10;Description automatically generated"/>
          <p:cNvPicPr/>
          <p:nvPr/>
        </p:nvPicPr>
        <p:blipFill>
          <a:blip r:embed="rId1"/>
          <a:stretch/>
        </p:blipFill>
        <p:spPr>
          <a:xfrm>
            <a:off x="790560" y="1155600"/>
            <a:ext cx="11074320" cy="797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47880" y="649440"/>
            <a:ext cx="1109952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Example: Prime Find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09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7BD3907-8A67-41F4-AC55-2A6D563488F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2808360" y="2934720"/>
            <a:ext cx="3174480" cy="49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Prime numbers: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2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3 is prime 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4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5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6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7 is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8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9 is not prime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enlo"/>
                <a:ea typeface="Menlo"/>
              </a:rPr>
              <a:t>…</a:t>
            </a:r>
            <a:endParaRPr b="1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Checkers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12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4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5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7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Bord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19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1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2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4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Practice: Snak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26" name="Text Box 2"/>
          <p:cNvSpPr/>
          <p:nvPr/>
        </p:nvSpPr>
        <p:spPr>
          <a:xfrm>
            <a:off x="1536840" y="186624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  <a:ea typeface="Gill Sans"/>
              </a:rPr>
              <a:t>write a loop to draw the following: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4621680" y="2837880"/>
            <a:ext cx="3759840" cy="59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  <a:ea typeface="Gill Sans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8" name="Line 4"/>
          <p:cNvSpPr/>
          <p:nvPr/>
        </p:nvSpPr>
        <p:spPr>
          <a:xfrm>
            <a:off x="4127400" y="876924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29" name="Line 5"/>
          <p:cNvSpPr/>
          <p:nvPr/>
        </p:nvSpPr>
        <p:spPr>
          <a:xfrm>
            <a:off x="8480520" y="2771640"/>
            <a:ext cx="0" cy="570708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5742720" y="89438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1" name="Text Box 7"/>
          <p:cNvSpPr/>
          <p:nvPr/>
        </p:nvSpPr>
        <p:spPr>
          <a:xfrm rot="16200000">
            <a:off x="8297640" y="609624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  <a:ea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hallenge: Countdown Timer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595044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44ACD5A-E70A-4C8D-A9D8-74BBF5480B4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4164480" y="2247840"/>
            <a:ext cx="467424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ING DING DING DING DING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ow many seconds? </a:t>
            </a:r>
            <a:r>
              <a:rPr b="1" lang="en-US" sz="2400" spc="-1" strike="noStrike">
                <a:solidFill>
                  <a:srgbClr val="ff9300"/>
                </a:solidFill>
                <a:latin typeface="Courier New"/>
                <a:ea typeface="Courier New"/>
              </a:rPr>
              <a:t>q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ood bye!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2809800" y="3289320"/>
            <a:ext cx="858960" cy="150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250560" y="3034080"/>
            <a:ext cx="25711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use </a:t>
            </a:r>
            <a:r>
              <a:rPr b="0" lang="en-US" sz="2000" spc="-1" strike="noStrike">
                <a:solidFill>
                  <a:srgbClr val="0076ba"/>
                </a:solidFill>
                <a:latin typeface="Courier New"/>
                <a:ea typeface="Courier New"/>
              </a:rPr>
              <a:t>time.sleep(1)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7" name="Text Box 6"/>
          <p:cNvSpPr/>
          <p:nvPr/>
        </p:nvSpPr>
        <p:spPr>
          <a:xfrm>
            <a:off x="8960400" y="7238160"/>
            <a:ext cx="1661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Neue"/>
              </a:rPr>
              <a:t>exit program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8" name="Line 7"/>
          <p:cNvSpPr/>
          <p:nvPr/>
        </p:nvSpPr>
        <p:spPr>
          <a:xfrm flipH="1" flipV="1">
            <a:off x="7808400" y="7008840"/>
            <a:ext cx="1148040" cy="380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3831480" y="8495280"/>
            <a:ext cx="5340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Helvetica Neue"/>
              </a:rPr>
              <a:t>this program should involve a nested loop!!!</a:t>
            </a:r>
            <a:endParaRPr b="1" lang="en-US" sz="20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171880" y="7016760"/>
            <a:ext cx="2314440" cy="457200"/>
          </a:xfrm>
          <a:prstGeom prst="rect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283840" y="8034480"/>
            <a:ext cx="8435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Combination of conditionally skipping forward (2) with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going back is (5) is called a “while loop”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8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5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668160" y="7270920"/>
            <a:ext cx="1306800" cy="1299960"/>
          </a:xfrm>
          <a:custGeom>
            <a:avLst/>
            <a:gdLst/>
            <a:ahLst/>
            <a:rect l="l" t="t" r="r" b="b"/>
            <a:pathLst>
              <a:path w="16320" h="21600">
                <a:moveTo>
                  <a:pt x="16320" y="21600"/>
                </a:moveTo>
                <a:cubicBezTo>
                  <a:pt x="-3575" y="12517"/>
                  <a:pt x="-5280" y="5317"/>
                  <a:pt x="11206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1789560" y="8252640"/>
            <a:ext cx="10718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going back will be implicit in Python and will happen right after loop body.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you can identify the loop body because it will be indented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52200" y="76320"/>
            <a:ext cx="11099880" cy="72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01480"/>
                <a:tab algn="l" pos="1003320"/>
                <a:tab algn="l" pos="1504800"/>
                <a:tab algn="l" pos="2006640"/>
                <a:tab algn="l" pos="2508120"/>
                <a:tab algn="l" pos="3009960"/>
                <a:tab algn="l" pos="3511440"/>
                <a:tab algn="l" pos="4013280"/>
                <a:tab algn="l" pos="4514760"/>
                <a:tab algn="l" pos="5016600"/>
                <a:tab algn="l" pos="5518080"/>
                <a:tab algn="l" pos="6019920"/>
                <a:tab algn="l" pos="6521400"/>
                <a:tab algn="l" pos="7023240"/>
                <a:tab algn="l" pos="7524720"/>
                <a:tab algn="l" pos="8026560"/>
                <a:tab algn="l" pos="8528040"/>
                <a:tab algn="l" pos="9029880"/>
                <a:tab algn="l" pos="9531360"/>
                <a:tab algn="l" pos="1003284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Helvetica Neue Medium"/>
              </a:rPr>
              <a:t>Worksheet</a:t>
            </a:r>
            <a:endParaRPr b="0" lang="en-US" sz="4100" spc="-1" strike="noStrike">
              <a:solidFill>
                <a:srgbClr val="000000"/>
              </a:solidFill>
              <a:latin typeface="Helvetica Neue Medium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098720" y="901800"/>
            <a:ext cx="11620440" cy="70736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2171880" y="5403960"/>
            <a:ext cx="2314440" cy="457200"/>
          </a:xfrm>
          <a:prstGeom prst="rect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1549440" y="5873760"/>
            <a:ext cx="9482040" cy="15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45" y="0"/>
                </a:moveTo>
                <a:cubicBezTo>
                  <a:pt x="65" y="0"/>
                  <a:pt x="0" y="400"/>
                  <a:pt x="0" y="894"/>
                </a:cubicBezTo>
                <a:lnTo>
                  <a:pt x="0" y="15143"/>
                </a:lnTo>
                <a:cubicBezTo>
                  <a:pt x="0" y="15637"/>
                  <a:pt x="65" y="16038"/>
                  <a:pt x="145" y="16038"/>
                </a:cubicBezTo>
                <a:lnTo>
                  <a:pt x="19232" y="16038"/>
                </a:lnTo>
                <a:lnTo>
                  <a:pt x="19521" y="21600"/>
                </a:lnTo>
                <a:lnTo>
                  <a:pt x="19810" y="16038"/>
                </a:lnTo>
                <a:lnTo>
                  <a:pt x="21455" y="16038"/>
                </a:lnTo>
                <a:cubicBezTo>
                  <a:pt x="21535" y="16038"/>
                  <a:pt x="21600" y="15637"/>
                  <a:pt x="21600" y="15143"/>
                </a:cubicBezTo>
                <a:lnTo>
                  <a:pt x="21600" y="894"/>
                </a:lnTo>
                <a:cubicBezTo>
                  <a:pt x="21600" y="400"/>
                  <a:pt x="21535" y="0"/>
                  <a:pt x="21455" y="0"/>
                </a:cubicBezTo>
                <a:lnTo>
                  <a:pt x="145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9437400" y="7467840"/>
            <a:ext cx="1595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4250880" y="4293000"/>
            <a:ext cx="2292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Helvetica Neue"/>
              </a:rPr>
              <a:t>loop condition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4" name="Line 7"/>
          <p:cNvSpPr/>
          <p:nvPr/>
        </p:nvSpPr>
        <p:spPr>
          <a:xfrm flipV="1">
            <a:off x="3746520" y="4700160"/>
            <a:ext cx="834840" cy="70164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5" name="AutoShape 8"/>
          <p:cNvSpPr/>
          <p:nvPr/>
        </p:nvSpPr>
        <p:spPr>
          <a:xfrm>
            <a:off x="668160" y="7270920"/>
            <a:ext cx="1306800" cy="1299960"/>
          </a:xfrm>
          <a:custGeom>
            <a:avLst/>
            <a:gdLst/>
            <a:ahLst/>
            <a:rect l="l" t="t" r="r" b="b"/>
            <a:pathLst>
              <a:path w="16320" h="21600">
                <a:moveTo>
                  <a:pt x="16320" y="21600"/>
                </a:moveTo>
                <a:cubicBezTo>
                  <a:pt x="-3575" y="12517"/>
                  <a:pt x="-5280" y="5317"/>
                  <a:pt x="11206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1789560" y="8252640"/>
            <a:ext cx="10718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going back will be implicit in Python and will happen right after loop body.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you can identify the loop body because it will be indented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7" name="Text Box 10"/>
          <p:cNvSpPr/>
          <p:nvPr/>
        </p:nvSpPr>
        <p:spPr>
          <a:xfrm rot="20711400">
            <a:off x="6030000" y="4732200"/>
            <a:ext cx="2880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skip past 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18" name="Text Box 11"/>
          <p:cNvSpPr/>
          <p:nvPr/>
        </p:nvSpPr>
        <p:spPr>
          <a:xfrm rot="20711400">
            <a:off x="8872560" y="4657320"/>
            <a:ext cx="3243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Helvetica Neue"/>
              </a:rPr>
              <a:t>continue to loop body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Helvetica Neue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Basic syntax for “while”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Helvetica Neue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1" name="AutoShape 3"/>
          <p:cNvSpPr/>
          <p:nvPr/>
        </p:nvSpPr>
        <p:spPr>
          <a:xfrm>
            <a:off x="5423040" y="13111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elvetica Neue Medium"/>
              </a:rPr>
              <a:t>Control Flow Diagrams: “if”</a:t>
            </a:r>
            <a:endParaRPr b="0" lang="en-US" sz="48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= float(x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x &lt; 0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the square root: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math.sqrt(x)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need a positive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29" name="Line 8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7538400" y="5183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4627440" y="5183640"/>
            <a:ext cx="87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Helvetica Neue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 Medium"/>
                <a:ea typeface="Helvetica Neue Medium"/>
              </a:rPr>
              <a:t>print(“exiting”)</a:t>
            </a:r>
            <a:endParaRPr b="1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4792680" y="7189920"/>
            <a:ext cx="704880" cy="10270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34" name="Line 13"/>
          <p:cNvSpPr/>
          <p:nvPr/>
        </p:nvSpPr>
        <p:spPr>
          <a:xfrm flipH="1">
            <a:off x="7481520" y="7153200"/>
            <a:ext cx="453960" cy="106380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1-24T01:21:58Z</dcterms:modified>
  <cp:revision>43</cp:revision>
  <dc:subject/>
  <dc:title>[220] Iteration</dc:title>
</cp:coreProperties>
</file>