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50C36-AE43-4DB8-A1CE-DBBB998679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1CFA0-3A90-415D-BB65-D8CFD4C05E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95062-F9D0-4B19-8C08-801C67A512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AD45-50F9-459C-93C6-15D67442A7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DA4A-C66D-4D12-8B85-EB89CB821A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1A1D5-BA8A-404D-9BB7-AEA3CC34A4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E8E31-3747-4103-B095-666ED93A2D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CFB9-EB45-4284-8B34-E04491DB5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20ED-76FB-41AB-9DC4-5E6FE93CC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DB335-E79A-4799-8DB1-E85B86D71F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F7D4-0AEF-4859-A6FD-1DD7DB5DD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C7719-F42A-4B6D-BFF5-99D8416964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E3A513-57B5-486C-91C2-029090BAC4EE}" type="slidenum">
              <a:rPr b="0" lang="en-US" sz="1600" spc="-1" strike="noStrike">
                <a:solidFill>
                  <a:srgbClr val="000000"/>
                </a:solidFill>
                <a:latin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utomatetheboringstuff.com/chapter2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6/" TargetMode="Externa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1937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Iteration 2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Text Box 3"/>
          <p:cNvSpPr/>
          <p:nvPr/>
        </p:nvSpPr>
        <p:spPr>
          <a:xfrm>
            <a:off x="342720" y="7806960"/>
            <a:ext cx="65808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Sweigart book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1495160" y="8000280"/>
            <a:ext cx="2012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222640" y="48895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2197080" y="267984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AutoShape 5"/>
          <p:cNvSpPr/>
          <p:nvPr/>
        </p:nvSpPr>
        <p:spPr>
          <a:xfrm>
            <a:off x="2146320" y="336060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2311560" y="414972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0269000" y="1742400"/>
            <a:ext cx="1202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2336760" y="48862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10269000" y="1743120"/>
            <a:ext cx="120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269000" y="1743120"/>
            <a:ext cx="12024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 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AutoShape 10"/>
          <p:cNvSpPr/>
          <p:nvPr/>
        </p:nvSpPr>
        <p:spPr>
          <a:xfrm>
            <a:off x="2336760" y="272736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2322000" y="8225640"/>
            <a:ext cx="8359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2: knowing that certain code is written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nd again, look for common patterns to break it 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&lt;= 30</a:t>
            </a: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680920" y="8409600"/>
            <a:ext cx="7641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oop will run with values of i of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 to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7234920" y="351360"/>
            <a:ext cx="5289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xperienced coders will focus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on everything about “i”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ecause that is in the loop condi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089360" y="8409600"/>
            <a:ext cx="1082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bservat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ighlighted code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30 time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with i values of 1 through 3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ing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ff9300"/>
                </a:solidFill>
                <a:latin typeface="Menlo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Use cas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ed loops trac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eraction with break/continu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7721640" y="1682640"/>
            <a:ext cx="4475160" cy="7635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7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7721640" y="2879640"/>
            <a:ext cx="4475160" cy="112896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Chapter 2 of Sweigar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(great recap so far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7" name="Picture 5" descr=""/>
          <p:cNvPicPr/>
          <p:nvPr/>
        </p:nvPicPr>
        <p:blipFill>
          <a:blip r:embed="rId1"/>
          <a:stretch/>
        </p:blipFill>
        <p:spPr>
          <a:xfrm>
            <a:off x="8642520" y="4672080"/>
            <a:ext cx="2631960" cy="3475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>
            <a:hlinkClick r:id="rId2"/>
          </p:cNvPr>
          <p:cNvSpPr/>
          <p:nvPr/>
        </p:nvSpPr>
        <p:spPr>
          <a:xfrm>
            <a:off x="5121720" y="8435520"/>
            <a:ext cx="718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a2ff"/>
                </a:solidFill>
                <a:uFillTx/>
                <a:latin typeface="Gill Sans"/>
              </a:rPr>
              <a:t>http://automatetheboringstuff.com/chapter2/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i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d6d5d5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3284280" y="8409600"/>
            <a:ext cx="6434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clusio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 code prints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, 4, 6, …, 58, 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000680" y="3619440"/>
            <a:ext cx="3768480" cy="1546200"/>
          </a:xfrm>
          <a:prstGeom prst="rect">
            <a:avLst/>
          </a:prstGeom>
          <a:noFill/>
          <a:ln w="507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0363680" y="200736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10363680" y="3124800"/>
            <a:ext cx="1748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10363680" y="4241880"/>
            <a:ext cx="17481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0364400" y="6096600"/>
            <a:ext cx="1931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 =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3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*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Line 10"/>
          <p:cNvSpPr/>
          <p:nvPr/>
        </p:nvSpPr>
        <p:spPr>
          <a:xfrm flipV="1">
            <a:off x="7835760" y="2511360"/>
            <a:ext cx="2343240" cy="14623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11"/>
          <p:cNvSpPr/>
          <p:nvPr/>
        </p:nvSpPr>
        <p:spPr>
          <a:xfrm flipV="1">
            <a:off x="7835760" y="3535200"/>
            <a:ext cx="2398680" cy="78120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2"/>
          <p:cNvSpPr/>
          <p:nvPr/>
        </p:nvSpPr>
        <p:spPr>
          <a:xfrm>
            <a:off x="7835760" y="4662360"/>
            <a:ext cx="2390760" cy="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3"/>
          <p:cNvSpPr/>
          <p:nvPr/>
        </p:nvSpPr>
        <p:spPr>
          <a:xfrm>
            <a:off x="7835760" y="5057640"/>
            <a:ext cx="2213280" cy="1325520"/>
          </a:xfrm>
          <a:prstGeom prst="line">
            <a:avLst/>
          </a:prstGeom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4"/>
          <p:cNvSpPr/>
          <p:nvPr/>
        </p:nvSpPr>
        <p:spPr>
          <a:xfrm>
            <a:off x="744120" y="2001960"/>
            <a:ext cx="1202400" cy="37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5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6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62044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 1: do </a:t>
            </a:r>
            <a:r>
              <a:rPr b="0" lang="en-US" sz="48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 N ti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4" name="Text Box 2"/>
          <p:cNvSpPr/>
          <p:nvPr/>
        </p:nvSpPr>
        <p:spPr>
          <a:xfrm>
            <a:off x="3386880" y="1604880"/>
            <a:ext cx="366840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=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3719520" y="28195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386880" y="5697360"/>
            <a:ext cx="3394080" cy="28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 =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i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&lt;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N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719520" y="6943680"/>
            <a:ext cx="6549840" cy="878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15040" y="2914200"/>
            <a:ext cx="1441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A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817920" y="7149960"/>
            <a:ext cx="143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ption B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630760" y="4641480"/>
            <a:ext cx="1742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, 2, 3, …, 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5495040" y="8592840"/>
            <a:ext cx="201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0, 1, 2, …, N-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AutoShape 5"/>
          <p:cNvSpPr/>
          <p:nvPr/>
        </p:nvSpPr>
        <p:spPr>
          <a:xfrm>
            <a:off x="6448320" y="768816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804640" y="851508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3800880" y="1519200"/>
            <a:ext cx="449136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N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164120" y="3289320"/>
            <a:ext cx="6549840" cy="996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AutoShape 5"/>
          <p:cNvSpPr/>
          <p:nvPr/>
        </p:nvSpPr>
        <p:spPr>
          <a:xfrm>
            <a:off x="6448320" y="8056440"/>
            <a:ext cx="782640" cy="811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2053" y="7894"/>
                  <a:pt x="9253" y="694"/>
                  <a:pt x="2160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5804640" y="8883360"/>
            <a:ext cx="1144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dex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42880"/>
                <a:tab algn="l" pos="1085760"/>
                <a:tab algn="l" pos="1628640"/>
                <a:tab algn="l" pos="2171880"/>
                <a:tab algn="l" pos="2714760"/>
                <a:tab algn="l" pos="3257640"/>
                <a:tab algn="l" pos="3800520"/>
                <a:tab algn="l" pos="4343400"/>
                <a:tab algn="l" pos="4886280"/>
                <a:tab algn="l" pos="5429160"/>
                <a:tab algn="l" pos="5972040"/>
                <a:tab algn="l" pos="6515280"/>
                <a:tab algn="l" pos="7058160"/>
                <a:tab algn="l" pos="7601040"/>
                <a:tab algn="l" pos="8143920"/>
                <a:tab algn="l" pos="8686800"/>
                <a:tab algn="l" pos="9229680"/>
                <a:tab algn="l" pos="9772560"/>
                <a:tab algn="l" pos="10315440"/>
                <a:tab algn="l" pos="108586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2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with all data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4030200" y="1519200"/>
            <a:ext cx="851472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0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count_rows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op = </a:t>
            </a:r>
            <a:r>
              <a:rPr b="0" lang="en-US" sz="4800" spc="-1" strike="noStrike">
                <a:solidFill>
                  <a:srgbClr val="0076ba"/>
                </a:solidFill>
                <a:latin typeface="Courier New"/>
                <a:ea typeface="Gill Sans"/>
              </a:rPr>
              <a:t>get_population(i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4164120" y="3852720"/>
            <a:ext cx="6549840" cy="1360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3049920" y="6991560"/>
            <a:ext cx="32400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unt_row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76ba"/>
                </a:solidFill>
                <a:latin typeface="Gill Sans"/>
              </a:rPr>
              <a:t>get_population(inde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357480" y="4460400"/>
            <a:ext cx="27889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assumes w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ff9300"/>
                </a:solidFill>
                <a:latin typeface="Gill Sans"/>
              </a:rPr>
              <a:t>use 0 for first row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6"/>
          <p:cNvSpPr/>
          <p:nvPr/>
        </p:nvSpPr>
        <p:spPr>
          <a:xfrm>
            <a:off x="1630440" y="2022480"/>
            <a:ext cx="1877760" cy="2403360"/>
          </a:xfrm>
          <a:custGeom>
            <a:avLst/>
            <a:gdLst/>
            <a:ahLst/>
            <a:rect l="l" t="t" r="r" b="b"/>
            <a:pathLst>
              <a:path w="21598" h="21600">
                <a:moveTo>
                  <a:pt x="0" y="21600"/>
                </a:moveTo>
                <a:cubicBezTo>
                  <a:pt x="-2" y="7436"/>
                  <a:pt x="7197" y="236"/>
                  <a:pt x="21598" y="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AutoShape 7"/>
          <p:cNvSpPr/>
          <p:nvPr/>
        </p:nvSpPr>
        <p:spPr>
          <a:xfrm>
            <a:off x="2867040" y="5415120"/>
            <a:ext cx="4281480" cy="2166840"/>
          </a:xfrm>
          <a:custGeom>
            <a:avLst/>
            <a:gdLst/>
            <a:ahLst/>
            <a:rect l="l" t="t" r="r" b="b"/>
            <a:pathLst>
              <a:path w="21348" h="21600">
                <a:moveTo>
                  <a:pt x="7" y="0"/>
                </a:moveTo>
                <a:cubicBezTo>
                  <a:pt x="-252" y="5374"/>
                  <a:pt x="6862" y="12574"/>
                  <a:pt x="21348" y="21600"/>
                </a:cubicBezTo>
              </a:path>
            </a:pathLst>
          </a:custGeom>
          <a:noFill/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7264440" y="7061040"/>
          <a:ext cx="5334120" cy="2184480"/>
        </p:xfrm>
        <a:graphic>
          <a:graphicData uri="http://schemas.openxmlformats.org/drawingml/2006/table">
            <a:tbl>
              <a:tblPr/>
              <a:tblGrid>
                <a:gridCol w="1778040"/>
                <a:gridCol w="1778040"/>
                <a:gridCol w="1778040"/>
              </a:tblGrid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Stat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Populati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Gill Sans"/>
                        </a:rPr>
                        <a:t>Are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004d80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WI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79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CA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39.5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M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5.577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704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b8b8b8"/>
                      </a:solidFill>
                    </a:lnL>
                    <a:lnR w="5760">
                      <a:solidFill>
                        <a:srgbClr val="b8b8b8"/>
                      </a:solidFill>
                    </a:lnR>
                    <a:lnT w="5760">
                      <a:solidFill>
                        <a:srgbClr val="b8b8b8"/>
                      </a:solidFill>
                    </a:lnT>
                    <a:lnB w="5760">
                      <a:solidFill>
                        <a:srgbClr val="b8b8b8"/>
                      </a:solidFill>
                    </a:lnB>
                    <a:solidFill>
                      <a:srgbClr val="e3e5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Design Pattern 3: do </a:t>
            </a:r>
            <a:r>
              <a:rPr b="0" lang="en-US" sz="4400" spc="-1" strike="noStrike">
                <a:solidFill>
                  <a:srgbClr val="ff9300"/>
                </a:solidFill>
                <a:latin typeface="Gill Sans SemiBold"/>
              </a:rPr>
              <a:t>something</a:t>
            </a:r>
            <a:r>
              <a:rPr b="0" lang="en-US" sz="4400" spc="-1" strike="noStrike">
                <a:solidFill>
                  <a:srgbClr val="000000"/>
                </a:solidFill>
                <a:latin typeface="Gill Sans SemiBold"/>
              </a:rPr>
              <a:t> until the end</a:t>
            </a:r>
            <a:endParaRPr b="0" lang="en-US" sz="44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4" name="Text Box 2"/>
          <p:cNvSpPr/>
          <p:nvPr/>
        </p:nvSpPr>
        <p:spPr>
          <a:xfrm>
            <a:off x="4067640" y="2421000"/>
            <a:ext cx="632016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</a:rPr>
              <a:t>has_more()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data = </a:t>
            </a:r>
            <a:r>
              <a:rPr b="0" lang="en-US" sz="4800" spc="-1" strike="noStrike">
                <a:solidFill>
                  <a:srgbClr val="ee220c"/>
                </a:solidFill>
                <a:latin typeface="Courier New"/>
                <a:ea typeface="Gill Sans"/>
              </a:rPr>
              <a:t>get_next(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151160" y="4127400"/>
            <a:ext cx="6550200" cy="99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9300"/>
                </a:solidFill>
                <a:latin typeface="Gill Sans SemiBold"/>
              </a:rPr>
              <a:t>fill in with specifics he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2164320" y="6561720"/>
            <a:ext cx="8674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eople creating functions/modules for other programm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o use will often have functions for checking if there is m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ata and for getting the data one piec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1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roblem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092240" y="1295280"/>
            <a:ext cx="6164280" cy="3038760"/>
          </a:xfrm>
          <a:prstGeom prst="rect">
            <a:avLst/>
          </a:prstGeom>
          <a:ln w="0">
            <a:noFill/>
          </a:ln>
        </p:spPr>
      </p:pic>
      <p:sp>
        <p:nvSpPr>
          <p:cNvPr id="253" name="TextBox 1"/>
          <p:cNvSpPr/>
          <p:nvPr/>
        </p:nvSpPr>
        <p:spPr>
          <a:xfrm>
            <a:off x="8977680" y="1905120"/>
            <a:ext cx="1901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untdow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8973000" y="4940280"/>
            <a:ext cx="122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7341120" y="2590920"/>
            <a:ext cx="354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59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1"/>
          <a:stretch/>
        </p:blipFill>
        <p:spPr>
          <a:xfrm>
            <a:off x="635040" y="533520"/>
            <a:ext cx="9193320" cy="5133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"/>
          <p:cNvSpPr/>
          <p:nvPr/>
        </p:nvSpPr>
        <p:spPr>
          <a:xfrm>
            <a:off x="7366320" y="2590920"/>
            <a:ext cx="766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    j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buClr>
                <a:srgbClr val="000000"/>
              </a:buClr>
              <a:buFont typeface="Gill Sans"/>
              <a:buAutoNum type="arabicPlain" startAt="3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   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Box 2"/>
          <p:cNvSpPr/>
          <p:nvPr/>
        </p:nvSpPr>
        <p:spPr>
          <a:xfrm>
            <a:off x="9783360" y="2406600"/>
            <a:ext cx="12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3"/>
          <p:cNvSpPr/>
          <p:nvPr/>
        </p:nvSpPr>
        <p:spPr>
          <a:xfrm>
            <a:off x="800280" y="3530520"/>
            <a:ext cx="2809800" cy="701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88" y="0"/>
                </a:moveTo>
                <a:cubicBezTo>
                  <a:pt x="219" y="0"/>
                  <a:pt x="0" y="875"/>
                  <a:pt x="0" y="1955"/>
                </a:cubicBezTo>
                <a:lnTo>
                  <a:pt x="0" y="19645"/>
                </a:lnTo>
                <a:cubicBezTo>
                  <a:pt x="0" y="20725"/>
                  <a:pt x="219" y="21600"/>
                  <a:pt x="488" y="21600"/>
                </a:cubicBezTo>
                <a:lnTo>
                  <a:pt x="12638" y="21600"/>
                </a:lnTo>
                <a:cubicBezTo>
                  <a:pt x="12907" y="21600"/>
                  <a:pt x="13126" y="20725"/>
                  <a:pt x="13126" y="19645"/>
                </a:cubicBezTo>
                <a:lnTo>
                  <a:pt x="13126" y="15198"/>
                </a:lnTo>
                <a:lnTo>
                  <a:pt x="21600" y="11301"/>
                </a:lnTo>
                <a:lnTo>
                  <a:pt x="13126" y="7391"/>
                </a:lnTo>
                <a:lnTo>
                  <a:pt x="13126" y="1955"/>
                </a:lnTo>
                <a:cubicBezTo>
                  <a:pt x="13126" y="875"/>
                  <a:pt x="12907" y="0"/>
                  <a:pt x="12638" y="0"/>
                </a:cubicBezTo>
                <a:lnTo>
                  <a:pt x="488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3357000" y="3668040"/>
            <a:ext cx="3901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Don’t get too excited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nly the loops get a break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11"/>
          <p:cNvSpPr/>
          <p:nvPr/>
        </p:nvSpPr>
        <p:spPr>
          <a:xfrm>
            <a:off x="3208320" y="8294760"/>
            <a:ext cx="65869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Just like </a:t>
            </a: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function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exits a loop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break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10"/>
          <p:cNvSpPr/>
          <p:nvPr/>
        </p:nvSpPr>
        <p:spPr>
          <a:xfrm>
            <a:off x="1087560" y="5481720"/>
            <a:ext cx="1431720" cy="1807920"/>
          </a:xfrm>
          <a:custGeom>
            <a:avLst/>
            <a:gdLst/>
            <a:ahLst/>
            <a:rect l="l" t="t" r="r" b="b"/>
            <a:pathLst>
              <a:path w="20509" h="21600">
                <a:moveTo>
                  <a:pt x="20509" y="0"/>
                </a:moveTo>
                <a:cubicBezTo>
                  <a:pt x="5698" y="11034"/>
                  <a:pt x="-1091" y="18234"/>
                  <a:pt x="142" y="21600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1975320" y="8375400"/>
            <a:ext cx="9052920" cy="772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when we’re searching through many things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Allows us to stop as soon as we find what we want.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Prime Search Program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answer whether a range of numbers contains a pr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art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nd of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Yes or no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4 to 16 =&gt; NO (because 14, 15, and 16 are all not prime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0 to 12 =&gt; YES (because 11 is prime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Line 3"/>
          <p:cNvSpPr/>
          <p:nvPr/>
        </p:nvSpPr>
        <p:spPr>
          <a:xfrm>
            <a:off x="5384880" y="4127400"/>
            <a:ext cx="5661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56793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63147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6"/>
          <p:cNvSpPr/>
          <p:nvPr/>
        </p:nvSpPr>
        <p:spPr>
          <a:xfrm>
            <a:off x="694908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75848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821916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88542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948924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16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10125000" y="4298760"/>
            <a:ext cx="44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1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" descr=""/>
          <p:cNvPicPr/>
          <p:nvPr/>
        </p:nvPicPr>
        <p:blipFill>
          <a:blip r:embed="rId1"/>
          <a:stretch/>
        </p:blipFill>
        <p:spPr>
          <a:xfrm>
            <a:off x="528480" y="609480"/>
            <a:ext cx="11947680" cy="4638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Box 5"/>
          <p:cNvSpPr/>
          <p:nvPr/>
        </p:nvSpPr>
        <p:spPr>
          <a:xfrm>
            <a:off x="8404920" y="4929120"/>
            <a:ext cx="122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ff9300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1658520" y="8162640"/>
            <a:ext cx="9686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Menlo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immediately stops current iteration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oes back to the condition, without executing the "more code part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tentially to start another ite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 (outside Programming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2610000" y="2152800"/>
            <a:ext cx="7785000" cy="2298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5671800" y="4641480"/>
            <a:ext cx="1661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[wikipedia]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685800" y="4863600"/>
            <a:ext cx="4173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body familiar with this structure might skip arou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2354400" y="3205800"/>
            <a:ext cx="4968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1s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327760" y="3615480"/>
            <a:ext cx="55044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3r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299680" y="4034520"/>
            <a:ext cx="606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"/>
              </a:rPr>
              <a:t>2nd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3836880" y="7352640"/>
            <a:ext cx="5329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re are many similarities between reading/writing code and essay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asic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 CONDITION: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2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…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mor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7"/>
          <p:cNvSpPr/>
          <p:nvPr/>
        </p:nvSpPr>
        <p:spPr>
          <a:xfrm>
            <a:off x="8667720" y="57420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8"/>
          <p:cNvSpPr/>
          <p:nvPr/>
        </p:nvSpPr>
        <p:spPr>
          <a:xfrm>
            <a:off x="1524600" y="307944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9"/>
          <p:cNvSpPr/>
          <p:nvPr/>
        </p:nvSpPr>
        <p:spPr>
          <a:xfrm>
            <a:off x="59040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AutoShape 10"/>
          <p:cNvSpPr/>
          <p:nvPr/>
        </p:nvSpPr>
        <p:spPr>
          <a:xfrm>
            <a:off x="4068720" y="2660760"/>
            <a:ext cx="1577880" cy="2763720"/>
          </a:xfrm>
          <a:custGeom>
            <a:avLst/>
            <a:gdLst/>
            <a:ahLst/>
            <a:rect l="l" t="t" r="r" b="b"/>
            <a:pathLst>
              <a:path w="16732" h="19226">
                <a:moveTo>
                  <a:pt x="0" y="19226"/>
                </a:moveTo>
                <a:cubicBezTo>
                  <a:pt x="18332" y="3761"/>
                  <a:pt x="21600" y="-2374"/>
                  <a:pt x="9805" y="821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Text Box 11"/>
          <p:cNvSpPr/>
          <p:nvPr/>
        </p:nvSpPr>
        <p:spPr>
          <a:xfrm>
            <a:off x="1739880" y="8544240"/>
            <a:ext cx="8329680" cy="437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</a:rPr>
              <a:t>Usage: </a:t>
            </a:r>
            <a:r>
              <a:rPr b="0" lang="en-US" sz="2200" spc="-1" strike="noStrike">
                <a:solidFill>
                  <a:srgbClr val="ffffff"/>
                </a:solidFill>
                <a:latin typeface="Gill Sans"/>
              </a:rPr>
              <a:t>commonly used to skip over values we want to ignor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mo: Average Scor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Goal: keep a running average of user-provided scor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q” for quit (keep running until thi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core in the 0 to 100 rang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Outpu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635040" indent="-4446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compute average and print after each new numb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Exampl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:</a:t>
            </a:r>
            <a:br>
              <a:rPr sz="3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avg is 5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110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bad input, skipping!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nter a score (or q for exit): </a:t>
            </a:r>
            <a:r>
              <a:rPr b="1" lang="en-US" sz="2200" spc="-1" strike="noStrike">
                <a:solidFill>
                  <a:srgbClr val="000000"/>
                </a:solidFill>
                <a:latin typeface="Gill Sans"/>
              </a:rPr>
              <a:t>q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exiting</a:t>
            </a:r>
            <a:endParaRPr b="0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Rectangle 3"/>
          <p:cNvSpPr/>
          <p:nvPr/>
        </p:nvSpPr>
        <p:spPr>
          <a:xfrm>
            <a:off x="6743880" y="6807240"/>
            <a:ext cx="4668480" cy="957240"/>
          </a:xfrm>
          <a:prstGeom prst="rect">
            <a:avLst/>
          </a:prstGeom>
          <a:solidFill>
            <a:srgbClr val="f8ba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</a:rPr>
              <a:t>Twist: use “continue” to skip over inputs not in the 0 to 100 rang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Design Patter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Workshee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est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1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1"/>
          <a:stretch/>
        </p:blipFill>
        <p:spPr>
          <a:xfrm>
            <a:off x="482760" y="457200"/>
            <a:ext cx="12191760" cy="4152960"/>
          </a:xfrm>
          <a:prstGeom prst="rect">
            <a:avLst/>
          </a:prstGeom>
          <a:ln w="0">
            <a:noFill/>
          </a:ln>
        </p:spPr>
      </p:pic>
      <p:sp>
        <p:nvSpPr>
          <p:cNvPr id="364" name="TextBox 5"/>
          <p:cNvSpPr/>
          <p:nvPr/>
        </p:nvSpPr>
        <p:spPr>
          <a:xfrm>
            <a:off x="8384760" y="2133720"/>
            <a:ext cx="878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nu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Box 7"/>
          <p:cNvSpPr/>
          <p:nvPr/>
        </p:nvSpPr>
        <p:spPr>
          <a:xfrm>
            <a:off x="9762480" y="1763640"/>
            <a:ext cx="1619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ide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andwic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Box 9"/>
          <p:cNvSpPr/>
          <p:nvPr/>
        </p:nvSpPr>
        <p:spPr>
          <a:xfrm>
            <a:off x="8404920" y="4929120"/>
            <a:ext cx="1227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2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3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4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5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8346240" y="339696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many blocks are ther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5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AutoShape 5"/>
          <p:cNvSpPr/>
          <p:nvPr/>
        </p:nvSpPr>
        <p:spPr>
          <a:xfrm>
            <a:off x="5643720" y="4816440"/>
            <a:ext cx="3162240" cy="1076400"/>
          </a:xfrm>
          <a:custGeom>
            <a:avLst/>
            <a:gdLst/>
            <a:ahLst/>
            <a:rect l="l" t="t" r="r" b="b"/>
            <a:pathLst>
              <a:path w="21600" h="20455">
                <a:moveTo>
                  <a:pt x="0" y="20298"/>
                </a:moveTo>
                <a:cubicBezTo>
                  <a:pt x="13941" y="21600"/>
                  <a:pt x="21141" y="14834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8400600" y="3914280"/>
            <a:ext cx="2374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here does thi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jump back to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3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3048480" y="6733440"/>
            <a:ext cx="6908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2286000" y="194328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3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05560" y="3638520"/>
            <a:ext cx="3255840" cy="224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lnTo>
                  <a:pt x="21600" y="21600"/>
                </a:lnTo>
                <a:lnTo>
                  <a:pt x="21600" y="0"/>
                </a:lnTo>
                <a:lnTo>
                  <a:pt x="10421" y="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9148680" y="4120200"/>
            <a:ext cx="3011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tinue and brea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ways apply to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ner loop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7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continu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8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ested loop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Rectangle 2"/>
          <p:cNvSpPr/>
          <p:nvPr/>
        </p:nvSpPr>
        <p:spPr>
          <a:xfrm>
            <a:off x="2095560" y="2819520"/>
            <a:ext cx="5403960" cy="50148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2679840" y="3892680"/>
            <a:ext cx="4470120" cy="2759040"/>
          </a:xfrm>
          <a:prstGeom prst="rect">
            <a:avLst/>
          </a:prstGeom>
          <a:noFill/>
          <a:ln w="8892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3230640" y="5541840"/>
            <a:ext cx="3654360" cy="57312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AutoShape 5"/>
          <p:cNvSpPr/>
          <p:nvPr/>
        </p:nvSpPr>
        <p:spPr>
          <a:xfrm>
            <a:off x="1212840" y="5819760"/>
            <a:ext cx="1943280" cy="16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lnTo>
                  <a:pt x="0" y="0"/>
                </a:lnTo>
                <a:lnTo>
                  <a:pt x="0" y="21600"/>
                </a:lnTo>
                <a:lnTo>
                  <a:pt x="10292" y="21600"/>
                </a:lnTo>
              </a:path>
            </a:pathLst>
          </a:custGeom>
          <a:noFill/>
          <a:ln w="507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1586160" y="2192400"/>
            <a:ext cx="6411600" cy="66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A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B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CONDITION_C</a:t>
            </a: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3600" spc="-1" strike="noStrike">
                <a:solidFill>
                  <a:srgbClr val="ee220c"/>
                </a:solidFill>
                <a:latin typeface="Courier New"/>
              </a:rPr>
              <a:t>break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  </a:t>
            </a: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more code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d6d5d5"/>
                </a:solidFill>
                <a:latin typeface="Courier New"/>
              </a:rPr>
              <a:t># code outside any loop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>
            <a:off x="6941520" y="8996400"/>
            <a:ext cx="628524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ts val="4099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3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6/</a:t>
            </a:r>
            <a:endParaRPr b="1" lang="en-US" sz="23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4424040"/>
            <a:ext cx="11099880" cy="9032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orksheet Problem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AutoShape 5"/>
          <p:cNvSpPr/>
          <p:nvPr/>
        </p:nvSpPr>
        <p:spPr>
          <a:xfrm>
            <a:off x="2286000" y="2666880"/>
            <a:ext cx="127008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2349360" y="3454560"/>
            <a:ext cx="1270080" cy="1269720"/>
          </a:xfrm>
          <a:prstGeom prst="rightArrow">
            <a:avLst>
              <a:gd name="adj1" fmla="val 32000"/>
              <a:gd name="adj2" fmla="val 64018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Design Patter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3890160" y="2103480"/>
            <a:ext cx="5222880" cy="37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i 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while i &lt;= 30: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n = i * 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print(n)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i += 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2853000" y="6733440"/>
            <a:ext cx="7297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hen you ask a programmer what a piece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es, what do they look at, and in what order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2665440" y="8408880"/>
            <a:ext cx="7671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ay 1: walk through in order (never a bad option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2400480" y="4241880"/>
            <a:ext cx="1269720" cy="12700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8674200" y="44460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8200440" y="47916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i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8674200" y="1079640"/>
            <a:ext cx="3309840" cy="538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8200440" y="1114200"/>
            <a:ext cx="285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33:40Z</dcterms:modified>
  <cp:revision>26</cp:revision>
  <dc:subject/>
  <dc:title>[220] Iteration 2</dc:title>
</cp:coreProperties>
</file>