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2A5E-27BF-4B78-A813-4A72722E33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3A03-B3D0-4297-918D-FC6F2D7CD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716DD-6985-4AB0-B8B1-764587BF9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6935A-5DDD-4604-91F5-E276041096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31A56-78A7-4732-9CE1-590B6AD951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981CB-B260-494B-84C1-7F6E3367B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9915A-07A5-452E-921E-52B61D878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75A58-7419-4B1B-82F0-2BA9788B99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F42E6-FB40-4E7D-ADE3-F116CB65A4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46E79-79EE-45FA-91A7-9787B53E0B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127D7-C6D2-4F47-9B82-B69C69F12A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FBDA2-5D63-4A48-B0EB-EC4101A14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2239C04-EDE9-44E8-8608-A9FFA8F50607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hyperlink" Target="https://www.python.org/dev/peps/pep-3131" TargetMode="External"/><Relationship Id="rId2" Type="http://schemas.openxmlformats.org/officeDocument/2006/relationships/hyperlink" Target="https://www.python.org/dev/peps/pep-0008/" TargetMode="Externa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227340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[220 / 319] Variables</a:t>
            </a:r>
            <a:br>
              <a:rPr sz="8000"/>
            </a:br>
            <a:r>
              <a:rPr b="0" lang="en-US" sz="8000" spc="-1" strike="noStrike">
                <a:solidFill>
                  <a:srgbClr val="000000"/>
                </a:solidFill>
                <a:latin typeface="Gill Sans"/>
                <a:ea typeface="Gill Sans"/>
              </a:rPr>
              <a:t>and Expression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625760" y="5540400"/>
            <a:ext cx="10464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2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3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0880640" y="8244720"/>
            <a:ext cx="148176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Due: </a:t>
            </a: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P1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9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Oval 137"/>
          <p:cNvSpPr/>
          <p:nvPr/>
        </p:nvSpPr>
        <p:spPr>
          <a:xfrm>
            <a:off x="9524880" y="3143160"/>
            <a:ext cx="435240" cy="4352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Oval 138"/>
          <p:cNvSpPr/>
          <p:nvPr/>
        </p:nvSpPr>
        <p:spPr>
          <a:xfrm>
            <a:off x="9334440" y="3816360"/>
            <a:ext cx="434880" cy="434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Oval 139"/>
          <p:cNvSpPr/>
          <p:nvPr/>
        </p:nvSpPr>
        <p:spPr>
          <a:xfrm>
            <a:off x="9516960" y="4586400"/>
            <a:ext cx="298440" cy="29988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140"/>
          <p:cNvSpPr/>
          <p:nvPr/>
        </p:nvSpPr>
        <p:spPr>
          <a:xfrm>
            <a:off x="11048040" y="3769920"/>
            <a:ext cx="17787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0 - -2 // 3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1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Text Box 137"/>
          <p:cNvSpPr/>
          <p:nvPr/>
        </p:nvSpPr>
        <p:spPr>
          <a:xfrm>
            <a:off x="1018440" y="8421120"/>
            <a:ext cx="705456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1+1==2 or 3 ** 10000000 &gt; 2 ** 2000000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Oval 138"/>
          <p:cNvSpPr/>
          <p:nvPr/>
        </p:nvSpPr>
        <p:spPr>
          <a:xfrm>
            <a:off x="6108840" y="5632560"/>
            <a:ext cx="1628640" cy="2409840"/>
          </a:xfrm>
          <a:prstGeom prst="ellipse">
            <a:avLst/>
          </a:prstGeom>
          <a:noFill/>
          <a:ln w="25560">
            <a:solidFill>
              <a:srgbClr val="ff2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139"/>
          <p:cNvSpPr/>
          <p:nvPr/>
        </p:nvSpPr>
        <p:spPr>
          <a:xfrm>
            <a:off x="8644320" y="8111520"/>
            <a:ext cx="26488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logical operato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can "short circuit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AutoShape 3"/>
          <p:cNvSpPr/>
          <p:nvPr/>
        </p:nvSpPr>
        <p:spPr>
          <a:xfrm>
            <a:off x="7810560" y="23144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5 + 5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8/2) ** 2 * 3.1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&gt; 4 + 4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% 2 == 0 or 3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024280" y="7728480"/>
            <a:ext cx="8955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ach of these operands is an example of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literal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a fixed val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119844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1000"/>
          </a:bodyPr>
          <a:p>
            <a:pPr marL="3463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 expressions by identifying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perators and operand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literal values and variab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rrect order of operation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rrect Boolean expression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ntaining Boolean operators “or” and “and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assignment state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ith variables following proper naming rul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efine, give examples of, and identify 3 kinds of erro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yntax, runtime, and semantic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463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Write code to perform computations with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-2426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ing, and bool type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50960" indent="0">
              <a:buNone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Expression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re a mix of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and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nds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.  For examp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328840" y="2293920"/>
            <a:ext cx="8345520" cy="4883040"/>
          </a:xfrm>
          <a:prstGeom prst="rect">
            <a:avLst/>
          </a:prstGeom>
          <a:solidFill>
            <a:srgbClr val="88fa4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Quick Test!  Circle th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literal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 (others are </a:t>
            </a:r>
            <a:r>
              <a:rPr b="0" lang="en-US" sz="2200" spc="-1" strike="noStrike">
                <a:solidFill>
                  <a:srgbClr val="ee220c"/>
                </a:solidFill>
                <a:latin typeface="Gill Sans SemiBold"/>
                <a:ea typeface="Gill Sans SemiBold"/>
              </a:rPr>
              <a:t>variables</a:t>
            </a:r>
            <a:r>
              <a:rPr b="0" lang="en-US" sz="22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)</a:t>
            </a: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2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zer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num1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Tru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hello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3" marL="3611520" indent="-436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Gill Sans SemiBold"/>
              <a:buAutoNum type="arabicPeriod"/>
              <a:tabLst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SemiBold"/>
                <a:ea typeface="Gill Sans SemiBold"/>
              </a:rPr>
              <a:t>"goodbye"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5473800" y="3251160"/>
            <a:ext cx="2841480" cy="54756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AutoShape 5"/>
          <p:cNvSpPr/>
          <p:nvPr/>
        </p:nvSpPr>
        <p:spPr>
          <a:xfrm>
            <a:off x="5473800" y="472428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AutoShape 6"/>
          <p:cNvSpPr/>
          <p:nvPr/>
        </p:nvSpPr>
        <p:spPr>
          <a:xfrm>
            <a:off x="5473800" y="5689440"/>
            <a:ext cx="2841480" cy="547920"/>
          </a:xfrm>
          <a:prstGeom prst="roundRect">
            <a:avLst>
              <a:gd name="adj" fmla="val 34736"/>
            </a:avLst>
          </a:prstGeom>
          <a:noFill/>
          <a:ln w="381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849120" y="8692920"/>
            <a:ext cx="53053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do we put a value in a variable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3287520" y="7728480"/>
            <a:ext cx="6428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n operand may also be a </a:t>
            </a:r>
            <a:r>
              <a:rPr b="0" i="1" lang="en-US" sz="2400" spc="-1" strike="noStrike">
                <a:solidFill>
                  <a:srgbClr val="ff9300"/>
                </a:solidFill>
                <a:latin typeface="Gill Sans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: not fix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bigger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Line 3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-6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903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5168880" y="16923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2255760" y="5126040"/>
            <a:ext cx="1176480" cy="48564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Assignment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52200" y="1587600"/>
            <a:ext cx="11099880" cy="5433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ssignmen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computes an expression (maybe a simple one) and puts the result in a variabl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total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area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(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diameter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/2) ** 2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pi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bigger 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*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1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&gt;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value2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s_even_or_odd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=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0 or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u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% 2 == 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723960" y="5975280"/>
            <a:ext cx="3052800" cy="6224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87160" y="6838560"/>
            <a:ext cx="1367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ariabl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Line 5"/>
          <p:cNvSpPr/>
          <p:nvPr/>
        </p:nvSpPr>
        <p:spPr>
          <a:xfrm flipV="1">
            <a:off x="3944880" y="6616800"/>
            <a:ext cx="0" cy="6588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2250360" y="7524360"/>
            <a:ext cx="3389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ssignment Opera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114800" y="6070680"/>
            <a:ext cx="5899320" cy="620640"/>
          </a:xfrm>
          <a:prstGeom prst="rect">
            <a:avLst/>
          </a:prstGeom>
          <a:noFill/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6190920" y="68133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Expression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79520" y="330516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AutoShape 3"/>
          <p:cNvSpPr/>
          <p:nvPr/>
        </p:nvSpPr>
        <p:spPr>
          <a:xfrm>
            <a:off x="5041800" y="4287960"/>
            <a:ext cx="117648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2" name="Oval 2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Oval 3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Oval 4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464840" y="1760040"/>
            <a:ext cx="655632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dog cat the of chase any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word soup, not grammatically sensible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22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22280" indent="-2952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309320" y="4008240"/>
            <a:ext cx="885600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this sentence is false</a:t>
            </a:r>
            <a:br>
              <a:rPr sz="2700"/>
            </a:b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but my head explodes if I think about i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2520" indent="-31752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501920" y="6129000"/>
            <a:ext cx="624384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ff9300"/>
                </a:solidFill>
                <a:latin typeface="Gill Sans"/>
              </a:rPr>
              <a:t>one week is 10 days long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"/>
              </a:rPr>
              <a:t>[grammatical, coherent, but incorrect]</a:t>
            </a:r>
            <a:endParaRPr b="1" lang="en-US" sz="27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968120" y="1587600"/>
            <a:ext cx="11099880" cy="7277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yntax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never makes sense in any context; Python doesn't even ru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5 = x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ntime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eed to run to find out whether it will crash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ppears with different names (TypeError, ZeroDivisionError, etc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x = 5 / 0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0">
              <a:spcBef>
                <a:spcPts val="6100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mantic Erro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t runs with no error, but you get the wrong answer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44600" indent="-311400">
              <a:lnSpc>
                <a:spcPct val="100000"/>
              </a:lnSpc>
              <a:buClr>
                <a:srgbClr val="ff9300"/>
              </a:buClr>
              <a:buSzPct val="145000"/>
              <a:buFont typeface="Courier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9300"/>
                </a:solidFill>
                <a:latin typeface="Courier New"/>
              </a:rPr>
              <a:t>square_area = square_side * 2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ategories of Erro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35" name="Oval 3"/>
          <p:cNvSpPr/>
          <p:nvPr/>
        </p:nvSpPr>
        <p:spPr>
          <a:xfrm>
            <a:off x="274680" y="1587600"/>
            <a:ext cx="127008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Oval 4"/>
          <p:cNvSpPr/>
          <p:nvPr/>
        </p:nvSpPr>
        <p:spPr>
          <a:xfrm>
            <a:off x="274680" y="3784680"/>
            <a:ext cx="127008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Oval 5"/>
          <p:cNvSpPr/>
          <p:nvPr/>
        </p:nvSpPr>
        <p:spPr>
          <a:xfrm>
            <a:off x="274680" y="5981760"/>
            <a:ext cx="1270080" cy="127008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1803240" y="1041480"/>
            <a:ext cx="11074680" cy="7277040"/>
          </a:xfrm>
          <a:prstGeom prst="rect">
            <a:avLst/>
          </a:prstGeom>
          <a:solidFill>
            <a:srgbClr val="ffffff">
              <a:alpha val="8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2492640" y="4003200"/>
            <a:ext cx="9694440" cy="83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800" spc="-1" strike="noStrike">
                <a:solidFill>
                  <a:srgbClr val="ee220c"/>
                </a:solidFill>
                <a:latin typeface="Gill Sans"/>
              </a:rPr>
              <a:t>what kind of error is the worst?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2400480" y="5286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in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2080800" y="3200400"/>
            <a:ext cx="28454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conds = 12345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1138320" y="5855760"/>
            <a:ext cx="595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int out hours, minutes, and seconds 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float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822960" y="2457360"/>
            <a:ext cx="55566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30492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Compound growth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start with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ry year it grows by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7%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you wait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30 year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3049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how much do you have at the en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8720280" y="633600"/>
            <a:ext cx="3132000" cy="77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50000" spc="-1" strike="noStrike">
                <a:solidFill>
                  <a:srgbClr val="d6d5d5"/>
                </a:solidFill>
                <a:latin typeface="Gill Sans"/>
              </a:rPr>
              <a:t>?</a:t>
            </a:r>
            <a:endParaRPr b="1" lang="en-US" sz="50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2611440" y="5501880"/>
            <a:ext cx="206676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0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0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1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$107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year 2: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string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4" name="Text Box 2"/>
          <p:cNvSpPr/>
          <p:nvPr/>
        </p:nvSpPr>
        <p:spPr>
          <a:xfrm>
            <a:off x="2508480" y="2156400"/>
            <a:ext cx="513684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380880" indent="-253800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Visually compare two scores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ice has 10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380880" indent="-25380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Bob has 8 poin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2776320" y="4173120"/>
            <a:ext cx="247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Desired output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2842560" y="487908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Courier New"/>
              </a:rPr>
              <a:t>bob: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7389000" y="6758640"/>
            <a:ext cx="32112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lice: ||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ob:   ||||||||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AutoShape 6"/>
          <p:cNvSpPr/>
          <p:nvPr/>
        </p:nvSpPr>
        <p:spPr>
          <a:xfrm>
            <a:off x="4641840" y="5818320"/>
            <a:ext cx="2468520" cy="1425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7251" y="20894"/>
                  <a:pt x="51" y="13694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3678120" y="6941880"/>
            <a:ext cx="1748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even bet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Example: bool expression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2831040" y="2262600"/>
            <a:ext cx="6922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ounds check: 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is the value between 0 and 100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838440" y="4847400"/>
            <a:ext cx="41256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7605000" y="4847400"/>
            <a:ext cx="43084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utput i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you may continue: 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7391520" y="2900520"/>
            <a:ext cx="174924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Line 6"/>
          <p:cNvSpPr/>
          <p:nvPr/>
        </p:nvSpPr>
        <p:spPr>
          <a:xfrm flipH="1">
            <a:off x="3708360" y="2900520"/>
            <a:ext cx="1749600" cy="2006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3760200" y="3552480"/>
            <a:ext cx="631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1db100"/>
                </a:solidFill>
                <a:latin typeface="Gill Sans"/>
              </a:rPr>
              <a:t>YE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8478360" y="3552480"/>
            <a:ext cx="592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N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4051440" y="626436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What Variable Names are Allowed?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1800" y="1628640"/>
            <a:ext cx="11099880" cy="4502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66000"/>
          </a:bodyPr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1st_score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ba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core_1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goo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100000"/>
              </a:lnSpc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[not a recommended variable]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irst_score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= 100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r>
              <a:rPr b="0" lang="en-US" sz="3200" spc="-1" strike="noStrike">
                <a:solidFill>
                  <a:srgbClr val="1db100"/>
                </a:solidFill>
                <a:latin typeface="Gill Sans"/>
              </a:rPr>
              <a:t>[recommended variable]              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urrent rules are quite complex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1"/>
              </a:rPr>
              <a:t>https://www.python.org/dev/peps/pep-3131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lease don’t use camel case:</a:t>
            </a:r>
            <a:br>
              <a:rPr sz="3200"/>
            </a:br>
            <a:r>
              <a:rPr b="0" lang="en-US" sz="3200" spc="-1" strike="noStrike" u="sng">
                <a:solidFill>
                  <a:srgbClr val="0000ff"/>
                </a:solidFill>
                <a:uFillTx/>
                <a:latin typeface="Gill Sans"/>
                <a:hlinkClick r:id="rId2"/>
              </a:rPr>
              <a:t>https://www.python.org/dev/peps/pep-0008/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ff9300"/>
                </a:solidFill>
                <a:latin typeface="Gill Sans"/>
              </a:rPr>
              <a:t>Python 3 has become friendlier to non-English programmer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Text Box 3"/>
          <p:cNvSpPr/>
          <p:nvPr/>
        </p:nvSpPr>
        <p:spPr>
          <a:xfrm>
            <a:off x="2840040" y="8583480"/>
            <a:ext cx="2680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0"/>
                <a:tab algn="l" pos="25560"/>
                <a:tab algn="l" pos="38160"/>
                <a:tab algn="l" pos="50760"/>
                <a:tab algn="l" pos="63360"/>
                <a:tab algn="l" pos="76320"/>
                <a:tab algn="l" pos="88920"/>
                <a:tab algn="l" pos="101520"/>
                <a:tab algn="l" pos="114480"/>
                <a:tab algn="l" pos="127080"/>
                <a:tab algn="l" pos="139680"/>
                <a:tab algn="l" pos="152280"/>
                <a:tab algn="l" pos="165240"/>
                <a:tab algn="l" pos="177840"/>
                <a:tab algn="l" pos="190440"/>
                <a:tab algn="l" pos="203040"/>
                <a:tab algn="l" pos="216000"/>
                <a:tab algn="l" pos="228600"/>
                <a:tab algn="l" pos="241200"/>
                <a:tab algn="l" pos="254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enlo"/>
              </a:rPr>
              <a:t>quero_café = 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7038360" y="8400240"/>
            <a:ext cx="28317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this is allowed, 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ff9300"/>
                </a:solidFill>
                <a:latin typeface="Gill Sans"/>
              </a:rPr>
              <a:t>different than "e"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cxnSp>
        <p:nvCxnSpPr>
          <p:cNvPr id="277" name="Straight Arrow Connector 2"/>
          <p:cNvCxnSpPr>
            <a:stCxn id="276" idx="1"/>
            <a:endCxn id="275" idx="3"/>
          </p:cNvCxnSpPr>
          <p:nvPr/>
        </p:nvCxnSpPr>
        <p:spPr>
          <a:xfrm flipH="1">
            <a:off x="5797080" y="8816760"/>
            <a:ext cx="14104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79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1058760" y="7779600"/>
            <a:ext cx="108856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or 220, you may use only variables containing English alphabe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6775560" y="8750160"/>
            <a:ext cx="33285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400" spc="-1" strike="noStrike">
                <a:solidFill>
                  <a:srgbClr val="ee220c"/>
                </a:solidFill>
                <a:latin typeface="Gill Sans"/>
              </a:rPr>
              <a:t>what rules are violated?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9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6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59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07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18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Rules for naming variabl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1" name="Oval 2"/>
          <p:cNvSpPr/>
          <p:nvPr/>
        </p:nvSpPr>
        <p:spPr>
          <a:xfrm>
            <a:off x="490680" y="2006640"/>
            <a:ext cx="1269720" cy="127008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Oval 3"/>
          <p:cNvSpPr/>
          <p:nvPr/>
        </p:nvSpPr>
        <p:spPr>
          <a:xfrm>
            <a:off x="490680" y="3556080"/>
            <a:ext cx="1269720" cy="127008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Oval 4"/>
          <p:cNvSpPr/>
          <p:nvPr/>
        </p:nvSpPr>
        <p:spPr>
          <a:xfrm>
            <a:off x="490680" y="5105520"/>
            <a:ext cx="126972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271160" y="2376000"/>
            <a:ext cx="11034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Only use letters a-z (upper and lower), numbers, and underscor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1758240" y="3925440"/>
            <a:ext cx="438300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start with a number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7"/>
          <p:cNvSpPr/>
          <p:nvPr/>
        </p:nvSpPr>
        <p:spPr>
          <a:xfrm>
            <a:off x="1458360" y="547488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8"/>
          <p:cNvSpPr/>
          <p:nvPr/>
        </p:nvSpPr>
        <p:spPr>
          <a:xfrm>
            <a:off x="3839400" y="6564240"/>
            <a:ext cx="119952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s_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_cs220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7657200" y="6564240"/>
            <a:ext cx="15652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20clas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i3.14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Oval 10"/>
          <p:cNvSpPr/>
          <p:nvPr/>
        </p:nvSpPr>
        <p:spPr>
          <a:xfrm>
            <a:off x="9266400" y="7002360"/>
            <a:ext cx="407880" cy="376200"/>
          </a:xfrm>
          <a:prstGeom prst="ellipse">
            <a:avLst/>
          </a:pr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Oval 11"/>
          <p:cNvSpPr/>
          <p:nvPr/>
        </p:nvSpPr>
        <p:spPr>
          <a:xfrm>
            <a:off x="8847000" y="7365960"/>
            <a:ext cx="408240" cy="37800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Oval 12"/>
          <p:cNvSpPr/>
          <p:nvPr/>
        </p:nvSpPr>
        <p:spPr>
          <a:xfrm>
            <a:off x="9177480" y="7764480"/>
            <a:ext cx="407880" cy="37620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Oval 13"/>
          <p:cNvSpPr/>
          <p:nvPr/>
        </p:nvSpPr>
        <p:spPr>
          <a:xfrm>
            <a:off x="8758080" y="8128080"/>
            <a:ext cx="408240" cy="377640"/>
          </a:xfrm>
          <a:prstGeom prst="ellipse">
            <a:avLst/>
          </a:prstGeom>
          <a:solidFill>
            <a:srgbClr val="cb29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Identifying keyword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44" name="Oval 4"/>
          <p:cNvSpPr/>
          <p:nvPr/>
        </p:nvSpPr>
        <p:spPr>
          <a:xfrm>
            <a:off x="291960" y="1746360"/>
            <a:ext cx="1270080" cy="1269720"/>
          </a:xfrm>
          <a:prstGeom prst="ellipse">
            <a:avLst/>
          </a:prstGeom>
          <a:solidFill>
            <a:srgbClr val="00a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SemiBold"/>
                <a:ea typeface="Gill Sans SemiBold"/>
              </a:rPr>
              <a:t>3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Text Box 7"/>
          <p:cNvSpPr/>
          <p:nvPr/>
        </p:nvSpPr>
        <p:spPr>
          <a:xfrm>
            <a:off x="1405080" y="2116800"/>
            <a:ext cx="80881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n’t use Python keywords (e.g., and, False, etc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Text Box 8"/>
          <p:cNvSpPr/>
          <p:nvPr/>
        </p:nvSpPr>
        <p:spPr>
          <a:xfrm>
            <a:off x="3351960" y="5811120"/>
            <a:ext cx="11203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GOO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Text Box 9"/>
          <p:cNvSpPr/>
          <p:nvPr/>
        </p:nvSpPr>
        <p:spPr>
          <a:xfrm>
            <a:off x="8972280" y="580896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BAD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7"/>
          <p:cNvSpPr/>
          <p:nvPr/>
        </p:nvSpPr>
        <p:spPr>
          <a:xfrm>
            <a:off x="1333440" y="3463200"/>
            <a:ext cx="82969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How to figure out if something is a Python keyword?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1184760" y="4199040"/>
            <a:ext cx="1168452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Python keywords turn green in color 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f used as a variable, that keyword will no longer work as intended!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0" name="Picture 1" descr=""/>
          <p:cNvPicPr/>
          <p:nvPr/>
        </p:nvPicPr>
        <p:blipFill>
          <a:blip r:embed="rId1"/>
          <a:stretch/>
        </p:blipFill>
        <p:spPr>
          <a:xfrm>
            <a:off x="7074000" y="6227640"/>
            <a:ext cx="3346200" cy="182736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7"/>
          <p:cNvSpPr/>
          <p:nvPr/>
        </p:nvSpPr>
        <p:spPr>
          <a:xfrm>
            <a:off x="1221840" y="8841600"/>
            <a:ext cx="9389520" cy="52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Gill Sans"/>
              </a:rPr>
              <a:t>Pay attention to green colorization within jupyter notebook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2"/>
          <a:stretch/>
        </p:blipFill>
        <p:spPr>
          <a:xfrm>
            <a:off x="1206360" y="6327720"/>
            <a:ext cx="472788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Review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Expressions, Variables, and Assignment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ug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Naming variable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AutoShape 3"/>
          <p:cNvSpPr/>
          <p:nvPr/>
        </p:nvSpPr>
        <p:spPr>
          <a:xfrm>
            <a:off x="2279520" y="72676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76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AutoShape 4"/>
          <p:cNvSpPr/>
          <p:nvPr/>
        </p:nvSpPr>
        <p:spPr>
          <a:xfrm rot="20145000">
            <a:off x="2281320" y="4731840"/>
            <a:ext cx="1176120" cy="48600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AutoShape 5"/>
          <p:cNvSpPr/>
          <p:nvPr/>
        </p:nvSpPr>
        <p:spPr>
          <a:xfrm flipH="1" rot="920400">
            <a:off x="3461400" y="4738680"/>
            <a:ext cx="1176120" cy="487080"/>
          </a:xfrm>
          <a:custGeom>
            <a:avLst/>
            <a:gdLst/>
            <a:ahLst/>
            <a:rect l="l" t="t" r="r" b="b"/>
            <a:pathLst>
              <a:path w="21600" h="21461">
                <a:moveTo>
                  <a:pt x="4804" y="6"/>
                </a:moveTo>
                <a:cubicBezTo>
                  <a:pt x="4688" y="16"/>
                  <a:pt x="4568" y="40"/>
                  <a:pt x="4446" y="75"/>
                </a:cubicBezTo>
                <a:cubicBezTo>
                  <a:pt x="1063" y="1061"/>
                  <a:pt x="275" y="9905"/>
                  <a:pt x="275" y="9905"/>
                </a:cubicBezTo>
                <a:cubicBezTo>
                  <a:pt x="675" y="10384"/>
                  <a:pt x="2079" y="11684"/>
                  <a:pt x="2739" y="12138"/>
                </a:cubicBezTo>
                <a:cubicBezTo>
                  <a:pt x="2020" y="17184"/>
                  <a:pt x="832" y="19983"/>
                  <a:pt x="0" y="21449"/>
                </a:cubicBezTo>
                <a:lnTo>
                  <a:pt x="275" y="21449"/>
                </a:lnTo>
                <a:cubicBezTo>
                  <a:pt x="275" y="21449"/>
                  <a:pt x="2452" y="18388"/>
                  <a:pt x="3360" y="12422"/>
                </a:cubicBezTo>
                <a:cubicBezTo>
                  <a:pt x="3479" y="12487"/>
                  <a:pt x="3608" y="12538"/>
                  <a:pt x="3743" y="12564"/>
                </a:cubicBezTo>
                <a:cubicBezTo>
                  <a:pt x="3257" y="16753"/>
                  <a:pt x="2371" y="19606"/>
                  <a:pt x="1587" y="21461"/>
                </a:cubicBezTo>
                <a:lnTo>
                  <a:pt x="1911" y="21461"/>
                </a:lnTo>
                <a:cubicBezTo>
                  <a:pt x="1911" y="21461"/>
                  <a:pt x="3480" y="18997"/>
                  <a:pt x="4457" y="12628"/>
                </a:cubicBezTo>
                <a:cubicBezTo>
                  <a:pt x="6538" y="12654"/>
                  <a:pt x="7141" y="11463"/>
                  <a:pt x="7746" y="9815"/>
                </a:cubicBezTo>
                <a:cubicBezTo>
                  <a:pt x="8108" y="10620"/>
                  <a:pt x="8644" y="11060"/>
                  <a:pt x="9119" y="10736"/>
                </a:cubicBezTo>
                <a:cubicBezTo>
                  <a:pt x="9022" y="11773"/>
                  <a:pt x="8277" y="12553"/>
                  <a:pt x="7699" y="12916"/>
                </a:cubicBezTo>
                <a:cubicBezTo>
                  <a:pt x="7699" y="12916"/>
                  <a:pt x="7579" y="16934"/>
                  <a:pt x="4743" y="21461"/>
                </a:cubicBezTo>
                <a:lnTo>
                  <a:pt x="5040" y="21461"/>
                </a:lnTo>
                <a:cubicBezTo>
                  <a:pt x="5040" y="21461"/>
                  <a:pt x="6910" y="19269"/>
                  <a:pt x="7736" y="15494"/>
                </a:cubicBezTo>
                <a:cubicBezTo>
                  <a:pt x="7520" y="18854"/>
                  <a:pt x="6381" y="21461"/>
                  <a:pt x="6381" y="21461"/>
                </a:cubicBezTo>
                <a:lnTo>
                  <a:pt x="6688" y="21461"/>
                </a:lnTo>
                <a:cubicBezTo>
                  <a:pt x="7985" y="18517"/>
                  <a:pt x="8374" y="16093"/>
                  <a:pt x="8412" y="13719"/>
                </a:cubicBezTo>
                <a:cubicBezTo>
                  <a:pt x="8720" y="13589"/>
                  <a:pt x="9130" y="13317"/>
                  <a:pt x="9627" y="12746"/>
                </a:cubicBezTo>
                <a:cubicBezTo>
                  <a:pt x="9930" y="12409"/>
                  <a:pt x="10168" y="12019"/>
                  <a:pt x="10352" y="11656"/>
                </a:cubicBezTo>
                <a:cubicBezTo>
                  <a:pt x="10400" y="11565"/>
                  <a:pt x="10437" y="11474"/>
                  <a:pt x="10475" y="11396"/>
                </a:cubicBezTo>
                <a:cubicBezTo>
                  <a:pt x="10513" y="11305"/>
                  <a:pt x="10546" y="11228"/>
                  <a:pt x="10578" y="11137"/>
                </a:cubicBezTo>
                <a:cubicBezTo>
                  <a:pt x="10978" y="11383"/>
                  <a:pt x="11448" y="11345"/>
                  <a:pt x="11718" y="11190"/>
                </a:cubicBezTo>
                <a:cubicBezTo>
                  <a:pt x="12269" y="13719"/>
                  <a:pt x="13524" y="14575"/>
                  <a:pt x="14453" y="14627"/>
                </a:cubicBezTo>
                <a:cubicBezTo>
                  <a:pt x="14448" y="14627"/>
                  <a:pt x="14409" y="14627"/>
                  <a:pt x="14431" y="14627"/>
                </a:cubicBezTo>
                <a:cubicBezTo>
                  <a:pt x="14885" y="19776"/>
                  <a:pt x="16688" y="21449"/>
                  <a:pt x="16688" y="21449"/>
                </a:cubicBezTo>
                <a:lnTo>
                  <a:pt x="17019" y="21449"/>
                </a:lnTo>
                <a:cubicBezTo>
                  <a:pt x="15496" y="19516"/>
                  <a:pt x="15095" y="16157"/>
                  <a:pt x="14986" y="14444"/>
                </a:cubicBezTo>
                <a:cubicBezTo>
                  <a:pt x="16289" y="20619"/>
                  <a:pt x="17835" y="21449"/>
                  <a:pt x="17835" y="21449"/>
                </a:cubicBezTo>
                <a:lnTo>
                  <a:pt x="18159" y="21449"/>
                </a:lnTo>
                <a:cubicBezTo>
                  <a:pt x="17041" y="20255"/>
                  <a:pt x="16268" y="18620"/>
                  <a:pt x="15268" y="13354"/>
                </a:cubicBezTo>
                <a:cubicBezTo>
                  <a:pt x="14728" y="13354"/>
                  <a:pt x="14301" y="13172"/>
                  <a:pt x="13977" y="12965"/>
                </a:cubicBezTo>
                <a:cubicBezTo>
                  <a:pt x="13528" y="12589"/>
                  <a:pt x="13052" y="11877"/>
                  <a:pt x="12879" y="10541"/>
                </a:cubicBezTo>
                <a:cubicBezTo>
                  <a:pt x="13312" y="10061"/>
                  <a:pt x="14075" y="9077"/>
                  <a:pt x="14237" y="6625"/>
                </a:cubicBezTo>
                <a:cubicBezTo>
                  <a:pt x="14777" y="8078"/>
                  <a:pt x="16062" y="9892"/>
                  <a:pt x="17007" y="9892"/>
                </a:cubicBezTo>
                <a:cubicBezTo>
                  <a:pt x="17148" y="9892"/>
                  <a:pt x="17278" y="9803"/>
                  <a:pt x="17278" y="9803"/>
                </a:cubicBezTo>
                <a:cubicBezTo>
                  <a:pt x="17278" y="9803"/>
                  <a:pt x="18040" y="11772"/>
                  <a:pt x="18051" y="11603"/>
                </a:cubicBezTo>
                <a:cubicBezTo>
                  <a:pt x="18245" y="8983"/>
                  <a:pt x="17862" y="6194"/>
                  <a:pt x="17105" y="3755"/>
                </a:cubicBezTo>
                <a:lnTo>
                  <a:pt x="17068" y="3626"/>
                </a:lnTo>
                <a:cubicBezTo>
                  <a:pt x="17242" y="3556"/>
                  <a:pt x="18012" y="3231"/>
                  <a:pt x="18944" y="2276"/>
                </a:cubicBezTo>
                <a:cubicBezTo>
                  <a:pt x="20386" y="6700"/>
                  <a:pt x="20903" y="12941"/>
                  <a:pt x="20903" y="12941"/>
                </a:cubicBezTo>
                <a:lnTo>
                  <a:pt x="21077" y="13123"/>
                </a:lnTo>
                <a:cubicBezTo>
                  <a:pt x="21077" y="13123"/>
                  <a:pt x="20765" y="7509"/>
                  <a:pt x="19258" y="1944"/>
                </a:cubicBezTo>
                <a:cubicBezTo>
                  <a:pt x="19425" y="1750"/>
                  <a:pt x="19590" y="1541"/>
                  <a:pt x="19753" y="1307"/>
                </a:cubicBezTo>
                <a:cubicBezTo>
                  <a:pt x="20752" y="3344"/>
                  <a:pt x="21460" y="8932"/>
                  <a:pt x="21460" y="8932"/>
                </a:cubicBezTo>
                <a:lnTo>
                  <a:pt x="21600" y="9074"/>
                </a:lnTo>
                <a:cubicBezTo>
                  <a:pt x="21600" y="9074"/>
                  <a:pt x="21109" y="3459"/>
                  <a:pt x="19758" y="294"/>
                </a:cubicBezTo>
                <a:cubicBezTo>
                  <a:pt x="19758" y="294"/>
                  <a:pt x="19536" y="762"/>
                  <a:pt x="19091" y="1356"/>
                </a:cubicBezTo>
                <a:cubicBezTo>
                  <a:pt x="19033" y="1153"/>
                  <a:pt x="18977" y="950"/>
                  <a:pt x="18915" y="748"/>
                </a:cubicBezTo>
                <a:cubicBezTo>
                  <a:pt x="18915" y="748"/>
                  <a:pt x="18105" y="2258"/>
                  <a:pt x="16842" y="2993"/>
                </a:cubicBezTo>
                <a:cubicBezTo>
                  <a:pt x="16456" y="2047"/>
                  <a:pt x="15987" y="1452"/>
                  <a:pt x="15689" y="1279"/>
                </a:cubicBezTo>
                <a:cubicBezTo>
                  <a:pt x="14554" y="617"/>
                  <a:pt x="13982" y="2666"/>
                  <a:pt x="13955" y="4015"/>
                </a:cubicBezTo>
                <a:cubicBezTo>
                  <a:pt x="13658" y="2562"/>
                  <a:pt x="12718" y="1318"/>
                  <a:pt x="11551" y="1344"/>
                </a:cubicBezTo>
                <a:cubicBezTo>
                  <a:pt x="10697" y="1344"/>
                  <a:pt x="9708" y="2473"/>
                  <a:pt x="9281" y="4315"/>
                </a:cubicBezTo>
                <a:cubicBezTo>
                  <a:pt x="9108" y="4081"/>
                  <a:pt x="8374" y="4174"/>
                  <a:pt x="8120" y="4550"/>
                </a:cubicBezTo>
                <a:cubicBezTo>
                  <a:pt x="7502" y="2446"/>
                  <a:pt x="6538" y="-139"/>
                  <a:pt x="4804" y="6"/>
                </a:cubicBezTo>
                <a:close/>
                <a:moveTo>
                  <a:pt x="18769" y="1745"/>
                </a:moveTo>
                <a:cubicBezTo>
                  <a:pt x="18769" y="1746"/>
                  <a:pt x="18770" y="1748"/>
                  <a:pt x="18770" y="1749"/>
                </a:cubicBezTo>
                <a:cubicBezTo>
                  <a:pt x="18764" y="1756"/>
                  <a:pt x="18759" y="1762"/>
                  <a:pt x="18753" y="1769"/>
                </a:cubicBezTo>
                <a:cubicBezTo>
                  <a:pt x="18758" y="1760"/>
                  <a:pt x="18764" y="1754"/>
                  <a:pt x="18769" y="1745"/>
                </a:cubicBezTo>
                <a:close/>
              </a:path>
            </a:pathLst>
          </a:cu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Sphere Volum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59" name="Text Box 2"/>
          <p:cNvSpPr/>
          <p:nvPr/>
        </p:nvSpPr>
        <p:spPr>
          <a:xfrm>
            <a:off x="809640" y="8804880"/>
            <a:ext cx="1138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www.google.com/search?q=sphere%20calc%3A%20find%20V&amp;oq=area+of+a+sphere&amp;aqs=chrome.0.0l6.2671j0j7&amp;sourceid=chrome&amp;ie=UTF-8&amp;skip=s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tretch/>
        </p:blipFill>
        <p:spPr>
          <a:xfrm>
            <a:off x="425520" y="1625760"/>
            <a:ext cx="6769080" cy="6261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4" descr=""/>
          <p:cNvPicPr/>
          <p:nvPr/>
        </p:nvPicPr>
        <p:blipFill>
          <a:blip r:embed="rId2"/>
          <a:stretch/>
        </p:blipFill>
        <p:spPr>
          <a:xfrm>
            <a:off x="8242200" y="2781360"/>
            <a:ext cx="3479760" cy="222228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5"/>
          <p:cNvSpPr/>
          <p:nvPr/>
        </p:nvSpPr>
        <p:spPr>
          <a:xfrm>
            <a:off x="7199280" y="6337440"/>
            <a:ext cx="5564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extension: </a:t>
            </a: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find radius given a volum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Character Art - Block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64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Practice: Quadratic Formula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1" name="Text Box 2"/>
          <p:cNvSpPr/>
          <p:nvPr/>
        </p:nvSpPr>
        <p:spPr>
          <a:xfrm>
            <a:off x="4722480" y="8804880"/>
            <a:ext cx="3558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</a:rPr>
              <a:t>https://en.wikipedia.org/wiki/Quadratic_formula</a:t>
            </a:r>
            <a:endParaRPr b="1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372" name="Picture 3" descr=""/>
          <p:cNvPicPr/>
          <p:nvPr/>
        </p:nvPicPr>
        <p:blipFill>
          <a:blip r:embed="rId1"/>
          <a:stretch/>
        </p:blipFill>
        <p:spPr>
          <a:xfrm>
            <a:off x="2317680" y="5181480"/>
            <a:ext cx="8369280" cy="30355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"/>
          <p:cNvPicPr/>
          <p:nvPr/>
        </p:nvPicPr>
        <p:blipFill>
          <a:blip r:embed="rId2"/>
          <a:stretch/>
        </p:blipFill>
        <p:spPr>
          <a:xfrm>
            <a:off x="3137040" y="1708200"/>
            <a:ext cx="6730920" cy="144792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5"/>
          <p:cNvSpPr/>
          <p:nvPr/>
        </p:nvSpPr>
        <p:spPr>
          <a:xfrm>
            <a:off x="3639600" y="4086000"/>
            <a:ext cx="572436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2900" spc="-1" strike="noStrike">
                <a:solidFill>
                  <a:srgbClr val="ee220c"/>
                </a:solidFill>
                <a:latin typeface="Gill Sans"/>
              </a:rPr>
              <a:t>what values of x satisfy the above?</a:t>
            </a:r>
            <a:endParaRPr b="1" lang="en-US" sz="29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*: Checker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# # #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Text Box 2"/>
          <p:cNvSpPr/>
          <p:nvPr/>
        </p:nvSpPr>
        <p:spPr>
          <a:xfrm>
            <a:off x="509400" y="9029880"/>
            <a:ext cx="100602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* Challenge =  beyond what you would be asked to do on an exam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Bord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4" name="Text Box 2"/>
          <p:cNvSpPr/>
          <p:nvPr/>
        </p:nvSpPr>
        <p:spPr>
          <a:xfrm>
            <a:off x="1192680" y="186624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4621680" y="3197520"/>
            <a:ext cx="3759840" cy="44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        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Line 4"/>
          <p:cNvSpPr/>
          <p:nvPr/>
        </p:nvSpPr>
        <p:spPr>
          <a:xfrm>
            <a:off x="4127400" y="788040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8480520" y="3292560"/>
            <a:ext cx="0" cy="429732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5742720" y="80546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Text Box 7"/>
          <p:cNvSpPr/>
          <p:nvPr/>
        </p:nvSpPr>
        <p:spPr>
          <a:xfrm rot="16200000">
            <a:off x="8297640" y="520668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2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5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SemiBold"/>
              </a:rPr>
              <a:t>Challenge: Snak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91" name="Text Box 2"/>
          <p:cNvSpPr/>
          <p:nvPr/>
        </p:nvSpPr>
        <p:spPr>
          <a:xfrm>
            <a:off x="1192680" y="1866600"/>
            <a:ext cx="6045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a2ff"/>
                </a:solidFill>
                <a:latin typeface="Gill Sans"/>
              </a:rPr>
              <a:t>write some code to draw the following: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Text Box 3"/>
          <p:cNvSpPr/>
          <p:nvPr/>
        </p:nvSpPr>
        <p:spPr>
          <a:xfrm>
            <a:off x="4621680" y="2837880"/>
            <a:ext cx="3759840" cy="59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########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4800" spc="-1" strike="noStrike">
                <a:solidFill>
                  <a:srgbClr val="000000"/>
                </a:solidFill>
                <a:latin typeface="Courier New"/>
              </a:rPr>
              <a:t>#</a:t>
            </a:r>
            <a:endParaRPr b="1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Line 4"/>
          <p:cNvSpPr/>
          <p:nvPr/>
        </p:nvSpPr>
        <p:spPr>
          <a:xfrm>
            <a:off x="4127400" y="8769240"/>
            <a:ext cx="4137120" cy="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Line 5"/>
          <p:cNvSpPr/>
          <p:nvPr/>
        </p:nvSpPr>
        <p:spPr>
          <a:xfrm>
            <a:off x="8480520" y="2771640"/>
            <a:ext cx="0" cy="5707080"/>
          </a:xfrm>
          <a:prstGeom prst="line">
            <a:avLst/>
          </a:prstGeom>
          <a:ln w="25560">
            <a:solidFill>
              <a:srgbClr val="ee220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Text Box 6"/>
          <p:cNvSpPr/>
          <p:nvPr/>
        </p:nvSpPr>
        <p:spPr>
          <a:xfrm>
            <a:off x="5742720" y="894384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width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Text Box 7"/>
          <p:cNvSpPr/>
          <p:nvPr/>
        </p:nvSpPr>
        <p:spPr>
          <a:xfrm rot="16200000">
            <a:off x="8297640" y="6096240"/>
            <a:ext cx="1028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heigh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68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1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4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77" name="Text Box 135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580248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7720"/>
                <a:gridCol w="284184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0" name="Text Box 67"/>
          <p:cNvSpPr/>
          <p:nvPr/>
        </p:nvSpPr>
        <p:spPr>
          <a:xfrm>
            <a:off x="10923480" y="165708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Text Box 68"/>
          <p:cNvSpPr/>
          <p:nvPr/>
        </p:nvSpPr>
        <p:spPr>
          <a:xfrm>
            <a:off x="10959480" y="7257600"/>
            <a:ext cx="19555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69"/>
          <p:cNvSpPr/>
          <p:nvPr/>
        </p:nvSpPr>
        <p:spPr>
          <a:xfrm>
            <a:off x="2053080" y="869760"/>
            <a:ext cx="17452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Unorder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66840" y="1581120"/>
          <a:ext cx="5119560" cy="6286680"/>
        </p:xfrm>
        <a:graphic>
          <a:graphicData uri="http://schemas.openxmlformats.org/drawingml/2006/table">
            <a:tbl>
              <a:tblPr/>
              <a:tblGrid>
                <a:gridCol w="2278080"/>
                <a:gridCol w="284148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36"/>
          <p:cNvSpPr/>
          <p:nvPr/>
        </p:nvSpPr>
        <p:spPr>
          <a:xfrm>
            <a:off x="6332400" y="869760"/>
            <a:ext cx="365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Ordered by Precedenc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urmail Singh</dc:creator>
  <dc:description/>
  <dc:language>en-US</dc:language>
  <cp:lastModifiedBy>Gurmail Singh</cp:lastModifiedBy>
  <dcterms:modified xsi:type="dcterms:W3CDTF">2022-12-23T08:03:51Z</dcterms:modified>
  <cp:revision>41</cp:revision>
  <dc:subject/>
  <dc:title>[301] Variables and Expressions</dc:title>
</cp:coreProperties>
</file>