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15963-A2BA-4BBD-9890-A597180DB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ED3B-A25B-4FA3-BFF6-6CD73B4A77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16913-BAED-4E65-952C-5864DDAA85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14F29-F497-45A9-82AB-2C8F5929F1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A2E43-E59A-4283-91DE-6DCC2D6621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10BA-4AB9-4434-9A92-DEE3358A6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2994-8567-4139-8629-1F00FD54B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2AFC-8329-4878-8CB3-D241C5215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BD08-3412-4444-86B0-B5F151A78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E166-1032-4168-A110-B86BCC6B8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FF31F-2DC7-4C0A-9BDE-33524535E9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09FE4-8A7F-48EB-89AB-488E0011F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83AFE6-3BC9-42C8-8186-3E26102097C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09680" y="123048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onditional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859040" y="4876920"/>
            <a:ext cx="104648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208800" y="780696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5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330480" y="8034480"/>
            <a:ext cx="206388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2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0883880" y="350028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4261320" y="4956480"/>
            <a:ext cx="33379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AutoShape 10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indented, so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inside”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AutoShape 7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261320" y="4956480"/>
            <a:ext cx="3337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also 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</a:t>
            </a: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 any function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Runs BEFORE</a:t>
            </a:r>
            <a:br>
              <a:rPr sz="2400"/>
            </a:br>
            <a:r>
              <a:rPr b="0" lang="en-US" sz="2400" spc="-1" strike="noStrike">
                <a:solidFill>
                  <a:srgbClr val="929292"/>
                </a:solidFill>
                <a:latin typeface="Gill Sans"/>
              </a:rPr>
              <a:t>print_letters is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AutoShape 9"/>
          <p:cNvSpPr/>
          <p:nvPr/>
        </p:nvSpPr>
        <p:spPr>
          <a:xfrm>
            <a:off x="851040" y="502920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858680" y="7685280"/>
            <a:ext cx="9285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us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denting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to tell Python which code is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r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utsid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a function (or other things we’ll learn about soon)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6555600" y="4497840"/>
            <a:ext cx="3778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lank lines ar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rreleva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Line 12"/>
          <p:cNvSpPr/>
          <p:nvPr/>
        </p:nvSpPr>
        <p:spPr>
          <a:xfrm flipH="1">
            <a:off x="2819160" y="4768920"/>
            <a:ext cx="3663720" cy="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2857680" y="2933640"/>
            <a:ext cx="7095960" cy="1596960"/>
          </a:xfrm>
          <a:custGeom>
            <a:avLst/>
            <a:gdLst/>
            <a:ahLst/>
            <a:rect l="l" t="t" r="r" b="b"/>
            <a:pathLst>
              <a:path w="21600" h="21375">
                <a:moveTo>
                  <a:pt x="0" y="5"/>
                </a:moveTo>
                <a:cubicBezTo>
                  <a:pt x="14277" y="-225"/>
                  <a:pt x="21477" y="6898"/>
                  <a:pt x="21600" y="2137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4946040" y="3772440"/>
            <a:ext cx="37717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often call the lin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f code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something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“block”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929292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C”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    print(“D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10440" y="1312560"/>
            <a:ext cx="280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2400" spc="-1" strike="noStrike">
                <a:solidFill>
                  <a:srgbClr val="929292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1765440" y="3556080"/>
            <a:ext cx="3257280" cy="2000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307"/>
                  <a:pt x="0" y="685"/>
                </a:cubicBezTo>
                <a:lnTo>
                  <a:pt x="0" y="20915"/>
                </a:lnTo>
                <a:cubicBezTo>
                  <a:pt x="0" y="21293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293"/>
                  <a:pt x="18654" y="20915"/>
                </a:cubicBezTo>
                <a:lnTo>
                  <a:pt x="18654" y="6327"/>
                </a:lnTo>
                <a:lnTo>
                  <a:pt x="21600" y="4957"/>
                </a:lnTo>
                <a:lnTo>
                  <a:pt x="18654" y="3586"/>
                </a:lnTo>
                <a:lnTo>
                  <a:pt x="18654" y="685"/>
                </a:lnTo>
                <a:cubicBezTo>
                  <a:pt x="18654" y="307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5107320" y="3772440"/>
            <a:ext cx="27889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orizontal sp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dentify block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(not vertical space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929292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2: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1, y=2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, y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x, y)  </a:t>
            </a:r>
            <a:r>
              <a:rPr b="0" lang="en-US" sz="3200" spc="-1" strike="noStrike">
                <a:solidFill>
                  <a:srgbClr val="ee220c"/>
                </a:solidFill>
                <a:latin typeface="Courier New"/>
              </a:rPr>
              <a:t># what is printed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x=x, y=y+1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y = 20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y,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55119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Line 9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0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1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13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4" name="Line 2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Line 4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Line 5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8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10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Rectangle 12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Line 13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Line 14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Rectangle 17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0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Rectangle 19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"/>
          <p:cNvSpPr/>
          <p:nvPr/>
        </p:nvSpPr>
        <p:spPr>
          <a:xfrm>
            <a:off x="4962600" y="407664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2075040" y="622296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7637400" y="622296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712296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Line 5"/>
          <p:cNvSpPr/>
          <p:nvPr/>
        </p:nvSpPr>
        <p:spPr>
          <a:xfrm flipH="1">
            <a:off x="5091120" y="522288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7522200" y="51843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4686840" y="518436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54040"/>
                <a:tab algn="l" pos="1108080"/>
                <a:tab algn="l" pos="1662120"/>
                <a:tab algn="l" pos="2216160"/>
                <a:tab algn="l" pos="2770200"/>
                <a:tab algn="l" pos="3324240"/>
                <a:tab algn="l" pos="3878280"/>
                <a:tab algn="l" pos="4432320"/>
                <a:tab algn="l" pos="4986360"/>
                <a:tab algn="l" pos="5540400"/>
                <a:tab algn="l" pos="6094440"/>
                <a:tab algn="l" pos="6648480"/>
                <a:tab algn="l" pos="7202520"/>
                <a:tab algn="l" pos="7756560"/>
                <a:tab algn="l" pos="8310600"/>
                <a:tab algn="l" pos="8864640"/>
                <a:tab algn="l" pos="9418680"/>
                <a:tab algn="l" pos="9972720"/>
                <a:tab algn="l" pos="1052676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Gill Sans"/>
                <a:ea typeface="Gill Sans"/>
              </a:rPr>
              <a:t>Control Flow Diagrams (Flowcharts for Code)</a:t>
            </a:r>
            <a:endParaRPr b="0" lang="en-US" sz="4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6502320" y="308448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Rectangle 10"/>
          <p:cNvSpPr/>
          <p:nvPr/>
        </p:nvSpPr>
        <p:spPr>
          <a:xfrm>
            <a:off x="4856040" y="827892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Line 11"/>
          <p:cNvSpPr/>
          <p:nvPr/>
        </p:nvSpPr>
        <p:spPr>
          <a:xfrm flipH="1">
            <a:off x="708480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5052960" y="7267680"/>
            <a:ext cx="865080" cy="86652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796040" y="5323680"/>
            <a:ext cx="1703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Some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14"/>
          <p:cNvSpPr/>
          <p:nvPr/>
        </p:nvSpPr>
        <p:spPr>
          <a:xfrm>
            <a:off x="9484920" y="5323680"/>
            <a:ext cx="1809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ther times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do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15"/>
          <p:cNvSpPr/>
          <p:nvPr/>
        </p:nvSpPr>
        <p:spPr>
          <a:xfrm>
            <a:off x="6786720" y="3606840"/>
            <a:ext cx="1609560" cy="893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910" y="9633"/>
                  <a:pt x="13110" y="2433"/>
                  <a:pt x="2160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16"/>
          <p:cNvSpPr/>
          <p:nvPr/>
        </p:nvSpPr>
        <p:spPr>
          <a:xfrm>
            <a:off x="8382240" y="3022200"/>
            <a:ext cx="4395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boolean expressions are mostly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used for deciding what to do next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(not for printing “True” or “False”</a:t>
            </a:r>
            <a:br>
              <a:rPr sz="2000"/>
            </a:b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as in most of our examples thus far)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4506840" y="3525840"/>
            <a:ext cx="1231920" cy="803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17002" y="8456"/>
                  <a:pt x="9802" y="1256"/>
                  <a:pt x="0" y="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3273480" y="3332160"/>
            <a:ext cx="12254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168560" y="3097080"/>
            <a:ext cx="11566440" cy="4243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1076040" y="2646360"/>
            <a:ext cx="143424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ee220c"/>
                </a:solidFill>
                <a:latin typeface="Gill Sans"/>
              </a:rPr>
              <a:t>conditional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4856040" y="2120760"/>
            <a:ext cx="3291120" cy="87660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1194480" y="4837680"/>
            <a:ext cx="3308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nditional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1600" y="4753440"/>
            <a:ext cx="3009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ternate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execu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7213680" y="1417680"/>
            <a:ext cx="4064040" cy="443700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2"/>
          <p:cNvSpPr/>
          <p:nvPr/>
        </p:nvSpPr>
        <p:spPr>
          <a:xfrm>
            <a:off x="10723680" y="5952960"/>
            <a:ext cx="1806480" cy="1386000"/>
          </a:xfrm>
          <a:custGeom>
            <a:avLst/>
            <a:gdLst/>
            <a:ahLst/>
            <a:rect l="l" t="t" r="r" b="b"/>
            <a:pathLst>
              <a:path w="20765" h="21427">
                <a:moveTo>
                  <a:pt x="7654" y="1"/>
                </a:moveTo>
                <a:cubicBezTo>
                  <a:pt x="6294" y="20"/>
                  <a:pt x="4753" y="903"/>
                  <a:pt x="4110" y="2532"/>
                </a:cubicBezTo>
                <a:cubicBezTo>
                  <a:pt x="4110" y="2532"/>
                  <a:pt x="4104" y="2532"/>
                  <a:pt x="4104" y="2532"/>
                </a:cubicBezTo>
                <a:cubicBezTo>
                  <a:pt x="3722" y="3624"/>
                  <a:pt x="3929" y="4445"/>
                  <a:pt x="3945" y="4495"/>
                </a:cubicBezTo>
                <a:cubicBezTo>
                  <a:pt x="3976" y="4602"/>
                  <a:pt x="3935" y="4724"/>
                  <a:pt x="3855" y="4767"/>
                </a:cubicBezTo>
                <a:cubicBezTo>
                  <a:pt x="3839" y="4774"/>
                  <a:pt x="3828" y="4781"/>
                  <a:pt x="3812" y="4781"/>
                </a:cubicBezTo>
                <a:cubicBezTo>
                  <a:pt x="3743" y="4788"/>
                  <a:pt x="3679" y="4730"/>
                  <a:pt x="3653" y="4644"/>
                </a:cubicBezTo>
                <a:cubicBezTo>
                  <a:pt x="3642" y="4595"/>
                  <a:pt x="3430" y="3790"/>
                  <a:pt x="3722" y="2691"/>
                </a:cubicBezTo>
                <a:cubicBezTo>
                  <a:pt x="3754" y="2562"/>
                  <a:pt x="3690" y="2425"/>
                  <a:pt x="3590" y="2425"/>
                </a:cubicBezTo>
                <a:cubicBezTo>
                  <a:pt x="1950" y="2425"/>
                  <a:pt x="273" y="5524"/>
                  <a:pt x="347" y="7372"/>
                </a:cubicBezTo>
                <a:cubicBezTo>
                  <a:pt x="353" y="7515"/>
                  <a:pt x="475" y="7579"/>
                  <a:pt x="555" y="7493"/>
                </a:cubicBezTo>
                <a:cubicBezTo>
                  <a:pt x="778" y="7236"/>
                  <a:pt x="1021" y="7029"/>
                  <a:pt x="1281" y="6886"/>
                </a:cubicBezTo>
                <a:cubicBezTo>
                  <a:pt x="1350" y="6850"/>
                  <a:pt x="1429" y="6879"/>
                  <a:pt x="1472" y="6964"/>
                </a:cubicBezTo>
                <a:cubicBezTo>
                  <a:pt x="1530" y="7078"/>
                  <a:pt x="1487" y="7236"/>
                  <a:pt x="1397" y="7279"/>
                </a:cubicBezTo>
                <a:cubicBezTo>
                  <a:pt x="1036" y="7471"/>
                  <a:pt x="750" y="7772"/>
                  <a:pt x="516" y="8129"/>
                </a:cubicBezTo>
                <a:cubicBezTo>
                  <a:pt x="-529" y="10034"/>
                  <a:pt x="140" y="12853"/>
                  <a:pt x="1392" y="14423"/>
                </a:cubicBezTo>
                <a:cubicBezTo>
                  <a:pt x="1610" y="14680"/>
                  <a:pt x="1833" y="14902"/>
                  <a:pt x="2056" y="15088"/>
                </a:cubicBezTo>
                <a:cubicBezTo>
                  <a:pt x="2156" y="15166"/>
                  <a:pt x="2358" y="15310"/>
                  <a:pt x="2352" y="15324"/>
                </a:cubicBezTo>
                <a:cubicBezTo>
                  <a:pt x="3759" y="16381"/>
                  <a:pt x="5347" y="16295"/>
                  <a:pt x="5973" y="16216"/>
                </a:cubicBezTo>
                <a:cubicBezTo>
                  <a:pt x="6105" y="16202"/>
                  <a:pt x="6238" y="16244"/>
                  <a:pt x="6344" y="16344"/>
                </a:cubicBezTo>
                <a:cubicBezTo>
                  <a:pt x="6567" y="16543"/>
                  <a:pt x="8073" y="17950"/>
                  <a:pt x="10605" y="17872"/>
                </a:cubicBezTo>
                <a:cubicBezTo>
                  <a:pt x="11231" y="17850"/>
                  <a:pt x="12001" y="17751"/>
                  <a:pt x="12824" y="17401"/>
                </a:cubicBezTo>
                <a:cubicBezTo>
                  <a:pt x="13912" y="16937"/>
                  <a:pt x="14755" y="15760"/>
                  <a:pt x="14686" y="14325"/>
                </a:cubicBezTo>
                <a:cubicBezTo>
                  <a:pt x="14506" y="12369"/>
                  <a:pt x="13817" y="11205"/>
                  <a:pt x="12469" y="10377"/>
                </a:cubicBezTo>
                <a:cubicBezTo>
                  <a:pt x="11806" y="9970"/>
                  <a:pt x="11046" y="9898"/>
                  <a:pt x="10467" y="9926"/>
                </a:cubicBezTo>
                <a:cubicBezTo>
                  <a:pt x="10122" y="9948"/>
                  <a:pt x="9815" y="9999"/>
                  <a:pt x="9550" y="10056"/>
                </a:cubicBezTo>
                <a:lnTo>
                  <a:pt x="9512" y="10069"/>
                </a:lnTo>
                <a:cubicBezTo>
                  <a:pt x="8599" y="10283"/>
                  <a:pt x="8137" y="10662"/>
                  <a:pt x="8132" y="10669"/>
                </a:cubicBezTo>
                <a:cubicBezTo>
                  <a:pt x="8111" y="10691"/>
                  <a:pt x="8085" y="10698"/>
                  <a:pt x="8064" y="10698"/>
                </a:cubicBezTo>
                <a:cubicBezTo>
                  <a:pt x="8006" y="10705"/>
                  <a:pt x="7952" y="10669"/>
                  <a:pt x="7920" y="10598"/>
                </a:cubicBezTo>
                <a:cubicBezTo>
                  <a:pt x="7872" y="10498"/>
                  <a:pt x="7899" y="10370"/>
                  <a:pt x="7968" y="10306"/>
                </a:cubicBezTo>
                <a:cubicBezTo>
                  <a:pt x="7989" y="10291"/>
                  <a:pt x="8266" y="10062"/>
                  <a:pt x="8807" y="9848"/>
                </a:cubicBezTo>
                <a:cubicBezTo>
                  <a:pt x="8903" y="9813"/>
                  <a:pt x="8918" y="9641"/>
                  <a:pt x="8839" y="9570"/>
                </a:cubicBezTo>
                <a:cubicBezTo>
                  <a:pt x="8313" y="9098"/>
                  <a:pt x="7617" y="8270"/>
                  <a:pt x="7416" y="7071"/>
                </a:cubicBezTo>
                <a:cubicBezTo>
                  <a:pt x="7394" y="6957"/>
                  <a:pt x="7448" y="6843"/>
                  <a:pt x="7533" y="6821"/>
                </a:cubicBezTo>
                <a:cubicBezTo>
                  <a:pt x="7618" y="6793"/>
                  <a:pt x="7698" y="6865"/>
                  <a:pt x="7719" y="6987"/>
                </a:cubicBezTo>
                <a:cubicBezTo>
                  <a:pt x="7942" y="8321"/>
                  <a:pt x="8912" y="9179"/>
                  <a:pt x="9358" y="9507"/>
                </a:cubicBezTo>
                <a:cubicBezTo>
                  <a:pt x="9469" y="9586"/>
                  <a:pt x="9597" y="9620"/>
                  <a:pt x="9719" y="9592"/>
                </a:cubicBezTo>
                <a:cubicBezTo>
                  <a:pt x="10234" y="9492"/>
                  <a:pt x="11518" y="9334"/>
                  <a:pt x="12595" y="9998"/>
                </a:cubicBezTo>
                <a:cubicBezTo>
                  <a:pt x="12998" y="10240"/>
                  <a:pt x="13345" y="10521"/>
                  <a:pt x="13636" y="10828"/>
                </a:cubicBezTo>
                <a:cubicBezTo>
                  <a:pt x="13743" y="10942"/>
                  <a:pt x="13897" y="10948"/>
                  <a:pt x="14008" y="10841"/>
                </a:cubicBezTo>
                <a:cubicBezTo>
                  <a:pt x="14640" y="10241"/>
                  <a:pt x="15270" y="10013"/>
                  <a:pt x="15902" y="10156"/>
                </a:cubicBezTo>
                <a:cubicBezTo>
                  <a:pt x="16756" y="10356"/>
                  <a:pt x="17361" y="11205"/>
                  <a:pt x="17584" y="11691"/>
                </a:cubicBezTo>
                <a:cubicBezTo>
                  <a:pt x="17626" y="11784"/>
                  <a:pt x="17616" y="11912"/>
                  <a:pt x="17552" y="11983"/>
                </a:cubicBezTo>
                <a:cubicBezTo>
                  <a:pt x="17526" y="12011"/>
                  <a:pt x="17499" y="12025"/>
                  <a:pt x="17468" y="12025"/>
                </a:cubicBezTo>
                <a:cubicBezTo>
                  <a:pt x="17414" y="12032"/>
                  <a:pt x="17357" y="11996"/>
                  <a:pt x="17325" y="11925"/>
                </a:cubicBezTo>
                <a:cubicBezTo>
                  <a:pt x="17144" y="11532"/>
                  <a:pt x="16602" y="10749"/>
                  <a:pt x="15849" y="10578"/>
                </a:cubicBezTo>
                <a:cubicBezTo>
                  <a:pt x="15313" y="10456"/>
                  <a:pt x="14766" y="10648"/>
                  <a:pt x="14214" y="11169"/>
                </a:cubicBezTo>
                <a:cubicBezTo>
                  <a:pt x="14123" y="11254"/>
                  <a:pt x="14108" y="11418"/>
                  <a:pt x="14177" y="11532"/>
                </a:cubicBezTo>
                <a:cubicBezTo>
                  <a:pt x="14389" y="11875"/>
                  <a:pt x="14565" y="12262"/>
                  <a:pt x="14698" y="12683"/>
                </a:cubicBezTo>
                <a:cubicBezTo>
                  <a:pt x="14846" y="13169"/>
                  <a:pt x="14952" y="13695"/>
                  <a:pt x="15005" y="14316"/>
                </a:cubicBezTo>
                <a:cubicBezTo>
                  <a:pt x="16369" y="14966"/>
                  <a:pt x="19967" y="14602"/>
                  <a:pt x="20652" y="11448"/>
                </a:cubicBezTo>
                <a:cubicBezTo>
                  <a:pt x="21071" y="9520"/>
                  <a:pt x="20280" y="7208"/>
                  <a:pt x="19086" y="6630"/>
                </a:cubicBezTo>
                <a:cubicBezTo>
                  <a:pt x="18943" y="6558"/>
                  <a:pt x="18795" y="6680"/>
                  <a:pt x="18758" y="6879"/>
                </a:cubicBezTo>
                <a:cubicBezTo>
                  <a:pt x="18652" y="7472"/>
                  <a:pt x="18444" y="7944"/>
                  <a:pt x="18242" y="8258"/>
                </a:cubicBezTo>
                <a:cubicBezTo>
                  <a:pt x="18189" y="8336"/>
                  <a:pt x="18189" y="8458"/>
                  <a:pt x="18242" y="8543"/>
                </a:cubicBezTo>
                <a:cubicBezTo>
                  <a:pt x="18338" y="8693"/>
                  <a:pt x="18481" y="8971"/>
                  <a:pt x="18635" y="9442"/>
                </a:cubicBezTo>
                <a:cubicBezTo>
                  <a:pt x="18667" y="9542"/>
                  <a:pt x="18640" y="9678"/>
                  <a:pt x="18565" y="9728"/>
                </a:cubicBezTo>
                <a:cubicBezTo>
                  <a:pt x="18544" y="9742"/>
                  <a:pt x="18529" y="9748"/>
                  <a:pt x="18507" y="9748"/>
                </a:cubicBezTo>
                <a:cubicBezTo>
                  <a:pt x="18438" y="9755"/>
                  <a:pt x="18375" y="9700"/>
                  <a:pt x="18348" y="9614"/>
                </a:cubicBezTo>
                <a:cubicBezTo>
                  <a:pt x="18348" y="9607"/>
                  <a:pt x="18226" y="9179"/>
                  <a:pt x="17977" y="8793"/>
                </a:cubicBezTo>
                <a:cubicBezTo>
                  <a:pt x="17653" y="8301"/>
                  <a:pt x="17271" y="8108"/>
                  <a:pt x="16836" y="8222"/>
                </a:cubicBezTo>
                <a:cubicBezTo>
                  <a:pt x="16740" y="8244"/>
                  <a:pt x="16650" y="8150"/>
                  <a:pt x="16650" y="8015"/>
                </a:cubicBezTo>
                <a:cubicBezTo>
                  <a:pt x="16650" y="7908"/>
                  <a:pt x="16708" y="7822"/>
                  <a:pt x="16783" y="7807"/>
                </a:cubicBezTo>
                <a:cubicBezTo>
                  <a:pt x="17244" y="7686"/>
                  <a:pt x="17610" y="7886"/>
                  <a:pt x="17791" y="8022"/>
                </a:cubicBezTo>
                <a:cubicBezTo>
                  <a:pt x="17871" y="8079"/>
                  <a:pt x="17971" y="8057"/>
                  <a:pt x="18030" y="7957"/>
                </a:cubicBezTo>
                <a:cubicBezTo>
                  <a:pt x="18444" y="7300"/>
                  <a:pt x="18980" y="5845"/>
                  <a:pt x="18215" y="4332"/>
                </a:cubicBezTo>
                <a:cubicBezTo>
                  <a:pt x="17738" y="3390"/>
                  <a:pt x="16750" y="2824"/>
                  <a:pt x="15965" y="2789"/>
                </a:cubicBezTo>
                <a:cubicBezTo>
                  <a:pt x="15901" y="2789"/>
                  <a:pt x="15843" y="2790"/>
                  <a:pt x="15779" y="2798"/>
                </a:cubicBezTo>
                <a:cubicBezTo>
                  <a:pt x="15647" y="2812"/>
                  <a:pt x="15403" y="2824"/>
                  <a:pt x="15074" y="2931"/>
                </a:cubicBezTo>
                <a:cubicBezTo>
                  <a:pt x="14560" y="3096"/>
                  <a:pt x="14279" y="3382"/>
                  <a:pt x="14273" y="3382"/>
                </a:cubicBezTo>
                <a:cubicBezTo>
                  <a:pt x="14204" y="3453"/>
                  <a:pt x="14107" y="3433"/>
                  <a:pt x="14054" y="3333"/>
                </a:cubicBezTo>
                <a:cubicBezTo>
                  <a:pt x="14007" y="3240"/>
                  <a:pt x="14019" y="3103"/>
                  <a:pt x="14088" y="3039"/>
                </a:cubicBezTo>
                <a:cubicBezTo>
                  <a:pt x="14114" y="3010"/>
                  <a:pt x="14470" y="2669"/>
                  <a:pt x="15096" y="2483"/>
                </a:cubicBezTo>
                <a:cubicBezTo>
                  <a:pt x="15186" y="2455"/>
                  <a:pt x="15227" y="2304"/>
                  <a:pt x="15169" y="2204"/>
                </a:cubicBezTo>
                <a:cubicBezTo>
                  <a:pt x="14341" y="648"/>
                  <a:pt x="11471" y="-173"/>
                  <a:pt x="10170" y="641"/>
                </a:cubicBezTo>
                <a:cubicBezTo>
                  <a:pt x="10048" y="719"/>
                  <a:pt x="9996" y="919"/>
                  <a:pt x="10059" y="1076"/>
                </a:cubicBezTo>
                <a:cubicBezTo>
                  <a:pt x="10203" y="1461"/>
                  <a:pt x="10265" y="1904"/>
                  <a:pt x="10233" y="2325"/>
                </a:cubicBezTo>
                <a:cubicBezTo>
                  <a:pt x="10228" y="2432"/>
                  <a:pt x="10165" y="2512"/>
                  <a:pt x="10091" y="2519"/>
                </a:cubicBezTo>
                <a:cubicBezTo>
                  <a:pt x="10080" y="2519"/>
                  <a:pt x="10075" y="2519"/>
                  <a:pt x="10064" y="2519"/>
                </a:cubicBezTo>
                <a:cubicBezTo>
                  <a:pt x="9979" y="2505"/>
                  <a:pt x="9916" y="2404"/>
                  <a:pt x="9927" y="2282"/>
                </a:cubicBezTo>
                <a:cubicBezTo>
                  <a:pt x="9937" y="2140"/>
                  <a:pt x="10011" y="1106"/>
                  <a:pt x="9295" y="520"/>
                </a:cubicBezTo>
                <a:cubicBezTo>
                  <a:pt x="8854" y="161"/>
                  <a:pt x="8273" y="-8"/>
                  <a:pt x="7654" y="1"/>
                </a:cubicBezTo>
                <a:close/>
                <a:moveTo>
                  <a:pt x="6930" y="3139"/>
                </a:moveTo>
                <a:cubicBezTo>
                  <a:pt x="7435" y="3144"/>
                  <a:pt x="7913" y="3351"/>
                  <a:pt x="8361" y="3761"/>
                </a:cubicBezTo>
                <a:cubicBezTo>
                  <a:pt x="8886" y="4239"/>
                  <a:pt x="9242" y="4895"/>
                  <a:pt x="9449" y="5352"/>
                </a:cubicBezTo>
                <a:cubicBezTo>
                  <a:pt x="9491" y="5444"/>
                  <a:pt x="9582" y="5480"/>
                  <a:pt x="9656" y="5430"/>
                </a:cubicBezTo>
                <a:cubicBezTo>
                  <a:pt x="10925" y="4509"/>
                  <a:pt x="12288" y="4695"/>
                  <a:pt x="13403" y="5952"/>
                </a:cubicBezTo>
                <a:cubicBezTo>
                  <a:pt x="13456" y="6009"/>
                  <a:pt x="13535" y="6015"/>
                  <a:pt x="13593" y="5958"/>
                </a:cubicBezTo>
                <a:cubicBezTo>
                  <a:pt x="13795" y="5758"/>
                  <a:pt x="14331" y="5353"/>
                  <a:pt x="15154" y="5617"/>
                </a:cubicBezTo>
                <a:cubicBezTo>
                  <a:pt x="15239" y="5631"/>
                  <a:pt x="15291" y="5745"/>
                  <a:pt x="15270" y="5867"/>
                </a:cubicBezTo>
                <a:cubicBezTo>
                  <a:pt x="15249" y="5981"/>
                  <a:pt x="15164" y="6045"/>
                  <a:pt x="15079" y="6016"/>
                </a:cubicBezTo>
                <a:cubicBezTo>
                  <a:pt x="14527" y="5866"/>
                  <a:pt x="14076" y="5967"/>
                  <a:pt x="13736" y="6331"/>
                </a:cubicBezTo>
                <a:cubicBezTo>
                  <a:pt x="13418" y="6673"/>
                  <a:pt x="13217" y="7243"/>
                  <a:pt x="13195" y="7856"/>
                </a:cubicBezTo>
                <a:cubicBezTo>
                  <a:pt x="13190" y="7964"/>
                  <a:pt x="13132" y="8050"/>
                  <a:pt x="13053" y="8057"/>
                </a:cubicBezTo>
                <a:cubicBezTo>
                  <a:pt x="13026" y="8057"/>
                  <a:pt x="13000" y="8057"/>
                  <a:pt x="12973" y="8028"/>
                </a:cubicBezTo>
                <a:cubicBezTo>
                  <a:pt x="12915" y="7985"/>
                  <a:pt x="12882" y="7900"/>
                  <a:pt x="12887" y="7814"/>
                </a:cubicBezTo>
                <a:cubicBezTo>
                  <a:pt x="12903" y="7336"/>
                  <a:pt x="13015" y="6880"/>
                  <a:pt x="13195" y="6509"/>
                </a:cubicBezTo>
                <a:cubicBezTo>
                  <a:pt x="13243" y="6416"/>
                  <a:pt x="13228" y="6295"/>
                  <a:pt x="13164" y="6224"/>
                </a:cubicBezTo>
                <a:cubicBezTo>
                  <a:pt x="11630" y="4532"/>
                  <a:pt x="10133" y="5487"/>
                  <a:pt x="9543" y="5994"/>
                </a:cubicBezTo>
                <a:cubicBezTo>
                  <a:pt x="9464" y="6058"/>
                  <a:pt x="9364" y="6023"/>
                  <a:pt x="9321" y="5909"/>
                </a:cubicBezTo>
                <a:cubicBezTo>
                  <a:pt x="9194" y="5559"/>
                  <a:pt x="8827" y="4688"/>
                  <a:pt x="8185" y="4102"/>
                </a:cubicBezTo>
                <a:cubicBezTo>
                  <a:pt x="7548" y="3524"/>
                  <a:pt x="6843" y="3403"/>
                  <a:pt x="6084" y="3746"/>
                </a:cubicBezTo>
                <a:cubicBezTo>
                  <a:pt x="5999" y="3781"/>
                  <a:pt x="5909" y="3717"/>
                  <a:pt x="5888" y="3603"/>
                </a:cubicBezTo>
                <a:cubicBezTo>
                  <a:pt x="5867" y="3496"/>
                  <a:pt x="5915" y="3375"/>
                  <a:pt x="5994" y="3346"/>
                </a:cubicBezTo>
                <a:cubicBezTo>
                  <a:pt x="6315" y="3204"/>
                  <a:pt x="6627" y="3136"/>
                  <a:pt x="6930" y="3139"/>
                </a:cubicBezTo>
                <a:close/>
                <a:moveTo>
                  <a:pt x="4412" y="7120"/>
                </a:moveTo>
                <a:cubicBezTo>
                  <a:pt x="4454" y="7118"/>
                  <a:pt x="4496" y="7136"/>
                  <a:pt x="4528" y="7178"/>
                </a:cubicBezTo>
                <a:cubicBezTo>
                  <a:pt x="5112" y="7964"/>
                  <a:pt x="5357" y="9491"/>
                  <a:pt x="4678" y="11169"/>
                </a:cubicBezTo>
                <a:cubicBezTo>
                  <a:pt x="4630" y="11290"/>
                  <a:pt x="4688" y="11440"/>
                  <a:pt x="4789" y="11448"/>
                </a:cubicBezTo>
                <a:cubicBezTo>
                  <a:pt x="5622" y="11512"/>
                  <a:pt x="7236" y="11876"/>
                  <a:pt x="8250" y="13725"/>
                </a:cubicBezTo>
                <a:cubicBezTo>
                  <a:pt x="8287" y="13789"/>
                  <a:pt x="8351" y="13816"/>
                  <a:pt x="8409" y="13781"/>
                </a:cubicBezTo>
                <a:cubicBezTo>
                  <a:pt x="9009" y="13474"/>
                  <a:pt x="9645" y="13354"/>
                  <a:pt x="10245" y="13439"/>
                </a:cubicBezTo>
                <a:cubicBezTo>
                  <a:pt x="10314" y="13447"/>
                  <a:pt x="10373" y="13374"/>
                  <a:pt x="10373" y="13281"/>
                </a:cubicBezTo>
                <a:cubicBezTo>
                  <a:pt x="10373" y="12831"/>
                  <a:pt x="10547" y="12183"/>
                  <a:pt x="11237" y="11833"/>
                </a:cubicBezTo>
                <a:cubicBezTo>
                  <a:pt x="11322" y="11791"/>
                  <a:pt x="11413" y="11855"/>
                  <a:pt x="11439" y="11970"/>
                </a:cubicBezTo>
                <a:cubicBezTo>
                  <a:pt x="11466" y="12077"/>
                  <a:pt x="11417" y="12190"/>
                  <a:pt x="11338" y="12233"/>
                </a:cubicBezTo>
                <a:cubicBezTo>
                  <a:pt x="10547" y="12640"/>
                  <a:pt x="10691" y="13418"/>
                  <a:pt x="10696" y="13446"/>
                </a:cubicBezTo>
                <a:cubicBezTo>
                  <a:pt x="10707" y="13510"/>
                  <a:pt x="10743" y="13552"/>
                  <a:pt x="10786" y="13567"/>
                </a:cubicBezTo>
                <a:cubicBezTo>
                  <a:pt x="11391" y="13788"/>
                  <a:pt x="11889" y="14216"/>
                  <a:pt x="12170" y="14780"/>
                </a:cubicBezTo>
                <a:cubicBezTo>
                  <a:pt x="12218" y="14873"/>
                  <a:pt x="12208" y="15010"/>
                  <a:pt x="12144" y="15074"/>
                </a:cubicBezTo>
                <a:cubicBezTo>
                  <a:pt x="12117" y="15103"/>
                  <a:pt x="12091" y="15117"/>
                  <a:pt x="12059" y="15117"/>
                </a:cubicBezTo>
                <a:cubicBezTo>
                  <a:pt x="12006" y="15124"/>
                  <a:pt x="11954" y="15087"/>
                  <a:pt x="11917" y="15023"/>
                </a:cubicBezTo>
                <a:cubicBezTo>
                  <a:pt x="11386" y="13945"/>
                  <a:pt x="9852" y="13361"/>
                  <a:pt x="8308" y="14289"/>
                </a:cubicBezTo>
                <a:cubicBezTo>
                  <a:pt x="8239" y="14332"/>
                  <a:pt x="8160" y="14295"/>
                  <a:pt x="8117" y="14209"/>
                </a:cubicBezTo>
                <a:cubicBezTo>
                  <a:pt x="6870" y="11625"/>
                  <a:pt x="4296" y="11862"/>
                  <a:pt x="4270" y="11862"/>
                </a:cubicBezTo>
                <a:lnTo>
                  <a:pt x="3961" y="11847"/>
                </a:lnTo>
                <a:cubicBezTo>
                  <a:pt x="3924" y="11818"/>
                  <a:pt x="3892" y="11768"/>
                  <a:pt x="3881" y="11711"/>
                </a:cubicBezTo>
                <a:cubicBezTo>
                  <a:pt x="3759" y="11011"/>
                  <a:pt x="3176" y="10055"/>
                  <a:pt x="2332" y="9641"/>
                </a:cubicBezTo>
                <a:cubicBezTo>
                  <a:pt x="2263" y="9605"/>
                  <a:pt x="2209" y="9514"/>
                  <a:pt x="2220" y="9407"/>
                </a:cubicBezTo>
                <a:cubicBezTo>
                  <a:pt x="2236" y="9271"/>
                  <a:pt x="2337" y="9192"/>
                  <a:pt x="2427" y="9235"/>
                </a:cubicBezTo>
                <a:cubicBezTo>
                  <a:pt x="2788" y="9406"/>
                  <a:pt x="3170" y="9735"/>
                  <a:pt x="3483" y="10120"/>
                </a:cubicBezTo>
                <a:cubicBezTo>
                  <a:pt x="3680" y="10363"/>
                  <a:pt x="3913" y="10720"/>
                  <a:pt x="4067" y="11162"/>
                </a:cubicBezTo>
                <a:cubicBezTo>
                  <a:pt x="4115" y="11291"/>
                  <a:pt x="4248" y="11306"/>
                  <a:pt x="4306" y="11184"/>
                </a:cubicBezTo>
                <a:cubicBezTo>
                  <a:pt x="5022" y="9614"/>
                  <a:pt x="4831" y="8186"/>
                  <a:pt x="4311" y="7486"/>
                </a:cubicBezTo>
                <a:cubicBezTo>
                  <a:pt x="4253" y="7408"/>
                  <a:pt x="4243" y="7273"/>
                  <a:pt x="4301" y="7194"/>
                </a:cubicBezTo>
                <a:cubicBezTo>
                  <a:pt x="4330" y="7148"/>
                  <a:pt x="4370" y="7123"/>
                  <a:pt x="4412" y="7120"/>
                </a:cubicBezTo>
                <a:close/>
                <a:moveTo>
                  <a:pt x="2258" y="15717"/>
                </a:moveTo>
                <a:cubicBezTo>
                  <a:pt x="1971" y="17680"/>
                  <a:pt x="4031" y="19435"/>
                  <a:pt x="5702" y="18764"/>
                </a:cubicBezTo>
                <a:cubicBezTo>
                  <a:pt x="5612" y="19699"/>
                  <a:pt x="5001" y="21083"/>
                  <a:pt x="5001" y="21083"/>
                </a:cubicBezTo>
                <a:lnTo>
                  <a:pt x="6238" y="21427"/>
                </a:lnTo>
                <a:lnTo>
                  <a:pt x="8727" y="18063"/>
                </a:lnTo>
                <a:cubicBezTo>
                  <a:pt x="7390" y="17742"/>
                  <a:pt x="6699" y="17172"/>
                  <a:pt x="6333" y="16843"/>
                </a:cubicBezTo>
                <a:cubicBezTo>
                  <a:pt x="6163" y="16686"/>
                  <a:pt x="5962" y="16614"/>
                  <a:pt x="5761" y="16636"/>
                </a:cubicBezTo>
                <a:cubicBezTo>
                  <a:pt x="5442" y="16672"/>
                  <a:pt x="4954" y="16693"/>
                  <a:pt x="4381" y="16593"/>
                </a:cubicBezTo>
                <a:cubicBezTo>
                  <a:pt x="3786" y="16494"/>
                  <a:pt x="3027" y="16259"/>
                  <a:pt x="2258" y="15717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ental Model of Control Flow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8115480" y="2990880"/>
            <a:ext cx="564840" cy="565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8743680" y="263556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2571120" y="6839280"/>
            <a:ext cx="661968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o statements in order, one at a ti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jump in and out of the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nditional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skip state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555480" indent="-555480">
              <a:lnSpc>
                <a:spcPct val="150000"/>
              </a:lnSpc>
              <a:buClr>
                <a:srgbClr val="000000"/>
              </a:buClr>
              <a:buFont typeface="Gill Sans"/>
              <a:buAutoNum type="arabicPeriod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ops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sometimes go back to previo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8658360" y="6886440"/>
            <a:ext cx="42840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8"/>
          <p:cNvSpPr/>
          <p:nvPr/>
        </p:nvSpPr>
        <p:spPr>
          <a:xfrm flipV="1">
            <a:off x="2701800" y="7732800"/>
            <a:ext cx="0" cy="115560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937080" y="7894080"/>
            <a:ext cx="1650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re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10"/>
          <p:cNvSpPr/>
          <p:nvPr/>
        </p:nvSpPr>
        <p:spPr>
          <a:xfrm flipH="1">
            <a:off x="2701800" y="7616880"/>
            <a:ext cx="108000" cy="1173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2701800" y="8889840"/>
            <a:ext cx="125640" cy="106560"/>
          </a:xfrm>
          <a:prstGeom prst="line">
            <a:avLst/>
          </a:prstGeom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8404200" y="7521480"/>
            <a:ext cx="428760" cy="408240"/>
          </a:xfrm>
          <a:custGeom>
            <a:avLst/>
            <a:gdLst/>
            <a:ahLst/>
            <a:rect l="l" t="t" r="r" b="b"/>
            <a:pathLst>
              <a:path w="21452" h="20404">
                <a:moveTo>
                  <a:pt x="19340" y="6"/>
                </a:moveTo>
                <a:cubicBezTo>
                  <a:pt x="18911" y="-308"/>
                  <a:pt x="8317" y="11620"/>
                  <a:pt x="6423" y="13985"/>
                </a:cubicBezTo>
                <a:cubicBezTo>
                  <a:pt x="6323" y="14108"/>
                  <a:pt x="6215" y="14226"/>
                  <a:pt x="6090" y="14370"/>
                </a:cubicBezTo>
                <a:cubicBezTo>
                  <a:pt x="5960" y="14216"/>
                  <a:pt x="5854" y="14096"/>
                  <a:pt x="5755" y="13971"/>
                </a:cubicBezTo>
                <a:cubicBezTo>
                  <a:pt x="4964" y="12967"/>
                  <a:pt x="4458" y="12167"/>
                  <a:pt x="3657" y="11171"/>
                </a:cubicBezTo>
                <a:cubicBezTo>
                  <a:pt x="3337" y="10773"/>
                  <a:pt x="2972" y="10410"/>
                  <a:pt x="2634" y="10026"/>
                </a:cubicBezTo>
                <a:cubicBezTo>
                  <a:pt x="2472" y="9843"/>
                  <a:pt x="2283" y="9849"/>
                  <a:pt x="2071" y="9915"/>
                </a:cubicBezTo>
                <a:cubicBezTo>
                  <a:pt x="1856" y="9981"/>
                  <a:pt x="1574" y="9982"/>
                  <a:pt x="1303" y="10152"/>
                </a:cubicBezTo>
                <a:cubicBezTo>
                  <a:pt x="1209" y="10262"/>
                  <a:pt x="1332" y="10438"/>
                  <a:pt x="1349" y="10609"/>
                </a:cubicBezTo>
                <a:cubicBezTo>
                  <a:pt x="1369" y="10821"/>
                  <a:pt x="603" y="10792"/>
                  <a:pt x="203" y="11061"/>
                </a:cubicBezTo>
                <a:cubicBezTo>
                  <a:pt x="111" y="11123"/>
                  <a:pt x="286" y="11375"/>
                  <a:pt x="227" y="11440"/>
                </a:cubicBezTo>
                <a:cubicBezTo>
                  <a:pt x="51" y="11634"/>
                  <a:pt x="-61" y="11588"/>
                  <a:pt x="36" y="11826"/>
                </a:cubicBezTo>
                <a:cubicBezTo>
                  <a:pt x="896" y="13941"/>
                  <a:pt x="2182" y="15733"/>
                  <a:pt x="3218" y="17879"/>
                </a:cubicBezTo>
                <a:cubicBezTo>
                  <a:pt x="4865" y="21292"/>
                  <a:pt x="5178" y="19166"/>
                  <a:pt x="5654" y="19575"/>
                </a:cubicBezTo>
                <a:cubicBezTo>
                  <a:pt x="7119" y="20836"/>
                  <a:pt x="6474" y="21179"/>
                  <a:pt x="9921" y="16770"/>
                </a:cubicBezTo>
                <a:cubicBezTo>
                  <a:pt x="11378" y="14721"/>
                  <a:pt x="19009" y="5203"/>
                  <a:pt x="20710" y="3334"/>
                </a:cubicBezTo>
                <a:cubicBezTo>
                  <a:pt x="20919" y="3106"/>
                  <a:pt x="21118" y="2879"/>
                  <a:pt x="21258" y="2594"/>
                </a:cubicBezTo>
                <a:cubicBezTo>
                  <a:pt x="21526" y="2050"/>
                  <a:pt x="21539" y="2066"/>
                  <a:pt x="21150" y="1624"/>
                </a:cubicBezTo>
                <a:cubicBezTo>
                  <a:pt x="21006" y="1461"/>
                  <a:pt x="20856" y="1427"/>
                  <a:pt x="20646" y="1437"/>
                </a:cubicBezTo>
                <a:cubicBezTo>
                  <a:pt x="20244" y="1456"/>
                  <a:pt x="20044" y="1227"/>
                  <a:pt x="20086" y="860"/>
                </a:cubicBezTo>
                <a:cubicBezTo>
                  <a:pt x="20096" y="778"/>
                  <a:pt x="20075" y="672"/>
                  <a:pt x="20023" y="612"/>
                </a:cubicBezTo>
                <a:cubicBezTo>
                  <a:pt x="19903" y="469"/>
                  <a:pt x="19492" y="117"/>
                  <a:pt x="19340" y="6"/>
                </a:cubicBezTo>
                <a:close/>
              </a:path>
            </a:pathLst>
          </a:custGeom>
          <a:solidFill>
            <a:srgbClr val="61d8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AutoShape 13"/>
          <p:cNvSpPr/>
          <p:nvPr/>
        </p:nvSpPr>
        <p:spPr>
          <a:xfrm rot="10800000">
            <a:off x="9232560" y="8096040"/>
            <a:ext cx="428760" cy="43020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9741600" y="8076960"/>
            <a:ext cx="1147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O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15"/>
          <p:cNvSpPr/>
          <p:nvPr/>
        </p:nvSpPr>
        <p:spPr>
          <a:xfrm>
            <a:off x="1837080" y="2273040"/>
            <a:ext cx="19310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x = 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y = f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return y+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929292"/>
                </a:solidFill>
                <a:latin typeface="Courier New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1495440" y="2295360"/>
            <a:ext cx="2448000" cy="2154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1444320" y="171432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8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eve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Branches (aka "Paths of Execution”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2" name="Text Box 2"/>
          <p:cNvSpPr/>
          <p:nvPr/>
        </p:nvSpPr>
        <p:spPr>
          <a:xfrm>
            <a:off x="1207440" y="2222640"/>
            <a:ext cx="19310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nter x: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t’s od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ank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178640" y="1660680"/>
            <a:ext cx="2260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put/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AutoShape 4"/>
          <p:cNvSpPr/>
          <p:nvPr/>
        </p:nvSpPr>
        <p:spPr>
          <a:xfrm>
            <a:off x="6600960" y="3898800"/>
            <a:ext cx="3078000" cy="1270080"/>
          </a:xfrm>
          <a:prstGeom prst="pie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x % 2 == 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3713040" y="604512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it’s even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9275760" y="6045120"/>
            <a:ext cx="329076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(“it’s odd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761320" y="5045040"/>
            <a:ext cx="86688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Line 8"/>
          <p:cNvSpPr/>
          <p:nvPr/>
        </p:nvSpPr>
        <p:spPr>
          <a:xfrm flipH="1">
            <a:off x="6729480" y="5045040"/>
            <a:ext cx="8668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160560" y="500652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6325200" y="5006520"/>
            <a:ext cx="759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11"/>
          <p:cNvSpPr/>
          <p:nvPr/>
        </p:nvSpPr>
        <p:spPr>
          <a:xfrm>
            <a:off x="8140680" y="2906640"/>
            <a:ext cx="0" cy="90324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6494400" y="8101080"/>
            <a:ext cx="3291120" cy="87768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</a:rPr>
              <a:t>print(“thank you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Line 13"/>
          <p:cNvSpPr/>
          <p:nvPr/>
        </p:nvSpPr>
        <p:spPr>
          <a:xfrm flipH="1">
            <a:off x="8723160" y="7089840"/>
            <a:ext cx="865440" cy="866880"/>
          </a:xfrm>
          <a:prstGeom prst="line">
            <a:avLst/>
          </a:prstGeom>
          <a:ln w="10152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Line 14"/>
          <p:cNvSpPr/>
          <p:nvPr/>
        </p:nvSpPr>
        <p:spPr>
          <a:xfrm>
            <a:off x="6691320" y="7089840"/>
            <a:ext cx="865080" cy="866880"/>
          </a:xfrm>
          <a:prstGeom prst="line">
            <a:avLst/>
          </a:prstGeom>
          <a:ln w="1015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Rectangle 15"/>
          <p:cNvSpPr/>
          <p:nvPr/>
        </p:nvSpPr>
        <p:spPr>
          <a:xfrm>
            <a:off x="6494400" y="1943280"/>
            <a:ext cx="3291120" cy="876240"/>
          </a:xfrm>
          <a:prstGeom prst="rect">
            <a:avLst/>
          </a:prstGeom>
          <a:solidFill>
            <a:srgbClr val="d6d5d5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put(“enter x: ”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2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Gill Sans"/>
                <a:ea typeface="Gill Sans"/>
              </a:rPr>
              <a:t>x = int(x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AutoShape 3"/>
          <p:cNvSpPr/>
          <p:nvPr/>
        </p:nvSpPr>
        <p:spPr>
          <a:xfrm>
            <a:off x="4876920" y="33051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pSp>
        <p:nvGrpSpPr>
          <p:cNvPr id="250" name="Group 2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51" name="Rectangle 3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2" name="AutoShape 4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5" name="Rectangle 7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6" name="Rectangle 8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8" name="Line 10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59" name="Line 11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0" name="Line 12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263" name="Text Box 15"/>
          <p:cNvSpPr/>
          <p:nvPr/>
        </p:nvSpPr>
        <p:spPr>
          <a:xfrm>
            <a:off x="1194480" y="1952640"/>
            <a:ext cx="94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1266120" y="1952640"/>
            <a:ext cx="41256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8001000" y="210492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67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68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69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0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1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2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4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5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7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8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79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1"/>
          <p:cNvSpPr/>
          <p:nvPr/>
        </p:nvSpPr>
        <p:spPr>
          <a:xfrm>
            <a:off x="8001000" y="3728880"/>
            <a:ext cx="2862360" cy="1108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266120" y="1952640"/>
            <a:ext cx="4125600" cy="22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117440" y="3794040"/>
            <a:ext cx="54936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3606840" y="3794040"/>
            <a:ext cx="241200" cy="4906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AutoShape 6"/>
          <p:cNvSpPr/>
          <p:nvPr/>
        </p:nvSpPr>
        <p:spPr>
          <a:xfrm rot="16200000">
            <a:off x="2044800" y="4430160"/>
            <a:ext cx="1269720" cy="1270080"/>
          </a:xfrm>
          <a:prstGeom prst="rightArrow">
            <a:avLst>
              <a:gd name="adj1" fmla="val 32231"/>
              <a:gd name="adj2" fmla="val 44361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1221840" y="5797440"/>
            <a:ext cx="2914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oolean 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287" name="Group 8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288" name="Rectangle 9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89" name="AutoShape 10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1" name="Rectangle 12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2" name="Rectangle 13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3" name="Rectangle 14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4" name="Line 15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5" name="Line 16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6" name="Line 17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7" name="Line 18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8" name="Text Box 19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299" name="Text Box 20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1266120" y="1952640"/>
            <a:ext cx="4125600" cy="26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6070680" y="5229360"/>
            <a:ext cx="2862360" cy="12697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04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5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6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7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8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09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3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4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1"/>
          <p:cNvSpPr/>
          <p:nvPr/>
        </p:nvSpPr>
        <p:spPr>
          <a:xfrm>
            <a:off x="9893160" y="531972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19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20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1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2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3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4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5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6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7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8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29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0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  <p:sp>
        <p:nvSpPr>
          <p:cNvPr id="332" name="Text Box 17"/>
          <p:cNvSpPr/>
          <p:nvPr/>
        </p:nvSpPr>
        <p:spPr>
          <a:xfrm>
            <a:off x="820080" y="7456680"/>
            <a:ext cx="4378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lons will 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almost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 always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a tabbed new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"/>
          <p:cNvSpPr/>
          <p:nvPr/>
        </p:nvSpPr>
        <p:spPr>
          <a:xfrm>
            <a:off x="8001000" y="6765840"/>
            <a:ext cx="2862360" cy="127008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1266120" y="1952640"/>
            <a:ext cx="4125600" cy="41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36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37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8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39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0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1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2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3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4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5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6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7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48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0" name="Text Box 2"/>
          <p:cNvSpPr/>
          <p:nvPr/>
        </p:nvSpPr>
        <p:spPr>
          <a:xfrm>
            <a:off x="1266120" y="1952640"/>
            <a:ext cx="41256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9880560" y="537696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53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4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5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6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7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8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1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2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3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64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ditional execution (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lternate execution (els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hained conditionals (elif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the output of conditional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 nested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unt the number of blocks in a segment of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8001000" y="165744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Chapter 5 of Think Pyth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skip "Recursion" sections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8001000" y="3016080"/>
            <a:ext cx="4475160" cy="1162080"/>
          </a:xfrm>
          <a:prstGeom prst="rect">
            <a:avLst/>
          </a:prstGeom>
          <a:solidFill>
            <a:srgbClr val="f1f1f1"/>
          </a:solidFill>
          <a:ln w="25560">
            <a:solidFill>
              <a:srgbClr val="5e5e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Do PythonTutor Practice!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askerville"/>
              </a:rPr>
              <a:t>(posted on schedule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6" name="Text Box 2"/>
          <p:cNvSpPr/>
          <p:nvPr/>
        </p:nvSpPr>
        <p:spPr>
          <a:xfrm>
            <a:off x="1265400" y="1952640"/>
            <a:ext cx="4857120" cy="48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9829800" y="5338800"/>
            <a:ext cx="2862360" cy="104940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69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0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1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2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3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5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6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7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8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79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0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riting conditions i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8001000" y="6875640"/>
            <a:ext cx="2862360" cy="10490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pSp>
        <p:nvGrpSpPr>
          <p:cNvPr id="384" name="Group 4"/>
          <p:cNvGrpSpPr/>
          <p:nvPr/>
        </p:nvGrpSpPr>
        <p:grpSpPr>
          <a:xfrm>
            <a:off x="6418440" y="2384280"/>
            <a:ext cx="6026040" cy="5362560"/>
            <a:chOff x="6418440" y="2384280"/>
            <a:chExt cx="6026040" cy="5362560"/>
          </a:xfrm>
        </p:grpSpPr>
        <p:sp>
          <p:nvSpPr>
            <p:cNvPr id="385" name="Rectangle 5"/>
            <p:cNvSpPr/>
            <p:nvPr/>
          </p:nvSpPr>
          <p:spPr>
            <a:xfrm>
              <a:off x="8311680" y="23842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put(“enter x: 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= int(x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6" name="AutoShape 6"/>
            <p:cNvSpPr/>
            <p:nvPr/>
          </p:nvSpPr>
          <p:spPr>
            <a:xfrm>
              <a:off x="8383680" y="3875040"/>
              <a:ext cx="2095560" cy="967680"/>
            </a:xfrm>
            <a:prstGeom prst="pie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x % 2 == 0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7" name="Line 7"/>
            <p:cNvSpPr/>
            <p:nvPr/>
          </p:nvSpPr>
          <p:spPr>
            <a:xfrm>
              <a:off x="9431280" y="3119400"/>
              <a:ext cx="0" cy="68760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8" name="Rectangle 8"/>
            <p:cNvSpPr/>
            <p:nvPr/>
          </p:nvSpPr>
          <p:spPr>
            <a:xfrm>
              <a:off x="641844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even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we wanted odd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89" name="Rectangle 9"/>
            <p:cNvSpPr/>
            <p:nvPr/>
          </p:nvSpPr>
          <p:spPr>
            <a:xfrm>
              <a:off x="10204920" y="55108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it’s odd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good!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0" name="Rectangle 10"/>
            <p:cNvSpPr/>
            <p:nvPr/>
          </p:nvSpPr>
          <p:spPr>
            <a:xfrm>
              <a:off x="8311680" y="7078680"/>
              <a:ext cx="2239560" cy="668160"/>
            </a:xfrm>
            <a:prstGeom prst="rect">
              <a:avLst/>
            </a:prstGeom>
            <a:solidFill>
              <a:srgbClr val="d6d5d5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“thank you”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ill Sans SemiBold"/>
                  <a:ea typeface="Gill Sans SemiBold"/>
                </a:rPr>
                <a:t>print("all done")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1" name="Line 11"/>
            <p:cNvSpPr/>
            <p:nvPr/>
          </p:nvSpPr>
          <p:spPr>
            <a:xfrm>
              <a:off x="985500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2" name="Line 12"/>
            <p:cNvSpPr/>
            <p:nvPr/>
          </p:nvSpPr>
          <p:spPr>
            <a:xfrm flipH="1">
              <a:off x="8471880" y="47491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3" name="Line 13"/>
            <p:cNvSpPr/>
            <p:nvPr/>
          </p:nvSpPr>
          <p:spPr>
            <a:xfrm flipH="1">
              <a:off x="982836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4" name="Line 14"/>
            <p:cNvSpPr/>
            <p:nvPr/>
          </p:nvSpPr>
          <p:spPr>
            <a:xfrm>
              <a:off x="8444880" y="6307920"/>
              <a:ext cx="589680" cy="6602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5" name="Text Box 15"/>
            <p:cNvSpPr/>
            <p:nvPr/>
          </p:nvSpPr>
          <p:spPr>
            <a:xfrm>
              <a:off x="10243800" y="4778280"/>
              <a:ext cx="8614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Fals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  <p:sp>
          <p:nvSpPr>
            <p:cNvPr id="396" name="Text Box 16"/>
            <p:cNvSpPr/>
            <p:nvPr/>
          </p:nvSpPr>
          <p:spPr>
            <a:xfrm>
              <a:off x="7705440" y="4778280"/>
              <a:ext cx="9414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50760" bIns="50760" anchor="ctr">
              <a:noAutofit/>
            </a:bodyPr>
            <a:p>
              <a:pPr algn="ctr">
                <a:tabLst>
                  <a:tab algn="l" pos="0"/>
                  <a:tab algn="l" pos="584280"/>
                  <a:tab algn="l" pos="1168560"/>
                  <a:tab algn="l" pos="1752480"/>
                  <a:tab algn="l" pos="2336760"/>
                  <a:tab algn="l" pos="2921040"/>
                  <a:tab algn="l" pos="3505320"/>
                  <a:tab algn="l" pos="4089240"/>
                  <a:tab algn="l" pos="4673520"/>
                  <a:tab algn="l" pos="5257800"/>
                  <a:tab algn="l" pos="5842080"/>
                  <a:tab algn="l" pos="6426360"/>
                  <a:tab algn="l" pos="7010280"/>
                  <a:tab algn="l" pos="7594560"/>
                  <a:tab algn="l" pos="8178840"/>
                  <a:tab algn="l" pos="8763120"/>
                  <a:tab algn="l" pos="9347040"/>
                  <a:tab algn="l" pos="9931320"/>
                  <a:tab algn="l" pos="105156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Gill Sans"/>
                </a:rPr>
                <a:t>True</a:t>
              </a:r>
              <a:endParaRPr b="1" lang="en-US" sz="1400" spc="-1" strike="noStrike">
                <a:solidFill>
                  <a:srgbClr val="000000"/>
                </a:solidFill>
                <a:latin typeface="Gill Sans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AutoShape 3"/>
          <p:cNvSpPr/>
          <p:nvPr/>
        </p:nvSpPr>
        <p:spPr>
          <a:xfrm>
            <a:off x="513072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7" name="Text Box 2"/>
          <p:cNvSpPr/>
          <p:nvPr/>
        </p:nvSpPr>
        <p:spPr>
          <a:xfrm>
            <a:off x="1265400" y="1952640"/>
            <a:ext cx="485712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AutoShape 3"/>
          <p:cNvSpPr/>
          <p:nvPr/>
        </p:nvSpPr>
        <p:spPr>
          <a:xfrm>
            <a:off x="1828800" y="419112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6717600" y="41648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AutoShape 5"/>
          <p:cNvSpPr/>
          <p:nvPr/>
        </p:nvSpPr>
        <p:spPr>
          <a:xfrm>
            <a:off x="1816200" y="5348160"/>
            <a:ext cx="383544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Text Box 6"/>
          <p:cNvSpPr/>
          <p:nvPr/>
        </p:nvSpPr>
        <p:spPr>
          <a:xfrm>
            <a:off x="5739840" y="541260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Text Box 7"/>
          <p:cNvSpPr/>
          <p:nvPr/>
        </p:nvSpPr>
        <p:spPr>
          <a:xfrm>
            <a:off x="3546360" y="7829280"/>
            <a:ext cx="59101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hat if all this were inside a functio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14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AutoShape 3"/>
          <p:cNvSpPr/>
          <p:nvPr/>
        </p:nvSpPr>
        <p:spPr>
          <a:xfrm>
            <a:off x="2552760" y="4610160"/>
            <a:ext cx="4780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87" y="0"/>
                </a:moveTo>
                <a:cubicBezTo>
                  <a:pt x="128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28" y="21600"/>
                  <a:pt x="287" y="21600"/>
                </a:cubicBezTo>
                <a:lnTo>
                  <a:pt x="19306" y="21600"/>
                </a:lnTo>
                <a:cubicBezTo>
                  <a:pt x="19465" y="21600"/>
                  <a:pt x="19593" y="20816"/>
                  <a:pt x="19593" y="19849"/>
                </a:cubicBezTo>
                <a:lnTo>
                  <a:pt x="19593" y="16162"/>
                </a:lnTo>
                <a:lnTo>
                  <a:pt x="21600" y="12660"/>
                </a:lnTo>
                <a:lnTo>
                  <a:pt x="19593" y="9159"/>
                </a:lnTo>
                <a:lnTo>
                  <a:pt x="19593" y="1751"/>
                </a:lnTo>
                <a:cubicBezTo>
                  <a:pt x="19593" y="784"/>
                  <a:pt x="19465" y="0"/>
                  <a:pt x="19306" y="0"/>
                </a:cubicBezTo>
                <a:lnTo>
                  <a:pt x="287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7441560" y="458424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i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AutoShape 5"/>
          <p:cNvSpPr/>
          <p:nvPr/>
        </p:nvSpPr>
        <p:spPr>
          <a:xfrm>
            <a:off x="2540160" y="5716440"/>
            <a:ext cx="3835080" cy="782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58" y="0"/>
                </a:moveTo>
                <a:cubicBezTo>
                  <a:pt x="160" y="0"/>
                  <a:pt x="0" y="784"/>
                  <a:pt x="0" y="1751"/>
                </a:cubicBezTo>
                <a:lnTo>
                  <a:pt x="0" y="19849"/>
                </a:lnTo>
                <a:cubicBezTo>
                  <a:pt x="0" y="20816"/>
                  <a:pt x="160" y="21600"/>
                  <a:pt x="358" y="21600"/>
                </a:cubicBezTo>
                <a:lnTo>
                  <a:pt x="18739" y="21600"/>
                </a:lnTo>
                <a:cubicBezTo>
                  <a:pt x="18937" y="21600"/>
                  <a:pt x="19097" y="20816"/>
                  <a:pt x="19097" y="19849"/>
                </a:cubicBezTo>
                <a:lnTo>
                  <a:pt x="19097" y="16162"/>
                </a:lnTo>
                <a:lnTo>
                  <a:pt x="21600" y="12660"/>
                </a:lnTo>
                <a:lnTo>
                  <a:pt x="19097" y="9159"/>
                </a:lnTo>
                <a:lnTo>
                  <a:pt x="19097" y="1751"/>
                </a:lnTo>
                <a:cubicBezTo>
                  <a:pt x="19097" y="784"/>
                  <a:pt x="18937" y="0"/>
                  <a:pt x="18739" y="0"/>
                </a:cubicBezTo>
                <a:lnTo>
                  <a:pt x="35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Text Box 6"/>
          <p:cNvSpPr/>
          <p:nvPr/>
        </p:nvSpPr>
        <p:spPr>
          <a:xfrm>
            <a:off x="6463440" y="5780880"/>
            <a:ext cx="21078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inside “els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AutoShape 7"/>
          <p:cNvSpPr/>
          <p:nvPr/>
        </p:nvSpPr>
        <p:spPr>
          <a:xfrm>
            <a:off x="1828800" y="3127320"/>
            <a:ext cx="8213760" cy="45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08" y="0"/>
                </a:moveTo>
                <a:cubicBezTo>
                  <a:pt x="138" y="0"/>
                  <a:pt x="0" y="248"/>
                  <a:pt x="0" y="555"/>
                </a:cubicBezTo>
                <a:lnTo>
                  <a:pt x="0" y="21043"/>
                </a:lnTo>
                <a:cubicBezTo>
                  <a:pt x="0" y="21350"/>
                  <a:pt x="138" y="21600"/>
                  <a:pt x="308" y="21600"/>
                </a:cubicBezTo>
                <a:lnTo>
                  <a:pt x="20119" y="21600"/>
                </a:lnTo>
                <a:cubicBezTo>
                  <a:pt x="20289" y="21600"/>
                  <a:pt x="20427" y="21350"/>
                  <a:pt x="20427" y="21043"/>
                </a:cubicBezTo>
                <a:lnTo>
                  <a:pt x="20427" y="19863"/>
                </a:lnTo>
                <a:lnTo>
                  <a:pt x="21600" y="18753"/>
                </a:lnTo>
                <a:lnTo>
                  <a:pt x="20427" y="17642"/>
                </a:lnTo>
                <a:lnTo>
                  <a:pt x="20427" y="555"/>
                </a:lnTo>
                <a:cubicBezTo>
                  <a:pt x="20427" y="248"/>
                  <a:pt x="20289" y="0"/>
                  <a:pt x="20119" y="0"/>
                </a:cubicBezTo>
                <a:lnTo>
                  <a:pt x="308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10113120" y="6657480"/>
            <a:ext cx="24796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block of code i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heck_oddne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Text Box 9"/>
          <p:cNvSpPr/>
          <p:nvPr/>
        </p:nvSpPr>
        <p:spPr>
          <a:xfrm>
            <a:off x="3565800" y="1297800"/>
            <a:ext cx="8843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need to get good at “seeing” code blocks in Python code.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ven blocks inside blocks inside blocks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7944840" y="4815720"/>
            <a:ext cx="394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1: look for a colon a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nd of a l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Oval 4"/>
          <p:cNvSpPr/>
          <p:nvPr/>
        </p:nvSpPr>
        <p:spPr>
          <a:xfrm>
            <a:off x="4635360" y="2712960"/>
            <a:ext cx="31608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2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Text Box 3"/>
          <p:cNvSpPr/>
          <p:nvPr/>
        </p:nvSpPr>
        <p:spPr>
          <a:xfrm>
            <a:off x="7612200" y="4815720"/>
            <a:ext cx="4611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2: start drawing a line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n next code line, indented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Line 4"/>
          <p:cNvSpPr/>
          <p:nvPr/>
        </p:nvSpPr>
        <p:spPr>
          <a:xfrm>
            <a:off x="1801800" y="3276720"/>
            <a:ext cx="0" cy="34452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AutoShape 5"/>
          <p:cNvSpPr/>
          <p:nvPr/>
        </p:nvSpPr>
        <p:spPr>
          <a:xfrm rot="12732000">
            <a:off x="1368360" y="350028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Text Box 3"/>
          <p:cNvSpPr/>
          <p:nvPr/>
        </p:nvSpPr>
        <p:spPr>
          <a:xfrm>
            <a:off x="7212600" y="4816440"/>
            <a:ext cx="5410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3: continue down until you hit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code that is less indent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AutoShape 5"/>
          <p:cNvSpPr/>
          <p:nvPr/>
        </p:nvSpPr>
        <p:spPr>
          <a:xfrm rot="12732000">
            <a:off x="136836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Line 4"/>
          <p:cNvSpPr/>
          <p:nvPr/>
        </p:nvSpPr>
        <p:spPr>
          <a:xfrm flipH="1">
            <a:off x="1801800" y="3276720"/>
            <a:ext cx="1440" cy="451620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AutoShape 5"/>
          <p:cNvSpPr/>
          <p:nvPr/>
        </p:nvSpPr>
        <p:spPr>
          <a:xfrm rot="12732000">
            <a:off x="6702480" y="7704000"/>
            <a:ext cx="131760" cy="1379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5320" y="0"/>
                </a:moveTo>
                <a:cubicBezTo>
                  <a:pt x="2381" y="0"/>
                  <a:pt x="0" y="227"/>
                  <a:pt x="0" y="508"/>
                </a:cubicBezTo>
                <a:lnTo>
                  <a:pt x="0" y="1390"/>
                </a:lnTo>
                <a:lnTo>
                  <a:pt x="21600" y="1390"/>
                </a:lnTo>
                <a:lnTo>
                  <a:pt x="21600" y="508"/>
                </a:lnTo>
                <a:cubicBezTo>
                  <a:pt x="21600" y="227"/>
                  <a:pt x="19201" y="0"/>
                  <a:pt x="16262" y="0"/>
                </a:cubicBezTo>
                <a:lnTo>
                  <a:pt x="5320" y="0"/>
                </a:lnTo>
                <a:close/>
                <a:moveTo>
                  <a:pt x="0" y="1714"/>
                </a:moveTo>
                <a:lnTo>
                  <a:pt x="0" y="4104"/>
                </a:lnTo>
                <a:lnTo>
                  <a:pt x="21600" y="4104"/>
                </a:lnTo>
                <a:lnTo>
                  <a:pt x="21600" y="1714"/>
                </a:lnTo>
                <a:lnTo>
                  <a:pt x="0" y="1714"/>
                </a:lnTo>
                <a:close/>
                <a:moveTo>
                  <a:pt x="0" y="4428"/>
                </a:moveTo>
                <a:lnTo>
                  <a:pt x="0" y="16997"/>
                </a:lnTo>
                <a:cubicBezTo>
                  <a:pt x="715" y="16978"/>
                  <a:pt x="1487" y="16968"/>
                  <a:pt x="2298" y="16968"/>
                </a:cubicBezTo>
                <a:cubicBezTo>
                  <a:pt x="3854" y="16968"/>
                  <a:pt x="5364" y="17008"/>
                  <a:pt x="6558" y="17079"/>
                </a:cubicBezTo>
                <a:cubicBezTo>
                  <a:pt x="7751" y="17008"/>
                  <a:pt x="9243" y="16968"/>
                  <a:pt x="10800" y="16968"/>
                </a:cubicBezTo>
                <a:cubicBezTo>
                  <a:pt x="12357" y="16968"/>
                  <a:pt x="13849" y="17008"/>
                  <a:pt x="15042" y="17079"/>
                </a:cubicBezTo>
                <a:cubicBezTo>
                  <a:pt x="16235" y="17008"/>
                  <a:pt x="17746" y="16968"/>
                  <a:pt x="19302" y="16968"/>
                </a:cubicBezTo>
                <a:cubicBezTo>
                  <a:pt x="20113" y="16968"/>
                  <a:pt x="20884" y="16978"/>
                  <a:pt x="21600" y="16997"/>
                </a:cubicBezTo>
                <a:lnTo>
                  <a:pt x="21600" y="4428"/>
                </a:lnTo>
                <a:lnTo>
                  <a:pt x="0" y="4428"/>
                </a:lnTo>
                <a:close/>
                <a:moveTo>
                  <a:pt x="2298" y="17292"/>
                </a:moveTo>
                <a:cubicBezTo>
                  <a:pt x="1561" y="17292"/>
                  <a:pt x="907" y="17305"/>
                  <a:pt x="371" y="17327"/>
                </a:cubicBezTo>
                <a:lnTo>
                  <a:pt x="5409" y="19388"/>
                </a:lnTo>
                <a:lnTo>
                  <a:pt x="6116" y="19678"/>
                </a:lnTo>
                <a:lnTo>
                  <a:pt x="15484" y="19678"/>
                </a:lnTo>
                <a:lnTo>
                  <a:pt x="16191" y="19388"/>
                </a:lnTo>
                <a:lnTo>
                  <a:pt x="21229" y="17327"/>
                </a:lnTo>
                <a:cubicBezTo>
                  <a:pt x="20693" y="17305"/>
                  <a:pt x="20038" y="17292"/>
                  <a:pt x="19302" y="17292"/>
                </a:cubicBezTo>
                <a:cubicBezTo>
                  <a:pt x="18082" y="17292"/>
                  <a:pt x="16931" y="17331"/>
                  <a:pt x="16297" y="17396"/>
                </a:cubicBezTo>
                <a:lnTo>
                  <a:pt x="15042" y="17525"/>
                </a:lnTo>
                <a:lnTo>
                  <a:pt x="13805" y="17396"/>
                </a:lnTo>
                <a:cubicBezTo>
                  <a:pt x="13170" y="17331"/>
                  <a:pt x="12020" y="17292"/>
                  <a:pt x="10800" y="17292"/>
                </a:cubicBezTo>
                <a:cubicBezTo>
                  <a:pt x="9580" y="17292"/>
                  <a:pt x="8429" y="17331"/>
                  <a:pt x="7795" y="17396"/>
                </a:cubicBezTo>
                <a:lnTo>
                  <a:pt x="6558" y="17525"/>
                </a:lnTo>
                <a:lnTo>
                  <a:pt x="5303" y="17396"/>
                </a:lnTo>
                <a:cubicBezTo>
                  <a:pt x="4668" y="17331"/>
                  <a:pt x="3517" y="17292"/>
                  <a:pt x="2298" y="17292"/>
                </a:cubicBezTo>
                <a:close/>
                <a:moveTo>
                  <a:pt x="6894" y="20002"/>
                </a:moveTo>
                <a:lnTo>
                  <a:pt x="10800" y="21600"/>
                </a:lnTo>
                <a:lnTo>
                  <a:pt x="14706" y="20002"/>
                </a:lnTo>
                <a:lnTo>
                  <a:pt x="6894" y="20002"/>
                </a:lnTo>
                <a:close/>
              </a:path>
            </a:pathLst>
          </a:custGeom>
          <a:solidFill>
            <a:srgbClr val="5e5e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Line 6"/>
          <p:cNvSpPr/>
          <p:nvPr/>
        </p:nvSpPr>
        <p:spPr>
          <a:xfrm>
            <a:off x="1816200" y="7807320"/>
            <a:ext cx="5289480" cy="0"/>
          </a:xfrm>
          <a:prstGeom prst="line">
            <a:avLst/>
          </a:prstGeom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463840" y="12859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8093520" y="4816440"/>
            <a:ext cx="3648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tep 4: box off the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1816200" y="3124080"/>
            <a:ext cx="5289480" cy="464976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Oval 5"/>
          <p:cNvSpPr/>
          <p:nvPr/>
        </p:nvSpPr>
        <p:spPr>
          <a:xfrm>
            <a:off x="4292640" y="414828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2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7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Rectangle 5"/>
          <p:cNvSpPr/>
          <p:nvPr/>
        </p:nvSpPr>
        <p:spPr>
          <a:xfrm>
            <a:off x="2540160" y="449568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Oval 6"/>
          <p:cNvSpPr/>
          <p:nvPr/>
        </p:nvSpPr>
        <p:spPr>
          <a:xfrm>
            <a:off x="2638440" y="5367240"/>
            <a:ext cx="315720" cy="500040"/>
          </a:xfrm>
          <a:prstGeom prst="ellipse">
            <a:avLst/>
          </a:prstGeom>
          <a:noFill/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3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Code Bloc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9" name="Text Box 2"/>
          <p:cNvSpPr/>
          <p:nvPr/>
        </p:nvSpPr>
        <p:spPr>
          <a:xfrm>
            <a:off x="1265760" y="1952640"/>
            <a:ext cx="5588640" cy="63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d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heck_oddness(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x = input(“enter x: 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x = int(x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x % 2 == 0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even”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print(“we wanted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it’s odd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good!”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print(“thank you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nt(“all done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eck_oddnes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Text Box 3"/>
          <p:cNvSpPr/>
          <p:nvPr/>
        </p:nvSpPr>
        <p:spPr>
          <a:xfrm>
            <a:off x="8662320" y="4535640"/>
            <a:ext cx="35524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to find more boxes,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look for the next colon</a:t>
            </a:r>
            <a:br>
              <a:rPr sz="2400"/>
            </a:b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 repe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Rectangle 4"/>
          <p:cNvSpPr/>
          <p:nvPr/>
        </p:nvSpPr>
        <p:spPr>
          <a:xfrm>
            <a:off x="1816200" y="3147840"/>
            <a:ext cx="5289480" cy="465012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Rectangle 5"/>
          <p:cNvSpPr/>
          <p:nvPr/>
        </p:nvSpPr>
        <p:spPr>
          <a:xfrm>
            <a:off x="2540160" y="4583160"/>
            <a:ext cx="4243320" cy="8636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Rectangle 6"/>
          <p:cNvSpPr/>
          <p:nvPr/>
        </p:nvSpPr>
        <p:spPr>
          <a:xfrm>
            <a:off x="2540160" y="5675400"/>
            <a:ext cx="4243320" cy="1158840"/>
          </a:xfrm>
          <a:prstGeom prst="rect">
            <a:avLst/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Rectangle 7"/>
          <p:cNvSpPr/>
          <p:nvPr/>
        </p:nvSpPr>
        <p:spPr>
          <a:xfrm>
            <a:off x="685800" y="1663560"/>
            <a:ext cx="11864880" cy="72010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5623560" y="1784160"/>
            <a:ext cx="175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orkshee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rol Flow Diagram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asic syntax for “if”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Identifying code bloc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AutoShape 3"/>
          <p:cNvSpPr/>
          <p:nvPr/>
        </p:nvSpPr>
        <p:spPr>
          <a:xfrm>
            <a:off x="2565360" y="537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Classifying Children by Ag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0" name="Text Box 2"/>
          <p:cNvSpPr/>
          <p:nvPr/>
        </p:nvSpPr>
        <p:spPr>
          <a:xfrm>
            <a:off x="2363040" y="1673640"/>
            <a:ext cx="78958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hat are all the different ways to classify children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3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f you are 15 years old you are a ……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1543320" y="436392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categorize_age(age)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age &lt;= …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‘baby’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TextBox 2"/>
          <p:cNvSpPr/>
          <p:nvPr/>
        </p:nvSpPr>
        <p:spPr>
          <a:xfrm>
            <a:off x="2705040" y="344952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rite a function that is given an int and returns a st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Date Prin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84" name="Text Box 2"/>
          <p:cNvSpPr/>
          <p:nvPr/>
        </p:nvSpPr>
        <p:spPr>
          <a:xfrm>
            <a:off x="3634560" y="2584440"/>
            <a:ext cx="6137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year: (YYYY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0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month (1-12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lease enter a day (1-31)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1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date i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Feb 11th of ‘2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AutoShape 3"/>
          <p:cNvSpPr/>
          <p:nvPr/>
        </p:nvSpPr>
        <p:spPr>
          <a:xfrm>
            <a:off x="8634240" y="4154400"/>
            <a:ext cx="995400" cy="1074960"/>
          </a:xfrm>
          <a:custGeom>
            <a:avLst/>
            <a:gdLst/>
            <a:ahLst/>
            <a:rect l="l" t="t" r="r" b="b"/>
            <a:pathLst>
              <a:path w="20613" h="21600">
                <a:moveTo>
                  <a:pt x="20613" y="21600"/>
                </a:moveTo>
                <a:cubicBezTo>
                  <a:pt x="5846" y="20973"/>
                  <a:pt x="-987" y="13773"/>
                  <a:pt x="114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334000" y="5781240"/>
            <a:ext cx="3168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e.g., 1st, 2nd, 3rd, et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AutoShape 5"/>
          <p:cNvSpPr/>
          <p:nvPr/>
        </p:nvSpPr>
        <p:spPr>
          <a:xfrm>
            <a:off x="5173560" y="4230720"/>
            <a:ext cx="1090800" cy="1054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4397" y="21542"/>
                  <a:pt x="21597" y="14342"/>
                  <a:pt x="2160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Text Box 6"/>
          <p:cNvSpPr/>
          <p:nvPr/>
        </p:nvSpPr>
        <p:spPr>
          <a:xfrm>
            <a:off x="1069920" y="5057640"/>
            <a:ext cx="4233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nvert month num to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AutoShape 7"/>
          <p:cNvSpPr/>
          <p:nvPr/>
        </p:nvSpPr>
        <p:spPr>
          <a:xfrm>
            <a:off x="7078680" y="4230720"/>
            <a:ext cx="1266840" cy="1792080"/>
          </a:xfrm>
          <a:custGeom>
            <a:avLst/>
            <a:gdLst/>
            <a:ahLst/>
            <a:rect l="l" t="t" r="r" b="b"/>
            <a:pathLst>
              <a:path w="21514" h="21600">
                <a:moveTo>
                  <a:pt x="21514" y="21600"/>
                </a:moveTo>
                <a:cubicBezTo>
                  <a:pt x="7085" y="17623"/>
                  <a:pt x="-86" y="10423"/>
                  <a:pt x="1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9690480" y="4975560"/>
            <a:ext cx="1774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’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2-digit yea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AutoShape 9"/>
          <p:cNvSpPr/>
          <p:nvPr/>
        </p:nvSpPr>
        <p:spPr>
          <a:xfrm>
            <a:off x="5389560" y="6823080"/>
            <a:ext cx="2224080" cy="2452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89" y="0"/>
                </a:moveTo>
                <a:cubicBezTo>
                  <a:pt x="4152" y="0"/>
                  <a:pt x="4034" y="103"/>
                  <a:pt x="4034" y="233"/>
                </a:cubicBezTo>
                <a:lnTo>
                  <a:pt x="4034" y="1151"/>
                </a:lnTo>
                <a:lnTo>
                  <a:pt x="4034" y="2953"/>
                </a:lnTo>
                <a:lnTo>
                  <a:pt x="6428" y="2953"/>
                </a:lnTo>
                <a:lnTo>
                  <a:pt x="6433" y="1151"/>
                </a:lnTo>
                <a:lnTo>
                  <a:pt x="6433" y="233"/>
                </a:lnTo>
                <a:cubicBezTo>
                  <a:pt x="6433" y="109"/>
                  <a:pt x="6321" y="0"/>
                  <a:pt x="6178" y="0"/>
                </a:cubicBezTo>
                <a:lnTo>
                  <a:pt x="4289" y="0"/>
                </a:lnTo>
                <a:close/>
                <a:moveTo>
                  <a:pt x="15422" y="0"/>
                </a:moveTo>
                <a:cubicBezTo>
                  <a:pt x="15279" y="0"/>
                  <a:pt x="15167" y="109"/>
                  <a:pt x="15167" y="233"/>
                </a:cubicBezTo>
                <a:lnTo>
                  <a:pt x="15167" y="1151"/>
                </a:lnTo>
                <a:lnTo>
                  <a:pt x="15172" y="2953"/>
                </a:lnTo>
                <a:lnTo>
                  <a:pt x="17566" y="2953"/>
                </a:lnTo>
                <a:lnTo>
                  <a:pt x="17566" y="1151"/>
                </a:lnTo>
                <a:lnTo>
                  <a:pt x="17566" y="233"/>
                </a:lnTo>
                <a:cubicBezTo>
                  <a:pt x="17566" y="103"/>
                  <a:pt x="17448" y="0"/>
                  <a:pt x="17311" y="0"/>
                </a:cubicBezTo>
                <a:lnTo>
                  <a:pt x="15422" y="0"/>
                </a:lnTo>
                <a:close/>
                <a:moveTo>
                  <a:pt x="1031" y="2150"/>
                </a:moveTo>
                <a:cubicBezTo>
                  <a:pt x="465" y="2150"/>
                  <a:pt x="0" y="2565"/>
                  <a:pt x="0" y="3083"/>
                </a:cubicBezTo>
                <a:lnTo>
                  <a:pt x="0" y="20665"/>
                </a:lnTo>
                <a:cubicBezTo>
                  <a:pt x="0" y="21178"/>
                  <a:pt x="459" y="21600"/>
                  <a:pt x="1031" y="21600"/>
                </a:cubicBezTo>
                <a:lnTo>
                  <a:pt x="20569" y="21600"/>
                </a:lnTo>
                <a:cubicBezTo>
                  <a:pt x="21135" y="21600"/>
                  <a:pt x="21600" y="21184"/>
                  <a:pt x="21600" y="20665"/>
                </a:cubicBezTo>
                <a:lnTo>
                  <a:pt x="21600" y="3083"/>
                </a:lnTo>
                <a:cubicBezTo>
                  <a:pt x="21600" y="2570"/>
                  <a:pt x="21135" y="2150"/>
                  <a:pt x="20569" y="2150"/>
                </a:cubicBezTo>
                <a:lnTo>
                  <a:pt x="18329" y="2150"/>
                </a:lnTo>
                <a:lnTo>
                  <a:pt x="18329" y="3088"/>
                </a:lnTo>
                <a:cubicBezTo>
                  <a:pt x="18329" y="3396"/>
                  <a:pt x="18049" y="3650"/>
                  <a:pt x="17710" y="3650"/>
                </a:cubicBezTo>
                <a:lnTo>
                  <a:pt x="15018" y="3650"/>
                </a:lnTo>
                <a:cubicBezTo>
                  <a:pt x="14678" y="3650"/>
                  <a:pt x="14398" y="3396"/>
                  <a:pt x="14398" y="3088"/>
                </a:cubicBezTo>
                <a:lnTo>
                  <a:pt x="14398" y="2150"/>
                </a:lnTo>
                <a:lnTo>
                  <a:pt x="7202" y="2150"/>
                </a:lnTo>
                <a:lnTo>
                  <a:pt x="7202" y="3088"/>
                </a:lnTo>
                <a:cubicBezTo>
                  <a:pt x="7202" y="3396"/>
                  <a:pt x="6922" y="3650"/>
                  <a:pt x="6582" y="3650"/>
                </a:cubicBezTo>
                <a:lnTo>
                  <a:pt x="3890" y="3650"/>
                </a:lnTo>
                <a:cubicBezTo>
                  <a:pt x="3551" y="3650"/>
                  <a:pt x="3271" y="3396"/>
                  <a:pt x="3271" y="3088"/>
                </a:cubicBezTo>
                <a:lnTo>
                  <a:pt x="3271" y="2150"/>
                </a:lnTo>
                <a:lnTo>
                  <a:pt x="1031" y="2150"/>
                </a:lnTo>
                <a:close/>
                <a:moveTo>
                  <a:pt x="1508" y="6389"/>
                </a:moveTo>
                <a:lnTo>
                  <a:pt x="20092" y="6389"/>
                </a:lnTo>
                <a:lnTo>
                  <a:pt x="20092" y="19565"/>
                </a:lnTo>
                <a:lnTo>
                  <a:pt x="1508" y="19565"/>
                </a:lnTo>
                <a:lnTo>
                  <a:pt x="1508" y="6389"/>
                </a:lnTo>
                <a:close/>
                <a:moveTo>
                  <a:pt x="3807" y="8451"/>
                </a:moveTo>
                <a:cubicBezTo>
                  <a:pt x="3777" y="8451"/>
                  <a:pt x="3747" y="8478"/>
                  <a:pt x="3747" y="8505"/>
                </a:cubicBezTo>
                <a:lnTo>
                  <a:pt x="3747" y="10493"/>
                </a:lnTo>
                <a:cubicBezTo>
                  <a:pt x="3747" y="10525"/>
                  <a:pt x="3777" y="10547"/>
                  <a:pt x="3807" y="10547"/>
                </a:cubicBezTo>
                <a:lnTo>
                  <a:pt x="5999" y="10547"/>
                </a:lnTo>
                <a:cubicBezTo>
                  <a:pt x="6029" y="10547"/>
                  <a:pt x="6059" y="10525"/>
                  <a:pt x="6059" y="10493"/>
                </a:cubicBezTo>
                <a:lnTo>
                  <a:pt x="6059" y="8505"/>
                </a:lnTo>
                <a:cubicBezTo>
                  <a:pt x="6059" y="8478"/>
                  <a:pt x="6029" y="8451"/>
                  <a:pt x="5999" y="8451"/>
                </a:cubicBezTo>
                <a:lnTo>
                  <a:pt x="3807" y="8451"/>
                </a:lnTo>
                <a:close/>
                <a:moveTo>
                  <a:pt x="7654" y="8451"/>
                </a:moveTo>
                <a:cubicBezTo>
                  <a:pt x="7618" y="8451"/>
                  <a:pt x="7595" y="8478"/>
                  <a:pt x="7595" y="8505"/>
                </a:cubicBezTo>
                <a:lnTo>
                  <a:pt x="7595" y="10493"/>
                </a:lnTo>
                <a:cubicBezTo>
                  <a:pt x="7595" y="10525"/>
                  <a:pt x="7618" y="10547"/>
                  <a:pt x="7654" y="10547"/>
                </a:cubicBezTo>
                <a:lnTo>
                  <a:pt x="9847" y="10547"/>
                </a:lnTo>
                <a:cubicBezTo>
                  <a:pt x="9877" y="10547"/>
                  <a:pt x="9907" y="10525"/>
                  <a:pt x="9907" y="10493"/>
                </a:cubicBezTo>
                <a:lnTo>
                  <a:pt x="9907" y="8505"/>
                </a:lnTo>
                <a:cubicBezTo>
                  <a:pt x="9907" y="8478"/>
                  <a:pt x="9877" y="8451"/>
                  <a:pt x="9847" y="8451"/>
                </a:cubicBezTo>
                <a:lnTo>
                  <a:pt x="7654" y="8451"/>
                </a:lnTo>
                <a:close/>
                <a:moveTo>
                  <a:pt x="11753" y="8451"/>
                </a:moveTo>
                <a:cubicBezTo>
                  <a:pt x="11723" y="8451"/>
                  <a:pt x="11693" y="8478"/>
                  <a:pt x="11693" y="8505"/>
                </a:cubicBezTo>
                <a:lnTo>
                  <a:pt x="11693" y="10493"/>
                </a:lnTo>
                <a:cubicBezTo>
                  <a:pt x="11693" y="10525"/>
                  <a:pt x="11723" y="10547"/>
                  <a:pt x="11753" y="10547"/>
                </a:cubicBezTo>
                <a:lnTo>
                  <a:pt x="13946" y="10547"/>
                </a:lnTo>
                <a:cubicBezTo>
                  <a:pt x="13976" y="10547"/>
                  <a:pt x="14005" y="10525"/>
                  <a:pt x="14005" y="10493"/>
                </a:cubicBezTo>
                <a:lnTo>
                  <a:pt x="14005" y="8505"/>
                </a:lnTo>
                <a:cubicBezTo>
                  <a:pt x="14005" y="8478"/>
                  <a:pt x="13976" y="8451"/>
                  <a:pt x="13946" y="8451"/>
                </a:cubicBezTo>
                <a:lnTo>
                  <a:pt x="11753" y="8451"/>
                </a:lnTo>
                <a:close/>
                <a:moveTo>
                  <a:pt x="15601" y="8451"/>
                </a:moveTo>
                <a:cubicBezTo>
                  <a:pt x="15565" y="8451"/>
                  <a:pt x="15541" y="8478"/>
                  <a:pt x="15541" y="8505"/>
                </a:cubicBezTo>
                <a:lnTo>
                  <a:pt x="15541" y="10493"/>
                </a:lnTo>
                <a:cubicBezTo>
                  <a:pt x="15541" y="10525"/>
                  <a:pt x="15565" y="10547"/>
                  <a:pt x="15601" y="10547"/>
                </a:cubicBezTo>
                <a:lnTo>
                  <a:pt x="17793" y="10547"/>
                </a:lnTo>
                <a:cubicBezTo>
                  <a:pt x="17829" y="10547"/>
                  <a:pt x="17853" y="10525"/>
                  <a:pt x="17853" y="10493"/>
                </a:cubicBezTo>
                <a:lnTo>
                  <a:pt x="17853" y="8505"/>
                </a:lnTo>
                <a:cubicBezTo>
                  <a:pt x="17853" y="8478"/>
                  <a:pt x="17829" y="8451"/>
                  <a:pt x="17793" y="8451"/>
                </a:cubicBezTo>
                <a:lnTo>
                  <a:pt x="15601" y="8451"/>
                </a:lnTo>
                <a:close/>
                <a:moveTo>
                  <a:pt x="3771" y="12086"/>
                </a:moveTo>
                <a:cubicBezTo>
                  <a:pt x="3736" y="12086"/>
                  <a:pt x="3712" y="12107"/>
                  <a:pt x="3712" y="12140"/>
                </a:cubicBezTo>
                <a:lnTo>
                  <a:pt x="3712" y="14126"/>
                </a:lnTo>
                <a:cubicBezTo>
                  <a:pt x="3712" y="14153"/>
                  <a:pt x="3736" y="14180"/>
                  <a:pt x="3771" y="14180"/>
                </a:cubicBezTo>
                <a:lnTo>
                  <a:pt x="5964" y="14180"/>
                </a:lnTo>
                <a:cubicBezTo>
                  <a:pt x="5994" y="14180"/>
                  <a:pt x="6024" y="14153"/>
                  <a:pt x="6024" y="14126"/>
                </a:cubicBezTo>
                <a:lnTo>
                  <a:pt x="6024" y="12140"/>
                </a:lnTo>
                <a:cubicBezTo>
                  <a:pt x="6024" y="12107"/>
                  <a:pt x="5994" y="12086"/>
                  <a:pt x="5964" y="12086"/>
                </a:cubicBezTo>
                <a:lnTo>
                  <a:pt x="3771" y="12086"/>
                </a:lnTo>
                <a:close/>
                <a:moveTo>
                  <a:pt x="7619" y="12086"/>
                </a:moveTo>
                <a:cubicBezTo>
                  <a:pt x="7583" y="12086"/>
                  <a:pt x="7559" y="12107"/>
                  <a:pt x="7559" y="12140"/>
                </a:cubicBezTo>
                <a:lnTo>
                  <a:pt x="7559" y="14126"/>
                </a:lnTo>
                <a:cubicBezTo>
                  <a:pt x="7559" y="14153"/>
                  <a:pt x="7583" y="14180"/>
                  <a:pt x="7619" y="14180"/>
                </a:cubicBezTo>
                <a:lnTo>
                  <a:pt x="9812" y="14180"/>
                </a:lnTo>
                <a:cubicBezTo>
                  <a:pt x="9841" y="14180"/>
                  <a:pt x="9871" y="14153"/>
                  <a:pt x="9871" y="14126"/>
                </a:cubicBezTo>
                <a:lnTo>
                  <a:pt x="9871" y="12140"/>
                </a:lnTo>
                <a:cubicBezTo>
                  <a:pt x="9871" y="12107"/>
                  <a:pt x="9841" y="12086"/>
                  <a:pt x="9812" y="12086"/>
                </a:cubicBezTo>
                <a:lnTo>
                  <a:pt x="7619" y="12086"/>
                </a:lnTo>
                <a:close/>
                <a:moveTo>
                  <a:pt x="11788" y="12086"/>
                </a:moveTo>
                <a:cubicBezTo>
                  <a:pt x="11759" y="12086"/>
                  <a:pt x="11729" y="12107"/>
                  <a:pt x="11729" y="12140"/>
                </a:cubicBezTo>
                <a:lnTo>
                  <a:pt x="11729" y="14126"/>
                </a:lnTo>
                <a:cubicBezTo>
                  <a:pt x="11729" y="14153"/>
                  <a:pt x="11759" y="14180"/>
                  <a:pt x="11788" y="14180"/>
                </a:cubicBezTo>
                <a:lnTo>
                  <a:pt x="13981" y="14180"/>
                </a:lnTo>
                <a:cubicBezTo>
                  <a:pt x="14011" y="14180"/>
                  <a:pt x="14041" y="14153"/>
                  <a:pt x="14041" y="14126"/>
                </a:cubicBezTo>
                <a:lnTo>
                  <a:pt x="14041" y="12140"/>
                </a:lnTo>
                <a:cubicBezTo>
                  <a:pt x="14041" y="12107"/>
                  <a:pt x="14011" y="12086"/>
                  <a:pt x="13981" y="12086"/>
                </a:cubicBezTo>
                <a:lnTo>
                  <a:pt x="11788" y="12086"/>
                </a:lnTo>
                <a:close/>
                <a:moveTo>
                  <a:pt x="15636" y="12086"/>
                </a:moveTo>
                <a:cubicBezTo>
                  <a:pt x="15600" y="12086"/>
                  <a:pt x="15576" y="12107"/>
                  <a:pt x="15576" y="12140"/>
                </a:cubicBezTo>
                <a:lnTo>
                  <a:pt x="15576" y="14126"/>
                </a:lnTo>
                <a:cubicBezTo>
                  <a:pt x="15576" y="14153"/>
                  <a:pt x="15600" y="14180"/>
                  <a:pt x="15636" y="14180"/>
                </a:cubicBezTo>
                <a:lnTo>
                  <a:pt x="17829" y="14180"/>
                </a:lnTo>
                <a:cubicBezTo>
                  <a:pt x="17864" y="14180"/>
                  <a:pt x="17888" y="14153"/>
                  <a:pt x="17888" y="14126"/>
                </a:cubicBezTo>
                <a:lnTo>
                  <a:pt x="17888" y="12140"/>
                </a:lnTo>
                <a:cubicBezTo>
                  <a:pt x="17888" y="12107"/>
                  <a:pt x="17864" y="12086"/>
                  <a:pt x="17829" y="12086"/>
                </a:cubicBezTo>
                <a:lnTo>
                  <a:pt x="15636" y="12086"/>
                </a:lnTo>
                <a:close/>
                <a:moveTo>
                  <a:pt x="3771" y="15866"/>
                </a:moveTo>
                <a:cubicBezTo>
                  <a:pt x="3736" y="15866"/>
                  <a:pt x="3712" y="15893"/>
                  <a:pt x="3712" y="15920"/>
                </a:cubicBezTo>
                <a:lnTo>
                  <a:pt x="3712" y="17906"/>
                </a:lnTo>
                <a:cubicBezTo>
                  <a:pt x="3712" y="17933"/>
                  <a:pt x="3736" y="17960"/>
                  <a:pt x="3771" y="17960"/>
                </a:cubicBezTo>
                <a:lnTo>
                  <a:pt x="5964" y="17960"/>
                </a:lnTo>
                <a:cubicBezTo>
                  <a:pt x="5994" y="17960"/>
                  <a:pt x="6024" y="17933"/>
                  <a:pt x="6024" y="17906"/>
                </a:cubicBezTo>
                <a:lnTo>
                  <a:pt x="6024" y="15920"/>
                </a:lnTo>
                <a:cubicBezTo>
                  <a:pt x="6024" y="15893"/>
                  <a:pt x="5994" y="15866"/>
                  <a:pt x="5964" y="15866"/>
                </a:cubicBezTo>
                <a:lnTo>
                  <a:pt x="3771" y="15866"/>
                </a:lnTo>
                <a:close/>
                <a:moveTo>
                  <a:pt x="7619" y="15866"/>
                </a:moveTo>
                <a:cubicBezTo>
                  <a:pt x="7583" y="15866"/>
                  <a:pt x="7559" y="15893"/>
                  <a:pt x="7559" y="15920"/>
                </a:cubicBezTo>
                <a:lnTo>
                  <a:pt x="7559" y="17906"/>
                </a:lnTo>
                <a:cubicBezTo>
                  <a:pt x="7559" y="17933"/>
                  <a:pt x="7583" y="17960"/>
                  <a:pt x="7619" y="17960"/>
                </a:cubicBezTo>
                <a:lnTo>
                  <a:pt x="9812" y="17960"/>
                </a:lnTo>
                <a:cubicBezTo>
                  <a:pt x="9841" y="17960"/>
                  <a:pt x="9871" y="17933"/>
                  <a:pt x="9871" y="17906"/>
                </a:cubicBezTo>
                <a:lnTo>
                  <a:pt x="9871" y="15920"/>
                </a:lnTo>
                <a:cubicBezTo>
                  <a:pt x="9871" y="15893"/>
                  <a:pt x="9841" y="15866"/>
                  <a:pt x="9812" y="15866"/>
                </a:cubicBezTo>
                <a:lnTo>
                  <a:pt x="7619" y="15866"/>
                </a:lnTo>
                <a:close/>
                <a:moveTo>
                  <a:pt x="11788" y="15866"/>
                </a:moveTo>
                <a:cubicBezTo>
                  <a:pt x="11759" y="15866"/>
                  <a:pt x="11729" y="15893"/>
                  <a:pt x="11729" y="15920"/>
                </a:cubicBezTo>
                <a:lnTo>
                  <a:pt x="11729" y="17906"/>
                </a:lnTo>
                <a:cubicBezTo>
                  <a:pt x="11729" y="17933"/>
                  <a:pt x="11759" y="17960"/>
                  <a:pt x="11788" y="17960"/>
                </a:cubicBezTo>
                <a:lnTo>
                  <a:pt x="13981" y="17960"/>
                </a:lnTo>
                <a:cubicBezTo>
                  <a:pt x="14011" y="17960"/>
                  <a:pt x="14041" y="17933"/>
                  <a:pt x="14041" y="17906"/>
                </a:cubicBezTo>
                <a:lnTo>
                  <a:pt x="14041" y="15920"/>
                </a:lnTo>
                <a:cubicBezTo>
                  <a:pt x="14041" y="15893"/>
                  <a:pt x="14011" y="15866"/>
                  <a:pt x="13981" y="15866"/>
                </a:cubicBezTo>
                <a:lnTo>
                  <a:pt x="11788" y="15866"/>
                </a:lnTo>
                <a:close/>
                <a:moveTo>
                  <a:pt x="15636" y="15866"/>
                </a:moveTo>
                <a:cubicBezTo>
                  <a:pt x="15600" y="15866"/>
                  <a:pt x="15576" y="15893"/>
                  <a:pt x="15576" y="15920"/>
                </a:cubicBezTo>
                <a:lnTo>
                  <a:pt x="15576" y="17906"/>
                </a:lnTo>
                <a:cubicBezTo>
                  <a:pt x="15576" y="17933"/>
                  <a:pt x="15600" y="17960"/>
                  <a:pt x="15636" y="17960"/>
                </a:cubicBezTo>
                <a:lnTo>
                  <a:pt x="17829" y="17960"/>
                </a:lnTo>
                <a:cubicBezTo>
                  <a:pt x="17864" y="17960"/>
                  <a:pt x="17888" y="17933"/>
                  <a:pt x="17888" y="17906"/>
                </a:cubicBezTo>
                <a:lnTo>
                  <a:pt x="17888" y="15920"/>
                </a:lnTo>
                <a:cubicBezTo>
                  <a:pt x="17888" y="15893"/>
                  <a:pt x="17864" y="15866"/>
                  <a:pt x="17829" y="15866"/>
                </a:cubicBezTo>
                <a:lnTo>
                  <a:pt x="15636" y="15866"/>
                </a:lnTo>
                <a:close/>
              </a:path>
            </a:pathLst>
          </a:custGeom>
          <a:solidFill>
            <a:srgbClr val="d6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184720" y="5222160"/>
            <a:ext cx="36500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ed last because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is called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AutoShape 7"/>
          <p:cNvSpPr/>
          <p:nvPr/>
        </p:nvSpPr>
        <p:spPr>
          <a:xfrm>
            <a:off x="4805280" y="6087960"/>
            <a:ext cx="1217520" cy="812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3138" y="19782"/>
                  <a:pt x="20338" y="12582"/>
                  <a:pt x="21600" y="0"/>
                </a:cubicBezTo>
              </a:path>
            </a:pathLst>
          </a:custGeom>
          <a:noFill/>
          <a:ln w="633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10909440" y="4940280"/>
            <a:ext cx="863640" cy="149868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eview 1: Indentation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lvl="2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A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B”)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print_letters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()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C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print(“D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E”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“F”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_letters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0009800" y="1312560"/>
            <a:ext cx="2610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does it print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1765440" y="355608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5222520" y="3675960"/>
            <a:ext cx="3116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dented, so “inside”</a:t>
            </a:r>
            <a:br>
              <a:rPr sz="2400"/>
            </a:b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int_letters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302360" y="1628280"/>
            <a:ext cx="3255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indented, s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outside” any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10883880" y="2077920"/>
            <a:ext cx="863640" cy="1506600"/>
          </a:xfrm>
          <a:prstGeom prst="rect">
            <a:avLst/>
          </a:prstGeom>
          <a:noFill/>
          <a:ln w="255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851040" y="1625760"/>
            <a:ext cx="3257280" cy="1074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421" y="0"/>
                </a:moveTo>
                <a:cubicBezTo>
                  <a:pt x="188" y="0"/>
                  <a:pt x="0" y="571"/>
                  <a:pt x="0" y="1275"/>
                </a:cubicBezTo>
                <a:lnTo>
                  <a:pt x="0" y="20325"/>
                </a:lnTo>
                <a:cubicBezTo>
                  <a:pt x="0" y="21029"/>
                  <a:pt x="188" y="21600"/>
                  <a:pt x="421" y="21600"/>
                </a:cubicBezTo>
                <a:lnTo>
                  <a:pt x="18233" y="21600"/>
                </a:lnTo>
                <a:cubicBezTo>
                  <a:pt x="18465" y="21600"/>
                  <a:pt x="18654" y="21029"/>
                  <a:pt x="18654" y="20325"/>
                </a:cubicBezTo>
                <a:lnTo>
                  <a:pt x="18654" y="11772"/>
                </a:lnTo>
                <a:lnTo>
                  <a:pt x="21600" y="9222"/>
                </a:lnTo>
                <a:lnTo>
                  <a:pt x="18654" y="6671"/>
                </a:lnTo>
                <a:lnTo>
                  <a:pt x="18654" y="1275"/>
                </a:lnTo>
                <a:cubicBezTo>
                  <a:pt x="18654" y="571"/>
                  <a:pt x="18465" y="0"/>
                  <a:pt x="18233" y="0"/>
                </a:cubicBezTo>
                <a:lnTo>
                  <a:pt x="421" y="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11041920" y="2008800"/>
            <a:ext cx="54720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A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B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F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D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8-24T18:25:08Z</dcterms:modified>
  <cp:revision>26</cp:revision>
  <dc:subject/>
  <dc:title>[220] Conditionals</dc:title>
</cp:coreProperties>
</file>