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71BB4-7924-477E-A81B-E4ABB570D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8D449-FECD-421B-8C56-1A1514183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D7C2A-8ECF-482E-A94B-2BC3E63C36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67309-9CE6-48F0-9ABD-42590A0BBC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E8859-645A-4D82-AA6B-6730393C27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BB8A5-9D84-42BC-8D9E-2392632F6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389B-21FA-4D54-A8BF-2F52E3EB1E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6F48-5A0D-46BD-B0AE-A7ADACA5C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BD093-ABD6-4655-AA49-40893C6DC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8DD38-E443-4928-B886-E38131DBE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9A5C-A895-41F1-BBE0-BC9B93087B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2E27F-1ED5-4570-AADD-DE92B85F6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B70FAB8-1A8B-4FA7-82A5-BB10D11DD72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Function Scope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737280" y="8016120"/>
            <a:ext cx="6243840" cy="101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469C63-D092-4B2F-AABC-E759BB9F09A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A11A23-10AD-43F3-A3BC-B057A7D204B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21B1CF2-BF27-45BA-A936-A9DD0A47C25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9" name="Picture 15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5582880" y="4871520"/>
            <a:ext cx="6234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s220 and cs319 will be in the global fr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9026280" y="1900800"/>
            <a:ext cx="40629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wo frames will exist dur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time we’re executing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rint_twi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Line 6"/>
          <p:cNvSpPr/>
          <p:nvPr/>
        </p:nvSpPr>
        <p:spPr>
          <a:xfrm flipH="1">
            <a:off x="7800480" y="2878200"/>
            <a:ext cx="1427400" cy="64620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312480" y="6385680"/>
            <a:ext cx="50886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you don’t generally see or intera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frames when programming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but it’s an important mental mode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Line 5"/>
          <p:cNvSpPr/>
          <p:nvPr/>
        </p:nvSpPr>
        <p:spPr>
          <a:xfrm flipH="1" flipV="1">
            <a:off x="7691400" y="1916280"/>
            <a:ext cx="1427040" cy="336240"/>
          </a:xfrm>
          <a:prstGeom prst="line">
            <a:avLst/>
          </a:prstGeom>
          <a:ln w="12708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F9AD08-5881-42FE-84E1-4D5F156A5EA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4"/>
          <p:cNvSpPr/>
          <p:nvPr/>
        </p:nvSpPr>
        <p:spPr>
          <a:xfrm>
            <a:off x="6920280" y="5473080"/>
            <a:ext cx="5344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code 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line1, line2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899480" y="2915280"/>
            <a:ext cx="5130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1, text2, combined_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562000" y="1920960"/>
            <a:ext cx="5068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access: 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cs220, cs319, tex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477240" y="7349040"/>
            <a:ext cx="60411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 call the variables that can currently b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ccessed “in scope” and variables t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not be “out of scop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E2E6AE-3CBA-414A-8EC2-311A8E18454F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499D3E-C3BA-4A53-85C8-257DF6558C4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  <p:sp>
        <p:nvSpPr>
          <p:cNvPr id="106" name="Line 6"/>
          <p:cNvSpPr/>
          <p:nvPr/>
        </p:nvSpPr>
        <p:spPr>
          <a:xfrm flipV="1">
            <a:off x="648648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Line 7"/>
          <p:cNvSpPr/>
          <p:nvPr/>
        </p:nvSpPr>
        <p:spPr>
          <a:xfrm flipV="1">
            <a:off x="5164200" y="3581280"/>
            <a:ext cx="666720" cy="2068560"/>
          </a:xfrm>
          <a:prstGeom prst="line">
            <a:avLst/>
          </a:prstGeom>
          <a:ln w="507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6831720" y="4536360"/>
            <a:ext cx="5489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rguments are copied to parameter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is is called “pass by value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440" y="254160"/>
            <a:ext cx="1258560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 (PythonTutor)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89078D-1479-41A4-AE19-5A706A6CCB4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1589040" y="1752480"/>
            <a:ext cx="9825120" cy="66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7072844-FB67-4D56-BA67-CABBAA1B97D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A6DECB-EA8B-41FB-961E-D91CA91B336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Box 12"/>
          <p:cNvSpPr/>
          <p:nvPr/>
        </p:nvSpPr>
        <p:spPr>
          <a:xfrm>
            <a:off x="2616120" y="1828800"/>
            <a:ext cx="650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print_twice(text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concatenate_str(text1, text2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mbined_text = text1 + text2 # concaten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_twice(combined_text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220 = "Hello CS220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s319 = " / CS319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concatenate_str(cs220, cs319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3687120" y="6954120"/>
            <a:ext cx="6028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ry this example yourself using PythonTu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4838760" y="32670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8ACC2A-482A-4A42-A38A-D6299E65CDB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512720" y="6544080"/>
            <a:ext cx="9970200" cy="74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ee220c"/>
                </a:solidFill>
                <a:latin typeface="Gill Sans"/>
              </a:rPr>
              <a:t>Let's do some examples in PythonTutor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05000" y="6254640"/>
            <a:ext cx="786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: functions don't execute unless they're call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1B38BB-7890-4323-A91C-94E2391FA3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2950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set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t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286560" y="6254640"/>
            <a:ext cx="9526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2: variables created in a function die after function retur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6F162AF-ABB3-4811-A27E-D023FEC2F292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 Toda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rules of scope of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local variables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 a function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creat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n are they destroy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 (frame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nderstand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used and modified within a function?(global keyword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ere are they stored? (global fram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hat parts of a program have access to them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can they be mis-represented as local variab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</a:t>
            </a: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ss by value” 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B9B5D4B-94F9-4220-98E8-5051D576423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9016920" y="5205240"/>
            <a:ext cx="3784680" cy="1333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AutoShape 5"/>
          <p:cNvSpPr/>
          <p:nvPr/>
        </p:nvSpPr>
        <p:spPr>
          <a:xfrm rot="10800000">
            <a:off x="11150640" y="5913000"/>
            <a:ext cx="745920" cy="746280"/>
          </a:xfrm>
          <a:prstGeom prst="rightArrow">
            <a:avLst>
              <a:gd name="adj1" fmla="val 32000"/>
              <a:gd name="adj2" fmla="val 64000"/>
            </a:avLst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8592480" y="6960600"/>
            <a:ext cx="445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on't memorize the examples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learn the rules of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8464320" y="8078400"/>
            <a:ext cx="471240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sample question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hy did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do this thing I didn't expec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t this specific line (ask us!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589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count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+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unt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62080" y="6254640"/>
            <a:ext cx="9566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3: variables start fresh every time a function is called aga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E91DF3-1019-4DE2-B41A-B76AE7327E9D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Loc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356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display_x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main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100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_x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ain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5944680"/>
            <a:ext cx="11490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4: you can't see the variables of other function invocations, even those that call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4C4BD4E-C176-4669-91EB-FC1037B64D5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AutoShape 3"/>
          <p:cNvSpPr/>
          <p:nvPr/>
        </p:nvSpPr>
        <p:spPr>
          <a:xfrm>
            <a:off x="507996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8091BB4-DA59-4520-BB0C-F8FF0CD154A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49165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 # global, outside any fun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952560" y="7210440"/>
            <a:ext cx="105966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5: you can generally just </a:t>
            </a: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use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global variables inside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3286F3-BD2A-465D-9E72-292C44DDD3F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4782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7210440"/>
            <a:ext cx="117871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6: if you do an assignment to a variable in a function, Python assumes you want it 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8FDEA1-6637-4535-B992-8D73361A273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543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952560" y="7210440"/>
            <a:ext cx="114044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7: assignment to a variable should be before its use in a function, even if there'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a global variable with the sam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6708A5-C64D-4F30-8402-E1F88A387D3A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Global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hello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reeting(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lobal ms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greeting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msg = 'welcome!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greeting(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msg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8: use a global declaration to prevent Python from creating a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local variable when you want a global 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CE023BD-A335-490C-8455-C5C54A99916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6032520" y="54514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BA17509-D885-423B-A902-31BAEDA2BC0E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val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val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9: in Python, arguments are "passed by value", meaning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</a:t>
            </a: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reassignments to a parameter don't change the argument outsi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A98E4EE-BA3E-449C-89F3-DDD947E908C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s about Argument Passing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36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A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 = 'B'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insid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before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(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print('after: ' + x)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952560" y="7210440"/>
            <a:ext cx="11404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Lesson 10: it's irrelevant whether the argument (outside) and</a:t>
            </a:r>
            <a:br>
              <a:rPr sz="2400"/>
            </a:br>
            <a:r>
              <a:rPr b="0" lang="en-US" sz="2400" spc="-1" strike="noStrike">
                <a:solidFill>
                  <a:srgbClr val="1db100"/>
                </a:solidFill>
                <a:latin typeface="Gill Sans"/>
              </a:rPr>
              <a:t>                parameter (inside) have the same variable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AE18746-FC1E-4F60-A0F6-8A7F83C3B851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-8892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1270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AutoShape 3"/>
          <p:cNvSpPr/>
          <p:nvPr/>
        </p:nvSpPr>
        <p:spPr>
          <a:xfrm>
            <a:off x="3568680" y="151452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1F5246-6D66-4DBC-A6FF-2A5223404394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sson Summ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1" name="Text Box 2"/>
          <p:cNvSpPr/>
          <p:nvPr/>
        </p:nvSpPr>
        <p:spPr>
          <a:xfrm>
            <a:off x="888840" y="1393920"/>
            <a:ext cx="11641320" cy="78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1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functions don't execute unless they're called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2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created in a function die after function returns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3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variables start fresh every time a function is called again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ff9300"/>
                </a:solidFill>
                <a:latin typeface="Gill Sans"/>
              </a:rPr>
              <a:t>Lesson 4:</a:t>
            </a:r>
            <a:r>
              <a:rPr b="0" lang="en-US" sz="2100" spc="-1" strike="noStrike">
                <a:solidFill>
                  <a:srgbClr val="ff9300"/>
                </a:solidFill>
                <a:latin typeface="Gill Sans"/>
              </a:rPr>
              <a:t> you can't see the variables of other function invocations, even those that call you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5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you can generally just </a:t>
            </a: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use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global variables inside a function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6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if you do an assignment to a variable in a function, Python assumes you want it local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7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assignment to a variable should be before its use in a function, even if there's a a global variable with the same nam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00a2ff"/>
                </a:solidFill>
                <a:latin typeface="Gill Sans"/>
              </a:rPr>
              <a:t>Lesson 8:</a:t>
            </a:r>
            <a:r>
              <a:rPr b="0" lang="en-US" sz="2100" spc="-1" strike="noStrike">
                <a:solidFill>
                  <a:srgbClr val="00a2ff"/>
                </a:solidFill>
                <a:latin typeface="Gill Sans"/>
              </a:rPr>
              <a:t> use a global declaration to prevent Python from creating a local variable when you want a global variable 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9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n Python, arguments are "passed by value", meaning reassignments to a parameter don't change the argument outsid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  <a:p>
            <a:pPr>
              <a:spcBef>
                <a:spcPts val="2599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100" spc="-1" strike="noStrike">
                <a:solidFill>
                  <a:srgbClr val="cb297b"/>
                </a:solidFill>
                <a:latin typeface="Gill Sans"/>
              </a:rPr>
              <a:t>Lesson 10:</a:t>
            </a:r>
            <a:r>
              <a:rPr b="0" lang="en-US" sz="2100" spc="-1" strike="noStrike">
                <a:solidFill>
                  <a:srgbClr val="cb297b"/>
                </a:solidFill>
                <a:latin typeface="Gill Sans"/>
              </a:rPr>
              <a:t> it's irrelevant whether the argument (outside) and parameter (inside) have the same variable name</a:t>
            </a:r>
            <a:endParaRPr b="1" lang="en-US" sz="2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565BB1-3FD1-407B-A413-90ECABD37F1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4"/>
          <p:cNvSpPr/>
          <p:nvPr/>
        </p:nvSpPr>
        <p:spPr>
          <a:xfrm rot="16200000">
            <a:off x="-81720" y="2406600"/>
            <a:ext cx="897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Text Box 5"/>
          <p:cNvSpPr/>
          <p:nvPr/>
        </p:nvSpPr>
        <p:spPr>
          <a:xfrm rot="16200000">
            <a:off x="-170640" y="5175360"/>
            <a:ext cx="10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lob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Text Box 6"/>
          <p:cNvSpPr/>
          <p:nvPr/>
        </p:nvSpPr>
        <p:spPr>
          <a:xfrm rot="16200000">
            <a:off x="-573840" y="7969320"/>
            <a:ext cx="1882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5284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28480" indent="-3697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5E511F4-21BE-479E-92FA-B64218810D9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1BCE7F8-D524-4F86-97BF-9BACF9A990D0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ontex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ften (in life and programming), the same name can mean different things in different contex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amples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uman name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Michael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o is in the room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eet addres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534 State Stree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at cit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les: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test.py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which directory are we in?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ur code often have different variables with the same n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eep variable names organized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93560" indent="-3459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ow do we know what a variable name is referring to?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7982640" y="5329080"/>
            <a:ext cx="4038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groups called “frames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9508680" y="5806440"/>
            <a:ext cx="2409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e’ll learn so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rules for th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52D72C-1CCE-47A0-8B48-175DC4AA21F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Contex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Loc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Global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: Argument Passing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3"/>
          <p:cNvSpPr/>
          <p:nvPr/>
        </p:nvSpPr>
        <p:spPr>
          <a:xfrm>
            <a:off x="2603520" y="231444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3D9F098-1260-4489-924E-475AE3A5246C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Fram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ery time a function is invoked (i.e., called), the invocation gets a new “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fram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” for hold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parameters also exist in a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Global fra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re is always one global frame that all functions can acces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hen a variable name is used, Python looks two plac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function invocation’s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2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e global fram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Oval 3"/>
          <p:cNvSpPr/>
          <p:nvPr/>
        </p:nvSpPr>
        <p:spPr>
          <a:xfrm>
            <a:off x="1125360" y="5448240"/>
            <a:ext cx="75600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Oval 4"/>
          <p:cNvSpPr/>
          <p:nvPr/>
        </p:nvSpPr>
        <p:spPr>
          <a:xfrm>
            <a:off x="1125360" y="6342120"/>
            <a:ext cx="75600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E78E6A3-0135-44A3-98AA-A9736DD2CBD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Understanding scope: exampl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5949720" y="9296280"/>
            <a:ext cx="109584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15CE12A-419F-4C6F-9523-FA24F1837CC5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30120" y="1676520"/>
            <a:ext cx="10337760" cy="4419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5:52Z</dcterms:modified>
  <cp:revision>53</cp:revision>
  <dc:subject/>
  <dc:title>[220] Function Scope</dc:title>
</cp:coreProperties>
</file>