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9818B-0026-408F-8B6C-B2D43F06F7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6E189-CE63-487D-98F9-4FD1F7895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F688-EA9D-45B5-AE4A-F33D9DCD1A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9BD8D-B9E3-4D95-8FBC-7D5CC051A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3884A-4429-427A-A6B3-BC6BB85E0D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42BAB-9374-45F3-8F88-FA01A3327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76476-294D-4BC9-BD8F-72AA50B854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ACFBE-6713-42E9-AB73-075FD9A9EB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16DE4-553B-4F6F-9C22-29247C6F8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C384C-CC7D-4FF1-B12C-57BD60856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9A66D-4976-4587-ABE7-27D46399D2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8EF3-B468-4685-AC01-A7F2C1A26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338880" y="9296280"/>
            <a:ext cx="317520" cy="330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8C17350-8D8B-4FC7-BC7F-EC862BA5C878}" type="slidenum">
              <a:rPr b="0" lang="en-US" sz="1600" spc="-1" strike="noStrike">
                <a:solidFill>
                  <a:srgbClr val="000000"/>
                </a:solidFill>
                <a:latin typeface="Gill Sans Light"/>
                <a:ea typeface="Gill Sans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7232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885600" indent="-47232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99240" indent="-4726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9520" y="1638360"/>
            <a:ext cx="1258416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 SemiBold"/>
              </a:rPr>
              <a:t>[220 / 319] Operators</a:t>
            </a:r>
            <a:endParaRPr b="0" lang="en-US" sz="80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0" name="Rectangle 2"/>
          <p:cNvSpPr/>
          <p:nvPr/>
        </p:nvSpPr>
        <p:spPr>
          <a:xfrm>
            <a:off x="1549440" y="4940280"/>
            <a:ext cx="1046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 fontScale="91000"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Department of Computer Sciences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Gill Sans"/>
              </a:rPr>
              <a:t>University of Wisconsin-Madison </a:t>
            </a: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37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-84600" y="7865640"/>
            <a:ext cx="626076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hapter 1 of Think Python,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  <a:ea typeface="Gill Sans SemiBold"/>
              </a:rPr>
              <a:t>Chapter 2 of Python for Everybod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8618400" y="7866000"/>
            <a:ext cx="41832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 SemiBold"/>
                <a:ea typeface="Gill Sans SemiBold"/>
              </a:rPr>
              <a:t>Additional readings: 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000" spc="-1" strike="noStrike">
                <a:solidFill>
                  <a:srgbClr val="ff9300"/>
                </a:solidFill>
                <a:latin typeface="Gill Sans"/>
              </a:rPr>
              <a:t>Computer terminology</a:t>
            </a:r>
            <a:endParaRPr b="1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710640" y="150264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373400" y="225504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16760" y="6347520"/>
            <a:ext cx="393228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notebook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"mode"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109240" y="7279560"/>
            <a:ext cx="3064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jupyter notebook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1177920" y="354348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716840" y="400788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5504040" y="5864400"/>
            <a:ext cx="807840" cy="34416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6370560" y="597384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AutoShape 14"/>
          <p:cNvSpPr/>
          <p:nvPr/>
        </p:nvSpPr>
        <p:spPr>
          <a:xfrm>
            <a:off x="4373640" y="7751880"/>
            <a:ext cx="668160" cy="426960"/>
          </a:xfrm>
          <a:custGeom>
            <a:avLst/>
            <a:gdLst/>
            <a:ahLst/>
            <a:rect l="l" t="t" r="r" b="b"/>
            <a:pathLst>
              <a:path w="21600" h="21574">
                <a:moveTo>
                  <a:pt x="21600" y="21574"/>
                </a:moveTo>
                <a:cubicBezTo>
                  <a:pt x="11232" y="21600"/>
                  <a:pt x="4032" y="14409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5136840" y="7963920"/>
            <a:ext cx="317772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open Jupyter in a web browser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2907720" y="8769240"/>
            <a:ext cx="71874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we'll do most work in notebooks this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616120" y="320040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5326200" y="4056120"/>
            <a:ext cx="1176120" cy="1176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0.5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Break ties left to right </a:t>
            </a: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2 * 2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36200" y="3060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Learning Objective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68560" y="757080"/>
            <a:ext cx="11099520" cy="8064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7000"/>
          </a:bodyPr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 Python code using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mand lin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1" marL="717840" indent="-23184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Jupyter Notebook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umeric expressions containing mathematical operators (e.g., “+” and “-“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tring expressions containing string operators and escape charac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Differentiate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ehavior of the /, //, and % operato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ecognize examples of different Python data types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int, float, str, bool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valuate: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expressions containing comparison operators (e.g., “==” and “&gt;”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oolean expressions containing the operators “and”, “or”, “not”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31200" indent="-23148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mixed expressions using the correct order of operations (precedenc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</a:t>
            </a: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ff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3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rder of Simplificati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Python works by simplifying, applying one operator at a tim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1/2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16 ** (0.5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3 * 3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2 * 2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9 + 4 + 4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3 + 4</a:t>
            </a:r>
            <a:br>
              <a:rPr sz="3200"/>
            </a:br>
            <a:r>
              <a:rPr b="1" lang="en-US" sz="3200" spc="-1" strike="noStrike">
                <a:solidFill>
                  <a:srgbClr val="ee220c"/>
                </a:solidFill>
                <a:latin typeface="Gill Sans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952560" y="6966000"/>
            <a:ext cx="1109988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Rules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First work within parentheses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Do higher precedence firs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Break ties left to right (exception: exponent ** operator)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1" name="Text Box 68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Text Box 69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Text Box 70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Text Box 71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Operator Precendenc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160800" y="1600200"/>
          <a:ext cx="6886440" cy="6286680"/>
        </p:xfrm>
        <a:graphic>
          <a:graphicData uri="http://schemas.openxmlformats.org/drawingml/2006/table">
            <a:tbl>
              <a:tblPr/>
              <a:tblGrid>
                <a:gridCol w="3443040"/>
                <a:gridCol w="3443400"/>
              </a:tblGrid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What is it?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1811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Gill Sans SemiBold"/>
                          <a:ea typeface="Gill Sans SemiBold"/>
                        </a:rPr>
                        <a:t>Python Operat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f9400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exponent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*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signs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x, -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multiply/divide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*, /, //, %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dd/subtrac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+, -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comparison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==, !=, &lt;, &lt;=, &gt;, &gt;=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boolean stuff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not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40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and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5d5d5d"/>
                      </a:solidFill>
                    </a:lnB>
                    <a:solidFill>
                      <a:srgbClr val="faf7e9"/>
                    </a:solidFill>
                  </a:tcPr>
                </a:tc>
              </a:tr>
              <a:tr h="698760"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ill Sans Light"/>
                          <a:ea typeface="Gill Sans Light"/>
                        </a:rPr>
                        <a:t>or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5760">
                      <a:solidFill>
                        <a:srgbClr val="5d5d5d"/>
                      </a:solidFill>
                    </a:lnL>
                    <a:lnR w="5760">
                      <a:solidFill>
                        <a:srgbClr val="5d5d5d"/>
                      </a:solidFill>
                    </a:lnR>
                    <a:lnT w="5760">
                      <a:solidFill>
                        <a:srgbClr val="5d5d5d"/>
                      </a:solidFill>
                    </a:lnT>
                    <a:lnB w="5760">
                      <a:solidFill>
                        <a:srgbClr val="606060"/>
                      </a:solidFill>
                    </a:lnB>
                    <a:solidFill>
                      <a:srgbClr val="faf7e9"/>
                    </a:solidFill>
                  </a:tcPr>
                </a:tc>
              </a:tr>
            </a:tbl>
          </a:graphicData>
        </a:graphic>
      </p:graphicFrame>
      <p:sp>
        <p:nvSpPr>
          <p:cNvPr id="157" name="Text Box 68"/>
          <p:cNvSpPr/>
          <p:nvPr/>
        </p:nvSpPr>
        <p:spPr>
          <a:xfrm>
            <a:off x="10479240" y="2381040"/>
            <a:ext cx="202716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firs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8" name="Line 69"/>
          <p:cNvSpPr/>
          <p:nvPr/>
        </p:nvSpPr>
        <p:spPr>
          <a:xfrm>
            <a:off x="2027160" y="578340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Line 70"/>
          <p:cNvSpPr/>
          <p:nvPr/>
        </p:nvSpPr>
        <p:spPr>
          <a:xfrm>
            <a:off x="2027160" y="5073480"/>
            <a:ext cx="85597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Text Box 71"/>
          <p:cNvSpPr/>
          <p:nvPr/>
        </p:nvSpPr>
        <p:spPr>
          <a:xfrm rot="16200000">
            <a:off x="1613880" y="3222720"/>
            <a:ext cx="2229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Mathematical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Text Box 72"/>
          <p:cNvSpPr/>
          <p:nvPr/>
        </p:nvSpPr>
        <p:spPr>
          <a:xfrm rot="16200000">
            <a:off x="2275560" y="6601320"/>
            <a:ext cx="9068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Logic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Text Box 73"/>
          <p:cNvSpPr/>
          <p:nvPr/>
        </p:nvSpPr>
        <p:spPr>
          <a:xfrm>
            <a:off x="10431720" y="6571800"/>
            <a:ext cx="2121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simplify last*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Text Box 74"/>
          <p:cNvSpPr/>
          <p:nvPr/>
        </p:nvSpPr>
        <p:spPr>
          <a:xfrm>
            <a:off x="8547840" y="8735760"/>
            <a:ext cx="418032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* one exception is an optimization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known as "short circuiting"</a:t>
            </a:r>
            <a:endParaRPr b="1" lang="en-US" sz="2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Text Box 75"/>
          <p:cNvSpPr/>
          <p:nvPr/>
        </p:nvSpPr>
        <p:spPr>
          <a:xfrm>
            <a:off x="855720" y="7727760"/>
            <a:ext cx="52182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these are the ones you should be learning at this point in the semeste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there are a few more not covered now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AutoShape 3"/>
          <p:cNvSpPr/>
          <p:nvPr/>
        </p:nvSpPr>
        <p:spPr>
          <a:xfrm>
            <a:off x="2540160" y="523224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AutoShape 3"/>
          <p:cNvSpPr/>
          <p:nvPr/>
        </p:nvSpPr>
        <p:spPr>
          <a:xfrm>
            <a:off x="3835440" y="624852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ee220c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AutoShape 3"/>
          <p:cNvSpPr/>
          <p:nvPr/>
        </p:nvSpPr>
        <p:spPr>
          <a:xfrm>
            <a:off x="3683160" y="1828800"/>
            <a:ext cx="117612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34"/>
          <p:cNvSpPr/>
          <p:nvPr/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t">
            <a:normAutofit/>
          </a:bodyPr>
          <a:p>
            <a:pPr marL="476280" indent="-333360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Boolean Logic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8966160" y="635040"/>
            <a:ext cx="2540160" cy="34034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3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Line 4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Line 5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Text Box 12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Text Box 13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Line 15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Line 16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Text Box 20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Text Box 23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Text Box 24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Text Box 29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Text Box 33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52560" y="1587600"/>
            <a:ext cx="8307360" cy="227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47628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e logic of truth: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Named after George Bool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wo values: True and Fals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476280" indent="-3333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hree operators: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nd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 </a:t>
            </a:r>
            <a:r>
              <a:rPr b="1" lang="en-US" sz="28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714960" y="2842560"/>
            <a:ext cx="471528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It’s a Saturday </a:t>
            </a: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we’re attending CS 220 lectur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AutoShape 33"/>
          <p:cNvSpPr/>
          <p:nvPr/>
        </p:nvSpPr>
        <p:spPr>
          <a:xfrm>
            <a:off x="681120" y="3270240"/>
            <a:ext cx="4836960" cy="3556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AutoShape 34"/>
          <p:cNvSpPr/>
          <p:nvPr/>
        </p:nvSpPr>
        <p:spPr>
          <a:xfrm>
            <a:off x="2895480" y="6032520"/>
            <a:ext cx="1047960" cy="53172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AutoShape 35"/>
          <p:cNvSpPr/>
          <p:nvPr/>
        </p:nvSpPr>
        <p:spPr>
          <a:xfrm>
            <a:off x="1473120" y="2838600"/>
            <a:ext cx="2297160" cy="37440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AutoShape 36"/>
          <p:cNvSpPr/>
          <p:nvPr/>
        </p:nvSpPr>
        <p:spPr>
          <a:xfrm>
            <a:off x="1235160" y="659448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AutoShape 32"/>
          <p:cNvSpPr/>
          <p:nvPr/>
        </p:nvSpPr>
        <p:spPr>
          <a:xfrm>
            <a:off x="3770280" y="3665520"/>
            <a:ext cx="1808280" cy="3316320"/>
          </a:xfrm>
          <a:custGeom>
            <a:avLst/>
            <a:gdLst/>
            <a:ahLst/>
            <a:rect l="l" t="t" r="r" b="b"/>
            <a:pathLst>
              <a:path w="16574" h="21600">
                <a:moveTo>
                  <a:pt x="0" y="21600"/>
                </a:moveTo>
                <a:cubicBezTo>
                  <a:pt x="18780" y="12372"/>
                  <a:pt x="21600" y="5172"/>
                  <a:pt x="8461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Text Box 34"/>
          <p:cNvSpPr/>
          <p:nvPr/>
        </p:nvSpPr>
        <p:spPr>
          <a:xfrm>
            <a:off x="2533680" y="1923840"/>
            <a:ext cx="10774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FALS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AutoShape 33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Text Box 32"/>
          <p:cNvSpPr/>
          <p:nvPr/>
        </p:nvSpPr>
        <p:spPr>
          <a:xfrm>
            <a:off x="4591440" y="2988360"/>
            <a:ext cx="4709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Project 1 is due on Wednesday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 I’ll eat my hat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AutoShape 33"/>
          <p:cNvSpPr/>
          <p:nvPr/>
        </p:nvSpPr>
        <p:spPr>
          <a:xfrm>
            <a:off x="6135840" y="3429000"/>
            <a:ext cx="2195280" cy="378000"/>
          </a:xfrm>
          <a:prstGeom prst="roundRect">
            <a:avLst>
              <a:gd name="adj" fmla="val 41486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4" name="AutoShape 34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AutoShape 35"/>
          <p:cNvSpPr/>
          <p:nvPr/>
        </p:nvSpPr>
        <p:spPr>
          <a:xfrm>
            <a:off x="4357800" y="3013200"/>
            <a:ext cx="5033880" cy="36324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AutoShape 36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AutoShape 37"/>
          <p:cNvSpPr/>
          <p:nvPr/>
        </p:nvSpPr>
        <p:spPr>
          <a:xfrm>
            <a:off x="4357800" y="3633840"/>
            <a:ext cx="1496880" cy="4427640"/>
          </a:xfrm>
          <a:custGeom>
            <a:avLst/>
            <a:gdLst/>
            <a:ahLst/>
            <a:rect l="l" t="t" r="r" b="b"/>
            <a:pathLst>
              <a:path w="16596" h="21600">
                <a:moveTo>
                  <a:pt x="16596" y="21600"/>
                </a:moveTo>
                <a:cubicBezTo>
                  <a:pt x="-2113" y="11985"/>
                  <a:pt x="-5004" y="4785"/>
                  <a:pt x="7922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Text Box 38"/>
          <p:cNvSpPr/>
          <p:nvPr/>
        </p:nvSpPr>
        <p:spPr>
          <a:xfrm>
            <a:off x="6268320" y="1873080"/>
            <a:ext cx="968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!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AutoShape 39"/>
          <p:cNvSpPr/>
          <p:nvPr/>
        </p:nvSpPr>
        <p:spPr>
          <a:xfrm>
            <a:off x="9609120" y="2685960"/>
            <a:ext cx="1041480" cy="1436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0353" y="0"/>
                </a:moveTo>
                <a:cubicBezTo>
                  <a:pt x="17606" y="2897"/>
                  <a:pt x="11947" y="93"/>
                  <a:pt x="9200" y="2990"/>
                </a:cubicBezTo>
                <a:cubicBezTo>
                  <a:pt x="9201" y="2993"/>
                  <a:pt x="0" y="19789"/>
                  <a:pt x="0" y="19789"/>
                </a:cubicBezTo>
                <a:cubicBezTo>
                  <a:pt x="2726" y="20941"/>
                  <a:pt x="5865" y="21600"/>
                  <a:pt x="9209" y="21600"/>
                </a:cubicBezTo>
                <a:cubicBezTo>
                  <a:pt x="12553" y="21600"/>
                  <a:pt x="15692" y="20941"/>
                  <a:pt x="18418" y="19789"/>
                </a:cubicBezTo>
                <a:lnTo>
                  <a:pt x="9929" y="4298"/>
                </a:lnTo>
                <a:cubicBezTo>
                  <a:pt x="13681" y="2363"/>
                  <a:pt x="17863" y="6076"/>
                  <a:pt x="21600" y="3933"/>
                </a:cubicBezTo>
                <a:cubicBezTo>
                  <a:pt x="21569" y="3531"/>
                  <a:pt x="21538" y="3131"/>
                  <a:pt x="21507" y="2729"/>
                </a:cubicBezTo>
                <a:cubicBezTo>
                  <a:pt x="19104" y="4108"/>
                  <a:pt x="16518" y="3063"/>
                  <a:pt x="13980" y="2657"/>
                </a:cubicBezTo>
                <a:cubicBezTo>
                  <a:pt x="16500" y="2545"/>
                  <a:pt x="19256" y="2897"/>
                  <a:pt x="20931" y="1131"/>
                </a:cubicBezTo>
                <a:cubicBezTo>
                  <a:pt x="20738" y="754"/>
                  <a:pt x="20545" y="377"/>
                  <a:pt x="20353" y="0"/>
                </a:cubicBezTo>
                <a:close/>
                <a:moveTo>
                  <a:pt x="9063" y="7153"/>
                </a:moveTo>
                <a:cubicBezTo>
                  <a:pt x="9440" y="7153"/>
                  <a:pt x="9746" y="7375"/>
                  <a:pt x="9746" y="7648"/>
                </a:cubicBezTo>
                <a:cubicBezTo>
                  <a:pt x="9746" y="7922"/>
                  <a:pt x="9440" y="8145"/>
                  <a:pt x="9063" y="8145"/>
                </a:cubicBezTo>
                <a:cubicBezTo>
                  <a:pt x="8685" y="8145"/>
                  <a:pt x="8380" y="7922"/>
                  <a:pt x="8380" y="7648"/>
                </a:cubicBezTo>
                <a:cubicBezTo>
                  <a:pt x="8380" y="7375"/>
                  <a:pt x="8685" y="7153"/>
                  <a:pt x="9063" y="7153"/>
                </a:cubicBezTo>
                <a:close/>
                <a:moveTo>
                  <a:pt x="10138" y="9689"/>
                </a:moveTo>
                <a:cubicBezTo>
                  <a:pt x="10516" y="9689"/>
                  <a:pt x="10823" y="9910"/>
                  <a:pt x="10823" y="10184"/>
                </a:cubicBezTo>
                <a:cubicBezTo>
                  <a:pt x="10823" y="10458"/>
                  <a:pt x="10516" y="10681"/>
                  <a:pt x="10138" y="10681"/>
                </a:cubicBezTo>
                <a:cubicBezTo>
                  <a:pt x="9760" y="10681"/>
                  <a:pt x="9455" y="10458"/>
                  <a:pt x="9455" y="10184"/>
                </a:cubicBezTo>
                <a:cubicBezTo>
                  <a:pt x="9455" y="9911"/>
                  <a:pt x="9760" y="9689"/>
                  <a:pt x="10138" y="9689"/>
                </a:cubicBezTo>
                <a:close/>
                <a:moveTo>
                  <a:pt x="6977" y="11466"/>
                </a:moveTo>
                <a:cubicBezTo>
                  <a:pt x="7355" y="11466"/>
                  <a:pt x="7662" y="11688"/>
                  <a:pt x="7662" y="11961"/>
                </a:cubicBezTo>
                <a:cubicBezTo>
                  <a:pt x="7662" y="12235"/>
                  <a:pt x="7355" y="12458"/>
                  <a:pt x="6977" y="12458"/>
                </a:cubicBezTo>
                <a:cubicBezTo>
                  <a:pt x="6599" y="12458"/>
                  <a:pt x="6294" y="12235"/>
                  <a:pt x="6294" y="11961"/>
                </a:cubicBezTo>
                <a:cubicBezTo>
                  <a:pt x="6294" y="11688"/>
                  <a:pt x="6599" y="11466"/>
                  <a:pt x="6977" y="11466"/>
                </a:cubicBezTo>
                <a:close/>
                <a:moveTo>
                  <a:pt x="12379" y="11961"/>
                </a:moveTo>
                <a:cubicBezTo>
                  <a:pt x="12757" y="11961"/>
                  <a:pt x="13065" y="12184"/>
                  <a:pt x="13065" y="12458"/>
                </a:cubicBezTo>
                <a:cubicBezTo>
                  <a:pt x="13065" y="12731"/>
                  <a:pt x="12757" y="12952"/>
                  <a:pt x="12379" y="12952"/>
                </a:cubicBezTo>
                <a:cubicBezTo>
                  <a:pt x="12002" y="12952"/>
                  <a:pt x="11697" y="12731"/>
                  <a:pt x="11697" y="12458"/>
                </a:cubicBezTo>
                <a:cubicBezTo>
                  <a:pt x="11697" y="12184"/>
                  <a:pt x="12002" y="11961"/>
                  <a:pt x="12379" y="11961"/>
                </a:cubicBezTo>
                <a:close/>
                <a:moveTo>
                  <a:pt x="9634" y="13773"/>
                </a:moveTo>
                <a:cubicBezTo>
                  <a:pt x="10012" y="13773"/>
                  <a:pt x="10317" y="13995"/>
                  <a:pt x="10317" y="14268"/>
                </a:cubicBezTo>
                <a:cubicBezTo>
                  <a:pt x="10317" y="14542"/>
                  <a:pt x="10012" y="14765"/>
                  <a:pt x="9634" y="14765"/>
                </a:cubicBezTo>
                <a:cubicBezTo>
                  <a:pt x="9257" y="14765"/>
                  <a:pt x="8949" y="14542"/>
                  <a:pt x="8949" y="14268"/>
                </a:cubicBezTo>
                <a:cubicBezTo>
                  <a:pt x="8949" y="13995"/>
                  <a:pt x="9256" y="13773"/>
                  <a:pt x="9634" y="13773"/>
                </a:cubicBezTo>
                <a:close/>
                <a:moveTo>
                  <a:pt x="6294" y="15290"/>
                </a:moveTo>
                <a:cubicBezTo>
                  <a:pt x="6672" y="15290"/>
                  <a:pt x="6977" y="15511"/>
                  <a:pt x="6977" y="15784"/>
                </a:cubicBezTo>
                <a:cubicBezTo>
                  <a:pt x="6977" y="16058"/>
                  <a:pt x="6672" y="16281"/>
                  <a:pt x="6294" y="16281"/>
                </a:cubicBezTo>
                <a:cubicBezTo>
                  <a:pt x="5917" y="16281"/>
                  <a:pt x="5611" y="16058"/>
                  <a:pt x="5611" y="15784"/>
                </a:cubicBezTo>
                <a:cubicBezTo>
                  <a:pt x="5611" y="15511"/>
                  <a:pt x="5917" y="15290"/>
                  <a:pt x="6294" y="15290"/>
                </a:cubicBezTo>
                <a:close/>
                <a:moveTo>
                  <a:pt x="11697" y="15784"/>
                </a:moveTo>
                <a:cubicBezTo>
                  <a:pt x="12074" y="15784"/>
                  <a:pt x="12379" y="16007"/>
                  <a:pt x="12379" y="16281"/>
                </a:cubicBezTo>
                <a:cubicBezTo>
                  <a:pt x="12379" y="16554"/>
                  <a:pt x="12074" y="16776"/>
                  <a:pt x="11697" y="16776"/>
                </a:cubicBezTo>
                <a:cubicBezTo>
                  <a:pt x="11319" y="16776"/>
                  <a:pt x="11014" y="16554"/>
                  <a:pt x="11014" y="16281"/>
                </a:cubicBezTo>
                <a:cubicBezTo>
                  <a:pt x="11014" y="16007"/>
                  <a:pt x="11319" y="15784"/>
                  <a:pt x="11697" y="15784"/>
                </a:cubicBezTo>
                <a:close/>
                <a:moveTo>
                  <a:pt x="15085" y="17295"/>
                </a:moveTo>
                <a:cubicBezTo>
                  <a:pt x="15463" y="17297"/>
                  <a:pt x="15768" y="17522"/>
                  <a:pt x="15766" y="17795"/>
                </a:cubicBezTo>
                <a:cubicBezTo>
                  <a:pt x="15763" y="18069"/>
                  <a:pt x="15456" y="18288"/>
                  <a:pt x="15078" y="18287"/>
                </a:cubicBezTo>
                <a:cubicBezTo>
                  <a:pt x="14701" y="18285"/>
                  <a:pt x="14395" y="18062"/>
                  <a:pt x="14398" y="17789"/>
                </a:cubicBezTo>
                <a:cubicBezTo>
                  <a:pt x="14400" y="17515"/>
                  <a:pt x="14708" y="17294"/>
                  <a:pt x="15085" y="17295"/>
                </a:cubicBezTo>
                <a:close/>
                <a:moveTo>
                  <a:pt x="3147" y="17938"/>
                </a:moveTo>
                <a:cubicBezTo>
                  <a:pt x="3525" y="17938"/>
                  <a:pt x="3832" y="18159"/>
                  <a:pt x="3832" y="18433"/>
                </a:cubicBezTo>
                <a:cubicBezTo>
                  <a:pt x="3832" y="18707"/>
                  <a:pt x="3525" y="18928"/>
                  <a:pt x="3147" y="18928"/>
                </a:cubicBezTo>
                <a:cubicBezTo>
                  <a:pt x="2770" y="18928"/>
                  <a:pt x="2464" y="18707"/>
                  <a:pt x="2464" y="18433"/>
                </a:cubicBezTo>
                <a:cubicBezTo>
                  <a:pt x="2464" y="18159"/>
                  <a:pt x="2770" y="17938"/>
                  <a:pt x="3147" y="17938"/>
                </a:cubicBezTo>
                <a:close/>
                <a:moveTo>
                  <a:pt x="7904" y="17938"/>
                </a:moveTo>
                <a:cubicBezTo>
                  <a:pt x="8281" y="17938"/>
                  <a:pt x="8587" y="18159"/>
                  <a:pt x="8587" y="18433"/>
                </a:cubicBezTo>
                <a:cubicBezTo>
                  <a:pt x="8587" y="18707"/>
                  <a:pt x="8281" y="18928"/>
                  <a:pt x="7904" y="18928"/>
                </a:cubicBezTo>
                <a:cubicBezTo>
                  <a:pt x="7526" y="18928"/>
                  <a:pt x="7219" y="18707"/>
                  <a:pt x="7219" y="18433"/>
                </a:cubicBezTo>
                <a:cubicBezTo>
                  <a:pt x="7219" y="18159"/>
                  <a:pt x="7526" y="17938"/>
                  <a:pt x="7904" y="17938"/>
                </a:cubicBezTo>
                <a:close/>
                <a:moveTo>
                  <a:pt x="12379" y="19226"/>
                </a:moveTo>
                <a:cubicBezTo>
                  <a:pt x="12757" y="19226"/>
                  <a:pt x="13065" y="19447"/>
                  <a:pt x="13065" y="19720"/>
                </a:cubicBezTo>
                <a:cubicBezTo>
                  <a:pt x="13065" y="19994"/>
                  <a:pt x="12757" y="20215"/>
                  <a:pt x="12379" y="20215"/>
                </a:cubicBezTo>
                <a:cubicBezTo>
                  <a:pt x="12002" y="20215"/>
                  <a:pt x="11697" y="19994"/>
                  <a:pt x="11697" y="19720"/>
                </a:cubicBezTo>
                <a:cubicBezTo>
                  <a:pt x="11697" y="19447"/>
                  <a:pt x="12002" y="19226"/>
                  <a:pt x="12379" y="19226"/>
                </a:cubicBezTo>
                <a:close/>
              </a:path>
            </a:pathLst>
          </a:custGeom>
          <a:solidFill>
            <a:srgbClr val="ee22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"/>
          <p:cNvSpPr/>
          <p:nvPr/>
        </p:nvSpPr>
        <p:spPr>
          <a:xfrm>
            <a:off x="5664240" y="664200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Line 2"/>
          <p:cNvSpPr/>
          <p:nvPr/>
        </p:nvSpPr>
        <p:spPr>
          <a:xfrm flipV="1">
            <a:off x="6775560" y="6689880"/>
            <a:ext cx="0" cy="217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Line 3"/>
          <p:cNvSpPr/>
          <p:nvPr/>
        </p:nvSpPr>
        <p:spPr>
          <a:xfrm flipH="1">
            <a:off x="5694480" y="778356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6891120" y="69912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586188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Text Box 6"/>
          <p:cNvSpPr/>
          <p:nvPr/>
        </p:nvSpPr>
        <p:spPr>
          <a:xfrm>
            <a:off x="6891120" y="81086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Text Box 7"/>
          <p:cNvSpPr/>
          <p:nvPr/>
        </p:nvSpPr>
        <p:spPr>
          <a:xfrm>
            <a:off x="58449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Text Box 8"/>
          <p:cNvSpPr/>
          <p:nvPr/>
        </p:nvSpPr>
        <p:spPr>
          <a:xfrm>
            <a:off x="5844960" y="61020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Text Box 9"/>
          <p:cNvSpPr/>
          <p:nvPr/>
        </p:nvSpPr>
        <p:spPr>
          <a:xfrm>
            <a:off x="6891120" y="61020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Text Box 10"/>
          <p:cNvSpPr/>
          <p:nvPr/>
        </p:nvSpPr>
        <p:spPr>
          <a:xfrm rot="16200000">
            <a:off x="4959360" y="69912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Text Box 11"/>
          <p:cNvSpPr/>
          <p:nvPr/>
        </p:nvSpPr>
        <p:spPr>
          <a:xfrm rot="16200000">
            <a:off x="4975200" y="81082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Rectangle 12"/>
          <p:cNvSpPr/>
          <p:nvPr/>
        </p:nvSpPr>
        <p:spPr>
          <a:xfrm>
            <a:off x="1793880" y="6603840"/>
            <a:ext cx="2178000" cy="22701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Line 13"/>
          <p:cNvSpPr/>
          <p:nvPr/>
        </p:nvSpPr>
        <p:spPr>
          <a:xfrm flipV="1">
            <a:off x="2905200" y="6651360"/>
            <a:ext cx="0" cy="2173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Line 14"/>
          <p:cNvSpPr/>
          <p:nvPr/>
        </p:nvSpPr>
        <p:spPr>
          <a:xfrm flipH="1">
            <a:off x="1824120" y="7745400"/>
            <a:ext cx="2116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-50760" bIns="-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Text Box 15"/>
          <p:cNvSpPr/>
          <p:nvPr/>
        </p:nvSpPr>
        <p:spPr>
          <a:xfrm>
            <a:off x="30049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1975320" y="807048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Text Box 17"/>
          <p:cNvSpPr/>
          <p:nvPr/>
        </p:nvSpPr>
        <p:spPr>
          <a:xfrm>
            <a:off x="3021120" y="807048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Text Box 18"/>
          <p:cNvSpPr/>
          <p:nvPr/>
        </p:nvSpPr>
        <p:spPr>
          <a:xfrm>
            <a:off x="1975320" y="69530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Text Box 19"/>
          <p:cNvSpPr/>
          <p:nvPr/>
        </p:nvSpPr>
        <p:spPr>
          <a:xfrm>
            <a:off x="1975320" y="60638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Text Box 20"/>
          <p:cNvSpPr/>
          <p:nvPr/>
        </p:nvSpPr>
        <p:spPr>
          <a:xfrm>
            <a:off x="3021120" y="60638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Text Box 21"/>
          <p:cNvSpPr/>
          <p:nvPr/>
        </p:nvSpPr>
        <p:spPr>
          <a:xfrm rot="16200000">
            <a:off x="1089000" y="6953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Text Box 22"/>
          <p:cNvSpPr/>
          <p:nvPr/>
        </p:nvSpPr>
        <p:spPr>
          <a:xfrm rot="16200000">
            <a:off x="1104840" y="807012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Rectangle 23"/>
          <p:cNvSpPr/>
          <p:nvPr/>
        </p:nvSpPr>
        <p:spPr>
          <a:xfrm>
            <a:off x="9534600" y="6629400"/>
            <a:ext cx="2176560" cy="11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Line 24"/>
          <p:cNvSpPr/>
          <p:nvPr/>
        </p:nvSpPr>
        <p:spPr>
          <a:xfrm flipV="1">
            <a:off x="10644120" y="6676560"/>
            <a:ext cx="0" cy="1096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Text Box 25"/>
          <p:cNvSpPr/>
          <p:nvPr/>
        </p:nvSpPr>
        <p:spPr>
          <a:xfrm>
            <a:off x="10745640" y="697824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Text Box 26"/>
          <p:cNvSpPr/>
          <p:nvPr/>
        </p:nvSpPr>
        <p:spPr>
          <a:xfrm>
            <a:off x="9731160" y="697824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Text Box 27"/>
          <p:cNvSpPr/>
          <p:nvPr/>
        </p:nvSpPr>
        <p:spPr>
          <a:xfrm>
            <a:off x="9715320" y="6089400"/>
            <a:ext cx="8290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Fals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Text Box 28"/>
          <p:cNvSpPr/>
          <p:nvPr/>
        </p:nvSpPr>
        <p:spPr>
          <a:xfrm>
            <a:off x="10760760" y="6089400"/>
            <a:ext cx="7970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Tru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Text Box 29"/>
          <p:cNvSpPr/>
          <p:nvPr/>
        </p:nvSpPr>
        <p:spPr>
          <a:xfrm>
            <a:off x="2283840" y="5051520"/>
            <a:ext cx="12405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AND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Text Box 30"/>
          <p:cNvSpPr/>
          <p:nvPr/>
        </p:nvSpPr>
        <p:spPr>
          <a:xfrm>
            <a:off x="6354000" y="5051520"/>
            <a:ext cx="841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OR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Text Box 31"/>
          <p:cNvSpPr/>
          <p:nvPr/>
        </p:nvSpPr>
        <p:spPr>
          <a:xfrm>
            <a:off x="10015920" y="5051520"/>
            <a:ext cx="12132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4000" spc="-1" strike="noStrike">
                <a:solidFill>
                  <a:srgbClr val="ee220c"/>
                </a:solidFill>
                <a:latin typeface="Gill Sans"/>
              </a:rPr>
              <a:t>NOT</a:t>
            </a:r>
            <a:endParaRPr b="1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AutoShape 32"/>
          <p:cNvSpPr/>
          <p:nvPr/>
        </p:nvSpPr>
        <p:spPr>
          <a:xfrm>
            <a:off x="5737320" y="6024600"/>
            <a:ext cx="1046160" cy="530280"/>
          </a:xfrm>
          <a:prstGeom prst="roundRect">
            <a:avLst>
              <a:gd name="adj" fmla="val 35917"/>
            </a:avLst>
          </a:prstGeom>
          <a:noFill/>
          <a:ln w="25560">
            <a:solidFill>
              <a:srgbClr val="ee22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2" name="AutoShape 33"/>
          <p:cNvSpPr/>
          <p:nvPr/>
        </p:nvSpPr>
        <p:spPr>
          <a:xfrm>
            <a:off x="5143680" y="7767720"/>
            <a:ext cx="485640" cy="1073160"/>
          </a:xfrm>
          <a:custGeom>
            <a:avLst/>
            <a:gdLst>
              <a:gd name="textAreaLeft" fmla="*/ 55800 w 485640"/>
              <a:gd name="textAreaRight" fmla="*/ 429840 w 485640"/>
              <a:gd name="textAreaTop" fmla="*/ 55800 h 1073160"/>
              <a:gd name="textAreaBottom" fmla="*/ 1017360 h 1073160"/>
            </a:gdLst>
            <a:ahLst/>
            <a:rect l="textAreaLeft" t="textAreaTop" r="textAreaRight" b="textAreaBottom"/>
            <a:pathLst>
              <a:path w="21600" h="47712">
                <a:moveTo>
                  <a:pt x="8474" y="0"/>
                </a:moveTo>
                <a:arcTo wR="8474" hR="8474" stAng="16200000" swAng="-5400000"/>
                <a:lnTo>
                  <a:pt x="0" y="39238"/>
                </a:lnTo>
                <a:arcTo wR="8474" hR="8474" stAng="10800000" swAng="-5400000"/>
                <a:lnTo>
                  <a:pt x="13126" y="47712"/>
                </a:lnTo>
                <a:arcTo wR="8474" hR="8474" stAng="5400000" swAng="-5400000"/>
                <a:lnTo>
                  <a:pt x="21600" y="8474"/>
                </a:lnTo>
                <a:arcTo wR="8474" hR="8474" stAng="0" swAng="-5400000"/>
                <a:close/>
              </a:path>
            </a:pathLst>
          </a:custGeom>
          <a:noFill/>
          <a:ln w="25560">
            <a:solidFill>
              <a:srgbClr val="9292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Text Box 34"/>
          <p:cNvSpPr/>
          <p:nvPr/>
        </p:nvSpPr>
        <p:spPr>
          <a:xfrm>
            <a:off x="-148320" y="1134000"/>
            <a:ext cx="133002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"/>
              </a:rPr>
              <a:t>Control Flow: 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emember that conditionals and loops </a:t>
            </a:r>
            <a:r>
              <a:rPr b="0" i="1" lang="en-US" sz="2800" spc="-1" strike="noStrike">
                <a:solidFill>
                  <a:srgbClr val="000000"/>
                </a:solidFill>
                <a:latin typeface="Gill Sans"/>
              </a:rPr>
              <a:t>sometim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do something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We'll use bool logic a LOT to control when we do/don't.</a:t>
            </a:r>
            <a:endParaRPr b="1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Today's Outlin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7289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Interpreter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237960" indent="-166680">
              <a:buClr>
                <a:srgbClr val="929292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929292"/>
                </a:solidFill>
                <a:latin typeface="Gill Sans"/>
              </a:rPr>
              <a:t>Notebooks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lvl="4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Operator Precedence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929292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929292"/>
                </a:solidFill>
                <a:latin typeface="Gill Sans"/>
              </a:rPr>
              <a:t>Boolean Logic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23796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3200" spc="-1" strike="noStrike">
                <a:solidFill>
                  <a:srgbClr val="00a2ff"/>
                </a:solidFill>
                <a:latin typeface="Gill Sans"/>
              </a:rPr>
              <a:t>Demo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2616120" y="7238880"/>
            <a:ext cx="1176480" cy="1177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824" y="14256"/>
                </a:moveTo>
                <a:lnTo>
                  <a:pt x="13824" y="21600"/>
                </a:lnTo>
                <a:lnTo>
                  <a:pt x="0" y="10800"/>
                </a:lnTo>
                <a:lnTo>
                  <a:pt x="13824" y="0"/>
                </a:lnTo>
                <a:lnTo>
                  <a:pt x="13824" y="7344"/>
                </a:lnTo>
                <a:lnTo>
                  <a:pt x="21600" y="7344"/>
                </a:lnTo>
                <a:lnTo>
                  <a:pt x="21600" y="14256"/>
                </a:lnTo>
                <a:lnTo>
                  <a:pt x="13824" y="14256"/>
                </a:lnTo>
                <a:close/>
              </a:path>
            </a:pathLst>
          </a:custGeom>
          <a:solidFill>
            <a:srgbClr val="00a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52200" y="1166400"/>
            <a:ext cx="11099880" cy="901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What you need to write/run code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52200" y="2500200"/>
            <a:ext cx="11099880" cy="7290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n interpreter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ee220c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Python 3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not 2!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some </a:t>
            </a:r>
            <a:r>
              <a:rPr b="0" lang="en-US" sz="2800" spc="-1" strike="noStrike">
                <a:solidFill>
                  <a:srgbClr val="ee220c"/>
                </a:solidFill>
                <a:latin typeface="Gill Sans"/>
              </a:rPr>
              <a:t>extra packages</a:t>
            </a: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 (comes with anaconda installation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runs Python code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Jupyter Notebooks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comes with anaconda installation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96720" indent="-27756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acts like both interpreter and editor (type and save Python code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Interpreter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52200" y="1587240"/>
            <a:ext cx="11099880" cy="1771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17520" indent="0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A program that runs a program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marL="317520" indent="-222120">
              <a:buClr>
                <a:srgbClr val="000000"/>
              </a:buClr>
              <a:buSzPct val="145000"/>
              <a:buFont typeface="Gill Sans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"/>
              </a:rPr>
              <a:t>Translates something the human likes (nice Python code) to something the machine likes (ONEs and ZEROs)</a:t>
            </a: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  <a:p>
            <a:pPr marL="317520" indent="0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6320160" y="845172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7481880" y="6555600"/>
            <a:ext cx="350064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interleaved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AutoShape 8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482760" y="4699080"/>
            <a:ext cx="11099520" cy="435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5076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2476080" y="6911280"/>
            <a:ext cx="805140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 Notebook is a file that contains code and other thing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(e.g., documentation, images, tables, etc.)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Jupyter Notebooks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1569960" y="2735280"/>
            <a:ext cx="9863280" cy="542448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6320160" y="1974600"/>
            <a:ext cx="362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8066520" y="764640"/>
            <a:ext cx="443952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tebooks breakup code into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"cells" containing Python cod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AutoShape 5"/>
          <p:cNvSpPr/>
          <p:nvPr/>
        </p:nvSpPr>
        <p:spPr>
          <a:xfrm>
            <a:off x="8264520" y="1550880"/>
            <a:ext cx="1417680" cy="1785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10559" y="18969"/>
                  <a:pt x="17759" y="11769"/>
                  <a:pt x="21600" y="0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6549120" y="6555600"/>
            <a:ext cx="53661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visuals produced by the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de are embedded in the Noteboo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AutoShape 7"/>
          <p:cNvSpPr/>
          <p:nvPr/>
        </p:nvSpPr>
        <p:spPr>
          <a:xfrm>
            <a:off x="6029280" y="5850000"/>
            <a:ext cx="1649520" cy="658800"/>
          </a:xfrm>
          <a:custGeom>
            <a:avLst/>
            <a:gdLst/>
            <a:ahLst/>
            <a:rect l="l" t="t" r="r" b="b"/>
            <a:pathLst>
              <a:path w="21600" h="21115">
                <a:moveTo>
                  <a:pt x="0" y="26"/>
                </a:moveTo>
                <a:cubicBezTo>
                  <a:pt x="11391" y="-485"/>
                  <a:pt x="18591" y="6545"/>
                  <a:pt x="21600" y="21115"/>
                </a:cubicBezTo>
              </a:path>
            </a:pathLst>
          </a:custGeom>
          <a:noFill/>
          <a:ln w="38160">
            <a:solidFill>
              <a:srgbClr val="ee220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960" y="8807040"/>
            <a:ext cx="1234764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2400" spc="-1" strike="noStrike">
                <a:solidFill>
                  <a:srgbClr val="ee220c"/>
                </a:solidFill>
                <a:latin typeface="Gill Sans"/>
              </a:rPr>
              <a:t>.ipynb</a:t>
            </a: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 (Interactive Python Notebook) files are not easy to open in a regular text editor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1" name="Text Box 2"/>
          <p:cNvSpPr/>
          <p:nvPr/>
        </p:nvSpPr>
        <p:spPr>
          <a:xfrm>
            <a:off x="653400" y="146592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316520" y="221832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1120680" y="350676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659960" y="397116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4730400" y="1526400"/>
            <a:ext cx="30420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Quick syntax check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2200" y="254160"/>
            <a:ext cx="11099880" cy="901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  <a:ea typeface="Gill Sans"/>
              </a:rPr>
              <a:t>3 ways we'll run Python</a:t>
            </a:r>
            <a:endParaRPr b="0" lang="en-US" sz="4800" spc="-1" strike="noStrike">
              <a:solidFill>
                <a:srgbClr val="000000"/>
              </a:solidFill>
              <a:latin typeface="Gill Sans SemiBold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91560" y="1404000"/>
            <a:ext cx="3776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1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interactive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354320" y="2156400"/>
            <a:ext cx="73764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Python 3.9.7 (default, Sep 16 2021, 16:59:28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[Clang 10.0.0 ] :: Anaconda, Inc. on darwin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Type "help", "copyright", "credits" or "license" for more information.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&gt;&gt;&gt;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1 + 1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87320" y="4569480"/>
            <a:ext cx="2822760" cy="5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2. </a:t>
            </a:r>
            <a:r>
              <a:rPr b="0" lang="en-US" sz="3200" spc="-1" strike="noStrike">
                <a:solidFill>
                  <a:srgbClr val="00a2ff"/>
                </a:solidFill>
                <a:latin typeface="Gill Sans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mode</a:t>
            </a:r>
            <a:endParaRPr b="1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143800" y="5501520"/>
            <a:ext cx="2752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5680"/>
                <a:tab algn="l" pos="7113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280040"/>
                <a:tab algn="l" pos="4292640"/>
                <a:tab algn="l" pos="4305240"/>
                <a:tab algn="l" pos="4317840"/>
                <a:tab algn="l" pos="4330800"/>
                <a:tab algn="l" pos="4343400"/>
                <a:tab algn="l" pos="4356000"/>
                <a:tab algn="l" pos="4368960"/>
                <a:tab algn="l" pos="4381560"/>
                <a:tab algn="l" pos="4394160"/>
                <a:tab algn="l" pos="4406760"/>
                <a:tab algn="l" pos="4419720"/>
                <a:tab algn="l" pos="4432320"/>
                <a:tab algn="l" pos="4444920"/>
                <a:tab algn="l" pos="4457880"/>
                <a:tab algn="l" pos="4470480"/>
                <a:tab algn="l" pos="4483080"/>
                <a:tab algn="l" pos="4495680"/>
                <a:tab algn="l" pos="4508640"/>
                <a:tab algn="l" pos="4521240"/>
              </a:tabLst>
            </a:pPr>
            <a:r>
              <a:rPr b="0" lang="en-US" sz="1800" spc="-1" strike="noStrike">
                <a:solidFill>
                  <a:srgbClr val="ee220c"/>
                </a:solidFill>
                <a:latin typeface="Menlo"/>
              </a:rPr>
              <a:t>ty-mac:~$</a:t>
            </a:r>
            <a:r>
              <a:rPr b="0" lang="en-US" sz="1800" spc="-1" strike="noStrike">
                <a:solidFill>
                  <a:srgbClr val="000000"/>
                </a:solidFill>
                <a:latin typeface="Menlo"/>
              </a:rPr>
              <a:t> python </a:t>
            </a:r>
            <a:r>
              <a:rPr b="0" lang="en-US" sz="1800" spc="-1" strike="noStrike">
                <a:solidFill>
                  <a:srgbClr val="1db100"/>
                </a:solidFill>
                <a:latin typeface="Menlo"/>
              </a:rPr>
              <a:t>test.py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AutoShape 6"/>
          <p:cNvSpPr/>
          <p:nvPr/>
        </p:nvSpPr>
        <p:spPr>
          <a:xfrm>
            <a:off x="1158840" y="3444840"/>
            <a:ext cx="558720" cy="685800"/>
          </a:xfrm>
          <a:custGeom>
            <a:avLst/>
            <a:gdLst/>
            <a:ahLst/>
            <a:rect l="l" t="t" r="r" b="b"/>
            <a:pathLst>
              <a:path w="16206" h="21600">
                <a:moveTo>
                  <a:pt x="14963" y="21600"/>
                </a:moveTo>
                <a:cubicBezTo>
                  <a:pt x="-5394" y="12986"/>
                  <a:pt x="-4980" y="5786"/>
                  <a:pt x="16206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1697760" y="3909240"/>
            <a:ext cx="525168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riple arrows mean Python code runs as you type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3692520" y="5176800"/>
            <a:ext cx="1149480" cy="355680"/>
          </a:xfrm>
          <a:custGeom>
            <a:avLst/>
            <a:gdLst/>
            <a:ahLst/>
            <a:rect l="l" t="t" r="r" b="b"/>
            <a:pathLst>
              <a:path w="21600" h="20825">
                <a:moveTo>
                  <a:pt x="21600" y="68"/>
                </a:moveTo>
                <a:cubicBezTo>
                  <a:pt x="7978" y="-775"/>
                  <a:pt x="778" y="6144"/>
                  <a:pt x="0" y="20825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66600" y="4992120"/>
            <a:ext cx="51465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interpreter program is named "python"; run it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AutoShape 10"/>
          <p:cNvSpPr/>
          <p:nvPr/>
        </p:nvSpPr>
        <p:spPr>
          <a:xfrm>
            <a:off x="4842000" y="5994360"/>
            <a:ext cx="807840" cy="344520"/>
          </a:xfrm>
          <a:custGeom>
            <a:avLst/>
            <a:gdLst/>
            <a:ahLst/>
            <a:rect l="l" t="t" r="r" b="b"/>
            <a:pathLst>
              <a:path w="21600" h="19540">
                <a:moveTo>
                  <a:pt x="21600" y="18955"/>
                </a:moveTo>
                <a:cubicBezTo>
                  <a:pt x="12483" y="21600"/>
                  <a:pt x="5283" y="1528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5411880" y="6134400"/>
            <a:ext cx="605340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the name of the file containing your code (called a "script")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Gill Sans"/>
              </a:rPr>
              <a:t>is passed as an argument to the python program</a:t>
            </a:r>
            <a:endParaRPr b="1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4596840" y="4578480"/>
            <a:ext cx="3439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0760" rIns="50760" tIns="50760" bIns="50760" anchor="ctr">
            <a:spAutoFit/>
          </a:bodyPr>
          <a:p>
            <a:pPr algn="ctr"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1" lang="en-US" sz="2400" spc="-1" strike="noStrike">
                <a:solidFill>
                  <a:srgbClr val="ee220c"/>
                </a:solidFill>
                <a:latin typeface="Gill Sans"/>
              </a:rPr>
              <a:t>Run auto-grader tests</a:t>
            </a:r>
            <a:endParaRPr b="1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urmail Singh</cp:lastModifiedBy>
  <dcterms:modified xsi:type="dcterms:W3CDTF">2023-01-30T07:55:29Z</dcterms:modified>
  <cp:revision>61</cp:revision>
  <dc:subject/>
  <dc:title>[220] Programming</dc:title>
</cp:coreProperties>
</file>