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8186F-D7F6-4CF8-B026-4840861EA2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8EC2F-DF1B-47CA-988E-9FF30F939C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25A80-846A-439F-96E8-2DB5B960ED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FCDE6-433B-4F22-904E-9A76CE6832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757E1-4AB6-4DF6-A82F-9B7AC09F4D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BC7FA-FC2C-46BE-9A75-579CB2DED4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57BE1-41F0-464E-88FD-3E6AC0FAA7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66D11-1423-4163-A9CB-1D5DFC8C38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FC0B8-D5F0-4CC1-B901-5EF481BB6B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C07B2-880D-4AB9-8A2E-7CA867E8A6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2E874-DE98-45BF-B17D-DB3E1E4C16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70DCB-AB7A-46F2-BFDD-413FCD84F0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49CDB49-0F66-4B86-9F6A-C5EA5F00226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7654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Using Funct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7280" y="778788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1 to 5.4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0589400" y="8244720"/>
            <a:ext cx="20638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Quiz1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3936960" y="3803760"/>
            <a:ext cx="195588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7316640" y="4756320"/>
            <a:ext cx="48132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5854680" y="3727440"/>
            <a:ext cx="290520" cy="1270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8624880" y="3727440"/>
            <a:ext cx="480960" cy="1270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7658280" y="4756320"/>
            <a:ext cx="29016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8332920" y="4756320"/>
            <a:ext cx="29196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</a:t>
            </a: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“hello”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</a:t>
            </a: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x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6" name="AutoShape 2"/>
          <p:cNvSpPr/>
          <p:nvPr/>
        </p:nvSpPr>
        <p:spPr>
          <a:xfrm>
            <a:off x="7394400" y="2328840"/>
            <a:ext cx="1271880" cy="1276200"/>
          </a:xfrm>
          <a:custGeom>
            <a:avLst/>
            <a:gdLst/>
            <a:ahLst/>
            <a:rect l="l" t="t" r="r" b="b"/>
            <a:pathLst>
              <a:path w="21124" h="20638">
                <a:moveTo>
                  <a:pt x="25" y="20638"/>
                </a:moveTo>
                <a:cubicBezTo>
                  <a:pt x="-476" y="5881"/>
                  <a:pt x="6557" y="-962"/>
                  <a:pt x="21124" y="108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723160" y="2082600"/>
            <a:ext cx="1780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result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AutoShape 2"/>
          <p:cNvSpPr/>
          <p:nvPr/>
        </p:nvSpPr>
        <p:spPr>
          <a:xfrm>
            <a:off x="5630760" y="5865840"/>
            <a:ext cx="1006560" cy="636480"/>
          </a:xfrm>
          <a:custGeom>
            <a:avLst/>
            <a:gdLst/>
            <a:ahLst/>
            <a:rect l="l" t="t" r="r" b="b"/>
            <a:pathLst>
              <a:path w="20156" h="21600">
                <a:moveTo>
                  <a:pt x="261" y="0"/>
                </a:moveTo>
                <a:cubicBezTo>
                  <a:pt x="-1444" y="11986"/>
                  <a:pt x="5188" y="19186"/>
                  <a:pt x="20156" y="2160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6720120" y="6248160"/>
            <a:ext cx="2001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return val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689280" y="8623800"/>
            <a:ext cx="4688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oducing a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71800" y="3127320"/>
            <a:ext cx="9285120" cy="302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, “world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x = input(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3689280" y="8623800"/>
            <a:ext cx="4688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ducing a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759120" y="3975120"/>
            <a:ext cx="556272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otebook examp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409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How to call funct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put/outpu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erminology: call / invoke, parameter, argument, keyword argument, return val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rol flo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unction usage examp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put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int(), along with keyword arguments “end” and “sep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ype cast functions: int(), bool(), float(), str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sing functions from built-in modu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ound(), abs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eywords: import, fro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ttribute operator: “.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elp: inspect a modu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1003320" y="3149640"/>
            <a:ext cx="9529920" cy="201780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736680" y="4641480"/>
            <a:ext cx="3543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Move Code” is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7318440" y="2842920"/>
            <a:ext cx="55911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we’ll also learn how to ask function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questions and get answers called return value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7318440" y="2842920"/>
            <a:ext cx="55911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we’ll also learn how to ask function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questions and get answers called return value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1257480" y="3492360"/>
            <a:ext cx="9293040" cy="161928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1577880" y="532368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next lecture, we’ll learn how to write our own new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0"/>
          <p:cNvSpPr/>
          <p:nvPr/>
        </p:nvSpPr>
        <p:spPr>
          <a:xfrm>
            <a:off x="952560" y="2438280"/>
            <a:ext cx="10807560" cy="39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function definition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grouping of lines of code; a way for us to tell our program to run that entire group of cod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call / invoke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statement in Python code that instructs the program to run all the lines of code in a function definition, and then come back afterward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parameter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variable that receives input to function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argume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value sent to a function (lines up with paramete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keyword argume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argument explicitly tied to a paramet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return valu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function output sent back to calling cod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87120" y="91404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erminology / Vocabul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3911760" y="768600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next lecture, we’ll learn how to write our own new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4:31Z</dcterms:modified>
  <cp:revision>31</cp:revision>
  <dc:subject/>
  <dc:title>[301] Using Functions</dc:title>
</cp:coreProperties>
</file>