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58C92-D645-44A4-B749-F6B656D6A1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79CDD-983C-4098-85BE-22D62188DC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FBB0C-4763-488D-B0D5-0D109F7442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08A94-7C24-4A62-B9F3-48E05A942D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A87E9-9EDE-4EF5-82B2-80ECECA8A2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7C8D5-8E32-4019-9607-C3C543E1BB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0FC9B-6E22-4462-9960-20EA8CF67C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19B9C-C4BE-42DB-BF1F-9DB05CBAD5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C78EC-F99A-4A0B-8F37-D055BE11C7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CE78F-7CDD-4E50-8DFD-F29ED2E209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5FEAA-5D99-4892-85B1-415E4828EE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9A708-B9FE-4B63-B21F-665BD4231A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C34C97F-F01B-486A-811F-556037872F2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638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[220 / 319] Operator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549440" y="4940280"/>
            <a:ext cx="1046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1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2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618400" y="7866000"/>
            <a:ext cx="4183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Additional 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omputer terminolog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710640" y="150264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373400" y="225504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16760" y="6347520"/>
            <a:ext cx="39322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noteboo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"mode"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109240" y="7279560"/>
            <a:ext cx="3064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jupyter notebook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1177920" y="354348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716840" y="400788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5504040" y="5864400"/>
            <a:ext cx="807840" cy="34416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370560" y="597384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4373640" y="7751880"/>
            <a:ext cx="668160" cy="426960"/>
          </a:xfrm>
          <a:custGeom>
            <a:avLst/>
            <a:gdLst/>
            <a:ahLst/>
            <a:rect l="l" t="t" r="r" b="b"/>
            <a:pathLst>
              <a:path w="21600" h="21574">
                <a:moveTo>
                  <a:pt x="21600" y="21574"/>
                </a:moveTo>
                <a:cubicBezTo>
                  <a:pt x="11232" y="21600"/>
                  <a:pt x="4032" y="14409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136840" y="7963920"/>
            <a:ext cx="3177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open Jupyter in a web browser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907720" y="8769240"/>
            <a:ext cx="7187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e'll do most work in notebooks this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616120" y="320040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5326200" y="4056120"/>
            <a:ext cx="117612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Break ties 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2 * 2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75708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 Python code using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and l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Jupyter Noteboo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umeric expressions containing mathematical operators (e.g., “+” and “-“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ing expressions containing string operators and escape charac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havior of the /, //, and % operato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cognize examples of different Python data 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, boo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ressions containing comparison operators (e.g., “==” and “&gt;”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oolean expressions containing the operators “and”, “or”, “not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ixed expressions using the correct order of operations (preceden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1" name="Text Box 68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69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70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71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7" name="Text Box 68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Line 69"/>
          <p:cNvSpPr/>
          <p:nvPr/>
        </p:nvSpPr>
        <p:spPr>
          <a:xfrm>
            <a:off x="2027160" y="578340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Line 70"/>
          <p:cNvSpPr/>
          <p:nvPr/>
        </p:nvSpPr>
        <p:spPr>
          <a:xfrm>
            <a:off x="2027160" y="507348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Text Box 71"/>
          <p:cNvSpPr/>
          <p:nvPr/>
        </p:nvSpPr>
        <p:spPr>
          <a:xfrm rot="16200000">
            <a:off x="1613880" y="3222720"/>
            <a:ext cx="2229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athemati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72"/>
          <p:cNvSpPr/>
          <p:nvPr/>
        </p:nvSpPr>
        <p:spPr>
          <a:xfrm rot="16200000">
            <a:off x="2275560" y="660132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gi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73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4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75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2540160" y="5232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3835440" y="62485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3683160" y="18288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4"/>
          <p:cNvSpPr/>
          <p:nvPr/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Line 4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2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13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5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6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Text Box 23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Text Box 24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76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33"/>
          <p:cNvSpPr/>
          <p:nvPr/>
        </p:nvSpPr>
        <p:spPr>
          <a:xfrm>
            <a:off x="681120" y="3270240"/>
            <a:ext cx="4836960" cy="3556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AutoShape 34"/>
          <p:cNvSpPr/>
          <p:nvPr/>
        </p:nvSpPr>
        <p:spPr>
          <a:xfrm>
            <a:off x="2895480" y="6032520"/>
            <a:ext cx="1047960" cy="53172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35"/>
          <p:cNvSpPr/>
          <p:nvPr/>
        </p:nvSpPr>
        <p:spPr>
          <a:xfrm>
            <a:off x="1473120" y="2838600"/>
            <a:ext cx="2297160" cy="37440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AutoShape 36"/>
          <p:cNvSpPr/>
          <p:nvPr/>
        </p:nvSpPr>
        <p:spPr>
          <a:xfrm>
            <a:off x="1235160" y="659448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32"/>
          <p:cNvSpPr/>
          <p:nvPr/>
        </p:nvSpPr>
        <p:spPr>
          <a:xfrm>
            <a:off x="3770280" y="3665520"/>
            <a:ext cx="1808280" cy="3316320"/>
          </a:xfrm>
          <a:custGeom>
            <a:avLst/>
            <a:gdLst/>
            <a:ahLst/>
            <a:rect l="l" t="t" r="r" b="b"/>
            <a:pathLst>
              <a:path w="16574" h="21600">
                <a:moveTo>
                  <a:pt x="0" y="21600"/>
                </a:moveTo>
                <a:cubicBezTo>
                  <a:pt x="18780" y="12372"/>
                  <a:pt x="21600" y="5172"/>
                  <a:pt x="8461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2533680" y="1923840"/>
            <a:ext cx="1077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ALS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AutoShape 33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AutoShape 33"/>
          <p:cNvSpPr/>
          <p:nvPr/>
        </p:nvSpPr>
        <p:spPr>
          <a:xfrm>
            <a:off x="6135840" y="3429000"/>
            <a:ext cx="2195280" cy="378000"/>
          </a:xfrm>
          <a:prstGeom prst="roundRect">
            <a:avLst>
              <a:gd name="adj" fmla="val 41486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34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35"/>
          <p:cNvSpPr/>
          <p:nvPr/>
        </p:nvSpPr>
        <p:spPr>
          <a:xfrm>
            <a:off x="4357800" y="3013200"/>
            <a:ext cx="5033880" cy="36324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36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AutoShape 37"/>
          <p:cNvSpPr/>
          <p:nvPr/>
        </p:nvSpPr>
        <p:spPr>
          <a:xfrm>
            <a:off x="4357800" y="3633840"/>
            <a:ext cx="1496880" cy="4427640"/>
          </a:xfrm>
          <a:custGeom>
            <a:avLst/>
            <a:gdLst/>
            <a:ahLst/>
            <a:rect l="l" t="t" r="r" b="b"/>
            <a:pathLst>
              <a:path w="16596" h="21600">
                <a:moveTo>
                  <a:pt x="16596" y="21600"/>
                </a:moveTo>
                <a:cubicBezTo>
                  <a:pt x="-2113" y="11985"/>
                  <a:pt x="-5004" y="4785"/>
                  <a:pt x="7922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6268320" y="1873080"/>
            <a:ext cx="96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AutoShape 39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AutoShape 32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AutoShape 33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Text Box 34"/>
          <p:cNvSpPr/>
          <p:nvPr/>
        </p:nvSpPr>
        <p:spPr>
          <a:xfrm>
            <a:off x="-148320" y="1134000"/>
            <a:ext cx="133002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Control Flow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member that conditionals and loop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ometim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o something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'll use bool logic a LOT to control when we do/don't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2616120" y="72388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2200" y="11664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hat you need to write/run cod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52200" y="2500200"/>
            <a:ext cx="11099880" cy="729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interpret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ython 3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not 2!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tra packag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comes with anaconda installa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s Python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Jupyter Noteboo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es with anaconda instal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cts like both interpreter and editor (type and save Python cod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Interpre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177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program that runs a progra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lates something the human likes (nice Python code) to something the machine likes (ONEs and ZERO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320160" y="845172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481880" y="6555600"/>
            <a:ext cx="3500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interleav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82760" y="4699080"/>
            <a:ext cx="11099520" cy="43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476080" y="6911280"/>
            <a:ext cx="8051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Notebook is a file that contains code and other thing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e.g., documentation, images, tables, etc.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549120" y="6555600"/>
            <a:ext cx="5366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embedded in the Noteboo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27960" y="8807040"/>
            <a:ext cx="12347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.ipynb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Interactive Python Notebook) files are not easy to open in a regular text edi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653400" y="146592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316520" y="221832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120680" y="350676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659960" y="397116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4730400" y="1526400"/>
            <a:ext cx="304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Quick syntax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91560" y="140400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354320" y="215640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158840" y="344484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697760" y="390924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842000" y="5994360"/>
            <a:ext cx="807840" cy="34452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411880" y="613440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596840" y="4578480"/>
            <a:ext cx="3439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un auto-grader tes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rmail Singh</cp:lastModifiedBy>
  <dcterms:modified xsi:type="dcterms:W3CDTF">2023-01-30T07:55:29Z</dcterms:modified>
  <cp:revision>61</cp:revision>
  <dc:subject/>
  <dc:title>[220] Programming</dc:title>
</cp:coreProperties>
</file>